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69560" cy="68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57640" y="3479760"/>
            <a:ext cx="557280" cy="560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5760" y="173160"/>
            <a:ext cx="210960" cy="21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170920" y="6578640"/>
            <a:ext cx="5778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40AD-D4E5-4FBE-9D6E-895EEBB9C296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477120"/>
            <a:ext cx="845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7509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2565360"/>
            <a:ext cx="70866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0015"/>
                </a:solidFill>
                <a:latin typeface="Times New Roman"/>
              </a:rPr>
              <a:t>Analyse Fonctionne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79640" y="549360"/>
            <a:ext cx="611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-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060640"/>
            <a:ext cx="81230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100000"/>
              </a:lnSpc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E FONCTIONNELLE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herche des fonctions nécessaires à la réalisation d’une fonction de base ou de s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NCTION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nctions seconda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nctions contrai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nctions de conce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18960" y="1923840"/>
            <a:ext cx="7467480" cy="35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240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P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328680">
              <a:lnSpc>
                <a:spcPct val="90000"/>
              </a:lnSpc>
              <a:spcBef>
                <a:spcPts val="2001"/>
              </a:spcBef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veloppée par le cabinet APTE entre 1963 et 19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spcBef>
                <a:spcPts val="240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AD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328680">
              <a:lnSpc>
                <a:spcPct val="90000"/>
              </a:lnSpc>
              <a:spcBef>
                <a:spcPts val="2001"/>
              </a:spcBef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gnifie :  Structured Analysis Design Tech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spcBef>
                <a:spcPts val="240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ELIASE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5013360"/>
            <a:ext cx="78613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9880" indent="-3809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existe d'autres méthodes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RT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, GRAFCET, MERISE, OMT, UML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76500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Méthodes présen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42920" y="76500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Application des méth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03360" y="1773360"/>
            <a:ext cx="8444880" cy="1746000"/>
            <a:chOff x="603360" y="1773360"/>
            <a:chExt cx="8444880" cy="1746000"/>
          </a:xfrm>
        </p:grpSpPr>
        <p:sp>
          <p:nvSpPr>
            <p:cNvPr id="180" name=""/>
            <p:cNvSpPr/>
            <p:nvPr/>
          </p:nvSpPr>
          <p:spPr>
            <a:xfrm>
              <a:off x="603360" y="1828800"/>
              <a:ext cx="1926720" cy="1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pplication (domain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43040" y="1773360"/>
              <a:ext cx="918720" cy="2095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P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3360" y="1992240"/>
              <a:ext cx="1926720" cy="2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ystème compl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43040" y="1992240"/>
              <a:ext cx="918720" cy="2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74720" y="1992240"/>
              <a:ext cx="917280" cy="2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04960" y="1992240"/>
              <a:ext cx="917280" cy="2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0" y="1992240"/>
              <a:ext cx="919080" cy="2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67240" y="1992240"/>
              <a:ext cx="918720" cy="2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32400" y="1992240"/>
              <a:ext cx="915840" cy="2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98920" y="1992240"/>
              <a:ext cx="919080" cy="2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3360" y="2211480"/>
              <a:ext cx="192672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ystème de prod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43040" y="2211480"/>
              <a:ext cx="91872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74720" y="2211480"/>
              <a:ext cx="9172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04960" y="2211480"/>
              <a:ext cx="9172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5200" y="2211480"/>
              <a:ext cx="9190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67240" y="2211480"/>
              <a:ext cx="91872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32400" y="2211480"/>
              <a:ext cx="91584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98920" y="2211480"/>
              <a:ext cx="9190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3360" y="2432160"/>
              <a:ext cx="192672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ystème d'infor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43040" y="2432160"/>
              <a:ext cx="91872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74720" y="2432160"/>
              <a:ext cx="9172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04960" y="2432160"/>
              <a:ext cx="9172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35200" y="2432160"/>
              <a:ext cx="9190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67240" y="2432160"/>
              <a:ext cx="91872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32400" y="2432160"/>
              <a:ext cx="91584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98920" y="2432160"/>
              <a:ext cx="9190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3360" y="2651040"/>
              <a:ext cx="192672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ystème matéri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43040" y="2651040"/>
              <a:ext cx="91872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4720" y="2651040"/>
              <a:ext cx="9172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04960" y="2651040"/>
              <a:ext cx="9172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5200" y="2651040"/>
              <a:ext cx="9190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67240" y="2651040"/>
              <a:ext cx="91872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32400" y="2651040"/>
              <a:ext cx="91584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98920" y="2651040"/>
              <a:ext cx="9190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3360" y="2871720"/>
              <a:ext cx="192672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terface homme/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43040" y="2871720"/>
              <a:ext cx="91872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74720" y="2871720"/>
              <a:ext cx="9172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04960" y="2871720"/>
              <a:ext cx="9172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35200" y="2871720"/>
              <a:ext cx="9190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67240" y="2871720"/>
              <a:ext cx="91872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32400" y="2871720"/>
              <a:ext cx="91584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98920" y="2871720"/>
              <a:ext cx="9190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3360" y="3089160"/>
              <a:ext cx="192672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utomatis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43040" y="3089160"/>
              <a:ext cx="91872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74720" y="3089160"/>
              <a:ext cx="9172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04960" y="3089160"/>
              <a:ext cx="9172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35200" y="3089160"/>
              <a:ext cx="9190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67240" y="3089160"/>
              <a:ext cx="91872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32400" y="3089160"/>
              <a:ext cx="91584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98920" y="3089160"/>
              <a:ext cx="9190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3360" y="3309840"/>
              <a:ext cx="192672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rganis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43040" y="3309840"/>
              <a:ext cx="91872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74720" y="3309840"/>
              <a:ext cx="9172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4960" y="3309840"/>
              <a:ext cx="9172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35200" y="3309840"/>
              <a:ext cx="9190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67240" y="3309840"/>
              <a:ext cx="91872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32400" y="3309840"/>
              <a:ext cx="91584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98920" y="3309840"/>
              <a:ext cx="919080" cy="20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74720" y="1773360"/>
              <a:ext cx="917280" cy="2095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LIAS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04960" y="1773360"/>
              <a:ext cx="917280" cy="2095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A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35200" y="1773360"/>
              <a:ext cx="919080" cy="2095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AD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67240" y="1773360"/>
              <a:ext cx="918720" cy="2095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A/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98920" y="1773360"/>
              <a:ext cx="919080" cy="2095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RAFC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32400" y="1773360"/>
              <a:ext cx="915840" cy="2095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ERI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03360" y="3754440"/>
            <a:ext cx="8444880" cy="1816200"/>
            <a:chOff x="603360" y="3754440"/>
            <a:chExt cx="8444880" cy="1816200"/>
          </a:xfrm>
        </p:grpSpPr>
        <p:sp>
          <p:nvSpPr>
            <p:cNvPr id="245" name=""/>
            <p:cNvSpPr/>
            <p:nvPr/>
          </p:nvSpPr>
          <p:spPr>
            <a:xfrm>
              <a:off x="603360" y="3976560"/>
              <a:ext cx="1925280" cy="2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acilité d'apprentiss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43040" y="3976560"/>
              <a:ext cx="918720" cy="2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74720" y="3976560"/>
              <a:ext cx="917280" cy="2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04960" y="3976560"/>
              <a:ext cx="917280" cy="2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35200" y="3976560"/>
              <a:ext cx="919080" cy="2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67240" y="3976560"/>
              <a:ext cx="918720" cy="2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00720" y="3976560"/>
              <a:ext cx="915480" cy="2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30960" y="3976560"/>
              <a:ext cx="917280" cy="2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3360" y="4197240"/>
              <a:ext cx="192528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acilité d'utilis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43040" y="4197240"/>
              <a:ext cx="91872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74720" y="4197240"/>
              <a:ext cx="91728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04960" y="4197240"/>
              <a:ext cx="91728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35200" y="4197240"/>
              <a:ext cx="91908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67240" y="4197240"/>
              <a:ext cx="91872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00720" y="4197240"/>
              <a:ext cx="91548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130960" y="4197240"/>
              <a:ext cx="91728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3360" y="4419720"/>
              <a:ext cx="192528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ide logici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43040" y="4419720"/>
              <a:ext cx="91872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74720" y="4419720"/>
              <a:ext cx="91728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04960" y="4419720"/>
              <a:ext cx="91728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35200" y="4419720"/>
              <a:ext cx="91908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67240" y="4419720"/>
              <a:ext cx="91872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00720" y="4419720"/>
              <a:ext cx="91548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30960" y="4419720"/>
              <a:ext cx="91728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3360" y="4638600"/>
              <a:ext cx="192528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mpréhension résulta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43040" y="4638600"/>
              <a:ext cx="91872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74720" y="4638600"/>
              <a:ext cx="91728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04960" y="4638600"/>
              <a:ext cx="91728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35200" y="4638600"/>
              <a:ext cx="91908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67240" y="4638600"/>
              <a:ext cx="91872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00720" y="4638600"/>
              <a:ext cx="91548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30960" y="4638600"/>
              <a:ext cx="91728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3360" y="4861080"/>
              <a:ext cx="192528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tégration autres étu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43040" y="4861080"/>
              <a:ext cx="91872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74720" y="4861080"/>
              <a:ext cx="91728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04960" y="4861080"/>
              <a:ext cx="91728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0" y="4861080"/>
              <a:ext cx="91908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67240" y="4861080"/>
              <a:ext cx="91872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00720" y="4861080"/>
              <a:ext cx="91548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30960" y="4861080"/>
              <a:ext cx="91728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3360" y="5137200"/>
              <a:ext cx="192528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amil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43040" y="5137200"/>
              <a:ext cx="91872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74720" y="5137200"/>
              <a:ext cx="91728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E/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04960" y="5137200"/>
              <a:ext cx="91728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35200" y="5137200"/>
              <a:ext cx="91908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67240" y="5137200"/>
              <a:ext cx="91872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E/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00720" y="5137200"/>
              <a:ext cx="91548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30960" y="5137200"/>
              <a:ext cx="917280" cy="2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3360" y="5357880"/>
              <a:ext cx="192528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43040" y="5357880"/>
              <a:ext cx="91872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FE/AF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74720" y="5357880"/>
              <a:ext cx="91728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FE/AF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04960" y="5357880"/>
              <a:ext cx="91728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F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5200" y="5357880"/>
              <a:ext cx="91908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F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67240" y="5357880"/>
              <a:ext cx="91872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FI/A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00720" y="5357880"/>
              <a:ext cx="91548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F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30960" y="5357880"/>
              <a:ext cx="91728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F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3360" y="3809880"/>
              <a:ext cx="1925280" cy="15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ppréciation (critère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43040" y="3754440"/>
              <a:ext cx="918720" cy="2127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P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74720" y="3754440"/>
              <a:ext cx="917280" cy="2127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LIAS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04960" y="3754440"/>
              <a:ext cx="917280" cy="2127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A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5200" y="3754440"/>
              <a:ext cx="919080" cy="2127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AD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67240" y="3754440"/>
              <a:ext cx="918720" cy="2127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A/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00720" y="3754440"/>
              <a:ext cx="915480" cy="2127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RAFC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30960" y="3754440"/>
              <a:ext cx="917280" cy="2127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ERI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203120" y="5983200"/>
            <a:ext cx="39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96640" y="5602320"/>
            <a:ext cx="39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352240" y="5602320"/>
            <a:ext cx="39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55520" y="567072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85000" y="567072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88280" y="5670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88280" y="582300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84640" y="5823000"/>
            <a:ext cx="251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89760" y="6073920"/>
            <a:ext cx="340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84360" y="5692680"/>
            <a:ext cx="508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oy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39240" y="5692680"/>
            <a:ext cx="619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auv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223880" y="5692680"/>
            <a:ext cx="147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ilieux Environ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89200" y="5692680"/>
            <a:ext cx="839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Times New Roman"/>
              </a:rPr>
              <a:t>Evén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288480" y="5845320"/>
            <a:ext cx="730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vari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939800" y="5692680"/>
            <a:ext cx="819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F Exte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939080" y="5845320"/>
            <a:ext cx="785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F Inte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042920" y="76500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AP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hode permettant de recenser les fonctions de service (ou de base) d’un produit en part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son environne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son cycle de v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roduit interagit avec son environnement auquel il doit être adap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recensement des interactions met en évidenc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47680">
              <a:lnSpc>
                <a:spcPct val="100000"/>
              </a:lnSpc>
              <a:spcBef>
                <a:spcPts val="451"/>
              </a:spcBef>
              <a:buClr>
                <a:srgbClr val="9900cc"/>
              </a:buClr>
              <a:buFont typeface="Monotype Sorts" charset="2"/>
              <a:buChar char="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fonctions princip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recensement des adaptations met en évidenc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47680">
              <a:lnSpc>
                <a:spcPct val="100000"/>
              </a:lnSpc>
              <a:spcBef>
                <a:spcPts val="451"/>
              </a:spcBef>
              <a:buClr>
                <a:srgbClr val="9900cc"/>
              </a:buClr>
              <a:buFont typeface="Monotype Sorts" charset="2"/>
              <a:buChar char="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fonctions contraintes.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6600"/>
              </a:buClr>
              <a:buFont typeface="Monotype Sorts" charset="2"/>
              <a:buChar char="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762120" y="2182680"/>
            <a:ext cx="746748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tisfaction du besoin - Contrôle de valid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ensement et validation des positions du cycle de v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ensement et validation des éléments du milieu extéri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herche et validation des fonctions princip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herche et validation des fonctions contrai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ensement des fonctions de service par position du cycle de v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1628640"/>
            <a:ext cx="6870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cessus d’élaboration - AF 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42920" y="76500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AP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209680" y="144792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tisfaction du bes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BETE A CORNES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72080" y="3929040"/>
            <a:ext cx="1587240" cy="1587600"/>
          </a:xfrm>
          <a:prstGeom prst="ellipse">
            <a:avLst/>
          </a:prstGeom>
          <a:gradFill rotWithShape="0">
            <a:gsLst>
              <a:gs pos="0">
                <a:srgbClr val="a1b5ff"/>
              </a:gs>
              <a:gs pos="100000">
                <a:srgbClr val="4f59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E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151080" y="2770200"/>
            <a:ext cx="3047760" cy="138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4" y="10452"/>
                </a:moveTo>
                <a:arcTo wR="10800" hR="10800" stAng="-110717" swAng="10910717"/>
                <a:lnTo>
                  <a:pt x="10800" y="10800"/>
                </a:lnTo>
                <a:close/>
              </a:path>
              <a:path fill="none" w="21600" h="21600">
                <a:moveTo>
                  <a:pt x="21594" y="10452"/>
                </a:moveTo>
                <a:arcTo wR="10800" hR="10800" stAng="-110717" swAng="10910717"/>
              </a:path>
            </a:pathLst>
          </a:custGeom>
          <a:noFill/>
          <a:ln cap="rnd"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00200" y="2328840"/>
            <a:ext cx="2044800" cy="19684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1. A QU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A qui le systè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rend-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servic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2328840"/>
            <a:ext cx="2044800" cy="19684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2. SUR QU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Sur qui 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quoi agit-il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46360" y="5797440"/>
            <a:ext cx="32529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3. POURQUOI CETTE ACTION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4. CONTRÔLE DE VALI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22480" y="4015800"/>
            <a:ext cx="1981080" cy="320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36"/>
                </a:moveTo>
                <a:arcTo wR="10800" hR="10800" stAng="-10779537" swAng="4798519"/>
                <a:lnTo>
                  <a:pt x="10800" y="10800"/>
                </a:lnTo>
                <a:close/>
              </a:path>
              <a:path fill="none" w="21600" h="21600">
                <a:moveTo>
                  <a:pt x="0" y="10736"/>
                </a:moveTo>
                <a:arcTo wR="10800" hR="10800" stAng="-10779537" swAng="4798519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42920" y="76500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AP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042920" y="76500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AP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013120"/>
            <a:ext cx="74804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rôle de val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2730600"/>
            <a:ext cx="769644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rquoi ce beso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’est-ce qui pourrait le faire disparaîtr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lle est la probabilité pour que se produise chaque motif de dispari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71640" y="40464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AP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120" y="1268280"/>
            <a:ext cx="74800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malisme des fo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97040" y="4819680"/>
            <a:ext cx="901800" cy="29196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035680" y="4819680"/>
            <a:ext cx="901440" cy="29196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4432320"/>
            <a:ext cx="749160" cy="520560"/>
          </a:xfrm>
          <a:prstGeom prst="ellipse">
            <a:avLst/>
          </a:prstGeom>
          <a:gradFill rotWithShape="0">
            <a:gsLst>
              <a:gs pos="0">
                <a:srgbClr val="a1b5ff"/>
              </a:gs>
              <a:gs pos="100000">
                <a:srgbClr val="4f59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M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94160" y="4813200"/>
            <a:ext cx="1533600" cy="8254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ISPOSI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943600" y="4432320"/>
            <a:ext cx="749160" cy="520560"/>
          </a:xfrm>
          <a:prstGeom prst="ellipse">
            <a:avLst/>
          </a:prstGeom>
          <a:gradFill rotWithShape="0">
            <a:gsLst>
              <a:gs pos="0">
                <a:srgbClr val="a1b5ff"/>
              </a:gs>
              <a:gs pos="100000">
                <a:srgbClr val="4f59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M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47400" y="4576680"/>
            <a:ext cx="51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41160" y="3892320"/>
            <a:ext cx="3657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57" y="14983"/>
                </a:moveTo>
                <a:arcTo wR="10800" hR="10800" stAng="1367204" swAng="8077343"/>
                <a:lnTo>
                  <a:pt x="10800" y="10800"/>
                </a:lnTo>
                <a:close/>
              </a:path>
              <a:path fill="none" w="21600" h="21600">
                <a:moveTo>
                  <a:pt x="20757" y="14983"/>
                </a:moveTo>
                <a:arcTo wR="10800" hR="10800" stAng="1367204" swAng="8077343"/>
              </a:path>
            </a:pathLst>
          </a:custGeom>
          <a:noFill/>
          <a:ln cap="rnd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07760" y="4881600"/>
            <a:ext cx="48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27280" y="5033880"/>
            <a:ext cx="48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1770120"/>
            <a:ext cx="769608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9080" indent="-2890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e fonction principale s’exprime toujours pa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 groupe verbal actif à l’infiniti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deux éléments du milieu extérieur mis en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e fonction contrainte s’exprime pa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 groupe verbal réacti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élément extérieur concern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4320" y="5781600"/>
            <a:ext cx="3862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p1 : verbe actif + EME 1 + EM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1 : verbe réactif + EM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042920" y="76500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AP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1752480"/>
            <a:ext cx="763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hier des Charges Fonc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01760" y="2895480"/>
            <a:ext cx="65404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01760" y="3581280"/>
            <a:ext cx="654048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52680" y="2897280"/>
            <a:ext cx="0" cy="32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00600" y="2897280"/>
            <a:ext cx="0" cy="32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24480" y="2897280"/>
            <a:ext cx="0" cy="32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16680" y="3062160"/>
            <a:ext cx="99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98920" y="3062160"/>
            <a:ext cx="82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t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098320" y="3062160"/>
            <a:ext cx="84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v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550920" y="3062160"/>
            <a:ext cx="112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exi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0" y="4038480"/>
            <a:ext cx="1905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tre silenci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505320" y="3962520"/>
            <a:ext cx="1066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veau son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4038480"/>
            <a:ext cx="1066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50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553080" y="4038480"/>
            <a:ext cx="1219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/- 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042920" y="76500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AP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6920" y="2205000"/>
            <a:ext cx="7677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éthode permettant de recenser les fonctions techniques (ou de conception) d’un produit, et leurs combinaisons, assurant les fonctions de services requi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c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herche des relations de contact et de flux existant entre les éléments du prod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herche des combinaisons des relations de contact et de flux permettant la réalisation des fonctions de s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3390840"/>
            <a:ext cx="7677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79640" y="549360"/>
            <a:ext cx="611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-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78320" y="5129280"/>
            <a:ext cx="426960" cy="4046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25800" y="5330880"/>
            <a:ext cx="1811520" cy="0"/>
          </a:xfrm>
          <a:prstGeom prst="line">
            <a:avLst/>
          </a:prstGeom>
          <a:ln w="25560">
            <a:solidFill>
              <a:srgbClr val="91919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70760" y="1504800"/>
            <a:ext cx="1965240" cy="746280"/>
          </a:xfrm>
          <a:prstGeom prst="rect">
            <a:avLst/>
          </a:prstGeom>
          <a:gradFill rotWithShape="0">
            <a:gsLst>
              <a:gs pos="0">
                <a:srgbClr val="b2edec"/>
              </a:gs>
              <a:gs pos="100000">
                <a:srgbClr val="00c7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romotion de ce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qui n’ont p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empé dans l’aff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3680" y="2481120"/>
            <a:ext cx="1816200" cy="744840"/>
          </a:xfrm>
          <a:prstGeom prst="rect">
            <a:avLst/>
          </a:prstGeom>
          <a:gradFill rotWithShape="0">
            <a:gsLst>
              <a:gs pos="0">
                <a:srgbClr val="b2edec"/>
              </a:gs>
              <a:gs pos="100000">
                <a:srgbClr val="00c7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u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s innoc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22400" y="3457440"/>
            <a:ext cx="1812960" cy="746280"/>
          </a:xfrm>
          <a:prstGeom prst="rect">
            <a:avLst/>
          </a:prstGeom>
          <a:gradFill rotWithShape="0">
            <a:gsLst>
              <a:gs pos="0">
                <a:srgbClr val="b2edec"/>
              </a:gs>
              <a:gs pos="100000">
                <a:srgbClr val="00c7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an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25480" y="2481120"/>
            <a:ext cx="1812960" cy="744840"/>
          </a:xfrm>
          <a:prstGeom prst="rect">
            <a:avLst/>
          </a:prstGeom>
          <a:gradFill rotWithShape="0">
            <a:gsLst>
              <a:gs pos="0">
                <a:srgbClr val="b2edec"/>
              </a:gs>
              <a:gs pos="100000">
                <a:srgbClr val="00c7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quiét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8400" y="1504800"/>
            <a:ext cx="1816200" cy="746280"/>
          </a:xfrm>
          <a:prstGeom prst="rect">
            <a:avLst/>
          </a:prstGeom>
          <a:gradFill rotWithShape="0">
            <a:gsLst>
              <a:gs pos="0">
                <a:srgbClr val="b2edec"/>
              </a:gs>
              <a:gs pos="100000">
                <a:srgbClr val="00c7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uph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1640" y="1550880"/>
            <a:ext cx="1808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8440" bIns="28440" anchor="t">
            <a:spAutoFit/>
          </a:bodyPr>
          <a:p>
            <a:pPr algn="ctr"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19840" y="3457440"/>
            <a:ext cx="1812600" cy="746280"/>
          </a:xfrm>
          <a:prstGeom prst="rect">
            <a:avLst/>
          </a:prstGeom>
          <a:gradFill rotWithShape="0">
            <a:gsLst>
              <a:gs pos="0">
                <a:srgbClr val="b2edec"/>
              </a:gs>
              <a:gs pos="100000">
                <a:srgbClr val="00c7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cher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s coup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961240" y="4228920"/>
            <a:ext cx="0" cy="887400"/>
          </a:xfrm>
          <a:prstGeom prst="line">
            <a:avLst/>
          </a:prstGeom>
          <a:ln w="25560">
            <a:solidFill>
              <a:srgbClr val="91919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693960" y="4228920"/>
            <a:ext cx="0" cy="887400"/>
          </a:xfrm>
          <a:prstGeom prst="line">
            <a:avLst/>
          </a:prstGeom>
          <a:ln w="25560">
            <a:solidFill>
              <a:srgbClr val="91919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88320" y="3250800"/>
            <a:ext cx="0" cy="2141640"/>
          </a:xfrm>
          <a:prstGeom prst="line">
            <a:avLst/>
          </a:prstGeom>
          <a:ln w="25560">
            <a:solidFill>
              <a:srgbClr val="91919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666880" y="3250800"/>
            <a:ext cx="0" cy="2141640"/>
          </a:xfrm>
          <a:prstGeom prst="line">
            <a:avLst/>
          </a:prstGeom>
          <a:ln w="25560">
            <a:solidFill>
              <a:srgbClr val="91919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082000" y="2288880"/>
            <a:ext cx="3240" cy="3382920"/>
          </a:xfrm>
          <a:prstGeom prst="line">
            <a:avLst/>
          </a:prstGeom>
          <a:ln w="25560">
            <a:solidFill>
              <a:srgbClr val="91919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569960" y="2276640"/>
            <a:ext cx="0" cy="3395520"/>
          </a:xfrm>
          <a:prstGeom prst="line">
            <a:avLst/>
          </a:prstGeom>
          <a:ln w="25560">
            <a:solidFill>
              <a:srgbClr val="91919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72320" y="5405400"/>
            <a:ext cx="426960" cy="4064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49920" y="5129280"/>
            <a:ext cx="425520" cy="4046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54120" y="5405400"/>
            <a:ext cx="428760" cy="4064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73920" y="5684760"/>
            <a:ext cx="424080" cy="4064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55760" y="5684760"/>
            <a:ext cx="426960" cy="4064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889360" y="5345280"/>
            <a:ext cx="588960" cy="188640"/>
          </a:xfrm>
          <a:prstGeom prst="line">
            <a:avLst/>
          </a:prstGeom>
          <a:ln w="25560">
            <a:solidFill>
              <a:srgbClr val="91919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790640" y="5697360"/>
            <a:ext cx="641520" cy="184320"/>
          </a:xfrm>
          <a:prstGeom prst="line">
            <a:avLst/>
          </a:prstGeom>
          <a:ln w="25560">
            <a:solidFill>
              <a:srgbClr val="91919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95960" y="5413320"/>
            <a:ext cx="565200" cy="120600"/>
          </a:xfrm>
          <a:prstGeom prst="line">
            <a:avLst/>
          </a:prstGeom>
          <a:ln w="25560">
            <a:solidFill>
              <a:srgbClr val="91919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19800" y="5692680"/>
            <a:ext cx="641520" cy="189000"/>
          </a:xfrm>
          <a:prstGeom prst="line">
            <a:avLst/>
          </a:prstGeom>
          <a:ln w="25560">
            <a:solidFill>
              <a:srgbClr val="91919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57080" y="6002280"/>
            <a:ext cx="594000" cy="185760"/>
          </a:xfrm>
          <a:prstGeom prst="line">
            <a:avLst/>
          </a:prstGeom>
          <a:ln w="25560">
            <a:solidFill>
              <a:srgbClr val="91919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5373720"/>
            <a:ext cx="1982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s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5516640"/>
            <a:ext cx="198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évelopp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6093000"/>
            <a:ext cx="3206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ahier de charges fonctio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5805360"/>
            <a:ext cx="1982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tu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5589720"/>
            <a:ext cx="1982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27640" y="5805360"/>
            <a:ext cx="1982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ise en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7520" y="3776760"/>
            <a:ext cx="20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75080" y="1900080"/>
            <a:ext cx="458640" cy="527040"/>
          </a:xfrm>
          <a:custGeom>
            <a:avLst/>
            <a:gdLst/>
            <a:ahLst/>
            <a:rect l="l" t="t" r="r" b="b"/>
            <a:pathLst>
              <a:path w="289" h="332">
                <a:moveTo>
                  <a:pt x="0" y="0"/>
                </a:moveTo>
                <a:lnTo>
                  <a:pt x="288" y="0"/>
                </a:lnTo>
                <a:lnTo>
                  <a:pt x="288" y="331"/>
                </a:lnTo>
              </a:path>
            </a:pathLst>
          </a:custGeom>
          <a:noFill/>
          <a:ln cap="rnd" w="25560">
            <a:solidFill>
              <a:srgbClr val="919191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67240" y="2800440"/>
            <a:ext cx="536400" cy="603000"/>
          </a:xfrm>
          <a:custGeom>
            <a:avLst/>
            <a:gdLst/>
            <a:ahLst/>
            <a:rect l="l" t="t" r="r" b="b"/>
            <a:pathLst>
              <a:path w="338" h="380">
                <a:moveTo>
                  <a:pt x="0" y="0"/>
                </a:moveTo>
                <a:lnTo>
                  <a:pt x="337" y="0"/>
                </a:lnTo>
                <a:lnTo>
                  <a:pt x="337" y="379"/>
                </a:lnTo>
              </a:path>
            </a:pathLst>
          </a:custGeom>
          <a:noFill/>
          <a:ln cap="rnd" w="25560">
            <a:solidFill>
              <a:srgbClr val="919191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00720" y="2800440"/>
            <a:ext cx="614160" cy="603000"/>
          </a:xfrm>
          <a:custGeom>
            <a:avLst/>
            <a:gdLst/>
            <a:ahLst/>
            <a:rect l="l" t="t" r="r" b="b"/>
            <a:pathLst>
              <a:path w="387" h="380">
                <a:moveTo>
                  <a:pt x="0" y="379"/>
                </a:moveTo>
                <a:lnTo>
                  <a:pt x="0" y="0"/>
                </a:lnTo>
                <a:lnTo>
                  <a:pt x="386" y="0"/>
                </a:lnTo>
              </a:path>
            </a:pathLst>
          </a:custGeom>
          <a:noFill/>
          <a:ln cap="rnd" w="25560">
            <a:solidFill>
              <a:srgbClr val="919191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94320" y="1900080"/>
            <a:ext cx="613080" cy="527040"/>
          </a:xfrm>
          <a:custGeom>
            <a:avLst/>
            <a:gdLst/>
            <a:ahLst/>
            <a:rect l="l" t="t" r="r" b="b"/>
            <a:pathLst>
              <a:path w="386" h="332">
                <a:moveTo>
                  <a:pt x="0" y="331"/>
                </a:moveTo>
                <a:lnTo>
                  <a:pt x="0" y="0"/>
                </a:lnTo>
                <a:lnTo>
                  <a:pt x="385" y="0"/>
                </a:lnTo>
              </a:path>
            </a:pathLst>
          </a:custGeom>
          <a:noFill/>
          <a:ln cap="rnd" w="25560">
            <a:solidFill>
              <a:srgbClr val="919191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042920" y="47628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AP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84280" y="1327320"/>
            <a:ext cx="83311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mi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1736640"/>
            <a:ext cx="80010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20066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Élé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Partie distincte qui compose le prod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20066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Fonctions techniques (ou de conceptio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Ensemble de fonctions, que doit assurer un élément du produit, li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20066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x contacts </a:t>
            </a: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nctions de contac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20066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x flux (ouverts ou bouclés) </a:t>
            </a: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nctions de fl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20066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Flux (notio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placement d’ions, de particules, d’énerg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ant d’é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20066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Flux boucl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Courant d’échange ferme dans le prod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20066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Flux ouve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Courant d’échange établi par le produit entre un flux rentrant et un flux s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20066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Chaîne fonctionnel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Ensemble de fonctions techniques ayant un but comm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971640" y="47628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AP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9160" y="1327320"/>
            <a:ext cx="76327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cessus d’élaboration - AF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1752480"/>
            <a:ext cx="792468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oix du niveau de découpage en éléments du produ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escription du contenu physique de chaque élé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éalisation du bloc-diagramme du produi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basée sur le découpage en éléments choisi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ttant en évidenc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es contacts internes entre élém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es contacts externes avec les éléments du milieu extérieu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ecensement et définition des fonctions de contact et de flux liées aux contacts internes et externes des éléments du produ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éalisation des blocs-diagrammes fonctionnels par la mise en évidence sur le bloc-diagramme des flux traversant le produit et sous tendant les fonctions princip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echerche des flux bouclés internes au produit traduisant des fonctions techniques non mises en évid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7)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ecensement, pour chaque élément du produit des fonctions à remplie lié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ux contac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ux flux (ouverts et bouclé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042920" y="40464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AP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1125360"/>
            <a:ext cx="79502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loc 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301840" y="2860560"/>
            <a:ext cx="476892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347920" y="1535040"/>
            <a:ext cx="4696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Définition des fonctions liées aux cont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05480" y="5361120"/>
            <a:ext cx="166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onctions de cont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892080" y="5499000"/>
            <a:ext cx="88272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892080" y="5651640"/>
            <a:ext cx="882720" cy="0"/>
          </a:xfrm>
          <a:prstGeom prst="line">
            <a:avLst/>
          </a:prstGeom>
          <a:ln w="255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922480" y="2179800"/>
            <a:ext cx="3495960" cy="2428560"/>
          </a:xfrm>
          <a:prstGeom prst="rect">
            <a:avLst/>
          </a:prstGeom>
          <a:noFill/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33760" y="2638440"/>
            <a:ext cx="673200" cy="444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33960" y="2638440"/>
            <a:ext cx="673200" cy="444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34040" y="3705120"/>
            <a:ext cx="672840" cy="444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52680" y="2409840"/>
            <a:ext cx="901440" cy="901800"/>
          </a:xfrm>
          <a:prstGeom prst="ellipse">
            <a:avLst/>
          </a:prstGeom>
          <a:gradFill rotWithShape="0">
            <a:gsLst>
              <a:gs pos="0">
                <a:srgbClr val="a1b5ff"/>
              </a:gs>
              <a:gs pos="100000">
                <a:srgbClr val="4f59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M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86440" y="2409840"/>
            <a:ext cx="901800" cy="901800"/>
          </a:xfrm>
          <a:prstGeom prst="ellipse">
            <a:avLst/>
          </a:prstGeom>
          <a:gradFill rotWithShape="0">
            <a:gsLst>
              <a:gs pos="0">
                <a:srgbClr val="a1b5ff"/>
              </a:gs>
              <a:gs pos="100000">
                <a:srgbClr val="4f59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M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86440" y="3476520"/>
            <a:ext cx="901800" cy="901800"/>
          </a:xfrm>
          <a:prstGeom prst="ellipse">
            <a:avLst/>
          </a:prstGeom>
          <a:gradFill rotWithShape="0">
            <a:gsLst>
              <a:gs pos="0">
                <a:srgbClr val="a1b5ff"/>
              </a:gs>
              <a:gs pos="100000">
                <a:srgbClr val="4f59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ME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083200" y="3927600"/>
            <a:ext cx="1873080" cy="0"/>
          </a:xfrm>
          <a:prstGeom prst="line">
            <a:avLst/>
          </a:prstGeom>
          <a:ln w="255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19560" y="5000760"/>
            <a:ext cx="901800" cy="901440"/>
          </a:xfrm>
          <a:prstGeom prst="ellipse">
            <a:avLst/>
          </a:prstGeom>
          <a:gradFill rotWithShape="0">
            <a:gsLst>
              <a:gs pos="0">
                <a:srgbClr val="a1b5ff"/>
              </a:gs>
              <a:gs pos="100000">
                <a:srgbClr val="4f59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ME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670280" y="4172040"/>
            <a:ext cx="0" cy="8064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63880" y="3121200"/>
            <a:ext cx="501840" cy="5778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5006880" y="3121200"/>
            <a:ext cx="501840" cy="5778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389320" y="2789280"/>
            <a:ext cx="1209600" cy="142920"/>
          </a:xfrm>
          <a:prstGeom prst="ellipse">
            <a:avLst/>
          </a:prstGeom>
          <a:noFill/>
          <a:ln w="255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41800" y="2789280"/>
            <a:ext cx="1057320" cy="142920"/>
          </a:xfrm>
          <a:prstGeom prst="ellipse">
            <a:avLst/>
          </a:prstGeom>
          <a:noFill/>
          <a:ln w="255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742000" y="2789280"/>
            <a:ext cx="1209600" cy="142920"/>
          </a:xfrm>
          <a:prstGeom prst="ellipse">
            <a:avLst/>
          </a:prstGeom>
          <a:noFill/>
          <a:ln w="255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99000" y="4084560"/>
            <a:ext cx="142920" cy="981000"/>
          </a:xfrm>
          <a:prstGeom prst="ellipse">
            <a:avLst/>
          </a:prstGeom>
          <a:noFill/>
          <a:ln w="255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200000">
            <a:off x="3989520" y="2865240"/>
            <a:ext cx="142920" cy="981000"/>
          </a:xfrm>
          <a:prstGeom prst="ellipse">
            <a:avLst/>
          </a:prstGeom>
          <a:noFill/>
          <a:ln w="255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 rot="2400000">
            <a:off x="5208480" y="2865240"/>
            <a:ext cx="142920" cy="981000"/>
          </a:xfrm>
          <a:prstGeom prst="ellipse">
            <a:avLst/>
          </a:prstGeom>
          <a:noFill/>
          <a:ln w="255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78280" y="2478240"/>
            <a:ext cx="43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425840" y="2478240"/>
            <a:ext cx="43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873760" y="2478240"/>
            <a:ext cx="43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97240" y="3164040"/>
            <a:ext cx="43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30760" y="3164040"/>
            <a:ext cx="43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492880" y="3621240"/>
            <a:ext cx="43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746600" y="4307040"/>
            <a:ext cx="43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26920" y="5999040"/>
            <a:ext cx="943200" cy="10476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11240" y="5742000"/>
            <a:ext cx="2301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x boucle sous tendant une fonction de flux liée au cont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32400" y="5513400"/>
            <a:ext cx="3406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</a:t>
            </a:r>
            <a:r>
              <a:rPr b="0" i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: En pratique, les fonctions de contact et de flux liées à un contact, sont généralement regroupées et transcrites sous la for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Assurer la connexion entr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042920" y="76500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AP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829040" y="2592360"/>
            <a:ext cx="635040" cy="73044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66960" y="2620800"/>
            <a:ext cx="609840" cy="7020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68640" y="2433600"/>
            <a:ext cx="47685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4400" y="5757840"/>
            <a:ext cx="7890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Flux ouvert sous tendant une fonction princip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Flux boucle interne au produit sous tendant une fonction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789280" y="1752480"/>
            <a:ext cx="3495600" cy="2428920"/>
          </a:xfrm>
          <a:prstGeom prst="rect">
            <a:avLst/>
          </a:prstGeom>
          <a:noFill/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00560" y="2211480"/>
            <a:ext cx="672840" cy="444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0760" y="2211480"/>
            <a:ext cx="672840" cy="444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00480" y="3278160"/>
            <a:ext cx="673200" cy="444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19120" y="1982880"/>
            <a:ext cx="901800" cy="901440"/>
          </a:xfrm>
          <a:prstGeom prst="ellipse">
            <a:avLst/>
          </a:prstGeom>
          <a:gradFill rotWithShape="0">
            <a:gsLst>
              <a:gs pos="0">
                <a:srgbClr val="a1b5ff"/>
              </a:gs>
              <a:gs pos="100000">
                <a:srgbClr val="4f59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EM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53240" y="1982880"/>
            <a:ext cx="901800" cy="901440"/>
          </a:xfrm>
          <a:prstGeom prst="ellipse">
            <a:avLst/>
          </a:prstGeom>
          <a:gradFill rotWithShape="0">
            <a:gsLst>
              <a:gs pos="0">
                <a:srgbClr val="a1b5ff"/>
              </a:gs>
              <a:gs pos="100000">
                <a:srgbClr val="4f59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EM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53240" y="3049560"/>
            <a:ext cx="901800" cy="901800"/>
          </a:xfrm>
          <a:prstGeom prst="ellipse">
            <a:avLst/>
          </a:prstGeom>
          <a:gradFill rotWithShape="0">
            <a:gsLst>
              <a:gs pos="0">
                <a:srgbClr val="a1b5ff"/>
              </a:gs>
              <a:gs pos="100000">
                <a:srgbClr val="4f59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EME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50000" y="3500280"/>
            <a:ext cx="1873080" cy="0"/>
          </a:xfrm>
          <a:prstGeom prst="line">
            <a:avLst/>
          </a:prstGeom>
          <a:ln w="255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086360" y="4573440"/>
            <a:ext cx="901440" cy="901800"/>
          </a:xfrm>
          <a:prstGeom prst="ellipse">
            <a:avLst/>
          </a:prstGeom>
          <a:gradFill rotWithShape="0">
            <a:gsLst>
              <a:gs pos="0">
                <a:srgbClr val="a1b5ff"/>
              </a:gs>
              <a:gs pos="100000">
                <a:srgbClr val="4f59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EME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44000" y="1949400"/>
            <a:ext cx="51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844360" y="2451240"/>
            <a:ext cx="48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58960" y="3193920"/>
            <a:ext cx="48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c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689000" y="4184640"/>
            <a:ext cx="48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836720" y="1741680"/>
            <a:ext cx="5400720" cy="590040"/>
            <a:chOff x="1836720" y="1741680"/>
            <a:chExt cx="5400720" cy="590040"/>
          </a:xfrm>
        </p:grpSpPr>
        <p:sp>
          <p:nvSpPr>
            <p:cNvPr id="432" name=""/>
            <p:cNvSpPr/>
            <p:nvPr/>
          </p:nvSpPr>
          <p:spPr>
            <a:xfrm>
              <a:off x="1836720" y="2013120"/>
              <a:ext cx="66600" cy="66600"/>
            </a:xfrm>
            <a:prstGeom prst="ellipse">
              <a:avLst/>
            </a:prstGeom>
            <a:solidFill>
              <a:srgbClr val="990033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70840" y="2013120"/>
              <a:ext cx="66600" cy="66600"/>
            </a:xfrm>
            <a:prstGeom prst="ellipse">
              <a:avLst/>
            </a:prstGeom>
            <a:solidFill>
              <a:srgbClr val="990033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93960" y="1741680"/>
              <a:ext cx="533340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5663880" y="2451240"/>
            <a:ext cx="48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318560" y="2660760"/>
            <a:ext cx="42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84760" y="2536920"/>
            <a:ext cx="1382400" cy="796680"/>
          </a:xfrm>
          <a:custGeom>
            <a:avLst/>
            <a:gdLst/>
            <a:ahLst/>
            <a:rect l="l" t="t" r="r" b="b"/>
            <a:pathLst>
              <a:path w="871" h="502">
                <a:moveTo>
                  <a:pt x="12" y="40"/>
                </a:moveTo>
                <a:lnTo>
                  <a:pt x="35" y="31"/>
                </a:lnTo>
                <a:lnTo>
                  <a:pt x="70" y="23"/>
                </a:lnTo>
                <a:lnTo>
                  <a:pt x="111" y="14"/>
                </a:lnTo>
                <a:lnTo>
                  <a:pt x="169" y="8"/>
                </a:lnTo>
                <a:lnTo>
                  <a:pt x="228" y="6"/>
                </a:lnTo>
                <a:lnTo>
                  <a:pt x="292" y="3"/>
                </a:lnTo>
                <a:lnTo>
                  <a:pt x="438" y="0"/>
                </a:lnTo>
                <a:lnTo>
                  <a:pt x="578" y="3"/>
                </a:lnTo>
                <a:lnTo>
                  <a:pt x="642" y="6"/>
                </a:lnTo>
                <a:lnTo>
                  <a:pt x="701" y="8"/>
                </a:lnTo>
                <a:lnTo>
                  <a:pt x="759" y="14"/>
                </a:lnTo>
                <a:lnTo>
                  <a:pt x="800" y="23"/>
                </a:lnTo>
                <a:lnTo>
                  <a:pt x="835" y="31"/>
                </a:lnTo>
                <a:lnTo>
                  <a:pt x="858" y="40"/>
                </a:lnTo>
                <a:lnTo>
                  <a:pt x="870" y="54"/>
                </a:lnTo>
                <a:lnTo>
                  <a:pt x="870" y="71"/>
                </a:lnTo>
                <a:lnTo>
                  <a:pt x="864" y="91"/>
                </a:lnTo>
                <a:lnTo>
                  <a:pt x="852" y="117"/>
                </a:lnTo>
                <a:lnTo>
                  <a:pt x="829" y="145"/>
                </a:lnTo>
                <a:lnTo>
                  <a:pt x="806" y="176"/>
                </a:lnTo>
                <a:lnTo>
                  <a:pt x="747" y="239"/>
                </a:lnTo>
                <a:lnTo>
                  <a:pt x="677" y="305"/>
                </a:lnTo>
                <a:lnTo>
                  <a:pt x="607" y="364"/>
                </a:lnTo>
                <a:lnTo>
                  <a:pt x="578" y="390"/>
                </a:lnTo>
                <a:lnTo>
                  <a:pt x="549" y="416"/>
                </a:lnTo>
                <a:lnTo>
                  <a:pt x="525" y="435"/>
                </a:lnTo>
                <a:lnTo>
                  <a:pt x="508" y="450"/>
                </a:lnTo>
                <a:lnTo>
                  <a:pt x="479" y="472"/>
                </a:lnTo>
                <a:lnTo>
                  <a:pt x="455" y="487"/>
                </a:lnTo>
                <a:lnTo>
                  <a:pt x="438" y="498"/>
                </a:lnTo>
                <a:lnTo>
                  <a:pt x="426" y="501"/>
                </a:lnTo>
                <a:lnTo>
                  <a:pt x="409" y="495"/>
                </a:lnTo>
                <a:lnTo>
                  <a:pt x="391" y="487"/>
                </a:lnTo>
                <a:lnTo>
                  <a:pt x="374" y="470"/>
                </a:lnTo>
                <a:lnTo>
                  <a:pt x="344" y="447"/>
                </a:lnTo>
                <a:lnTo>
                  <a:pt x="339" y="444"/>
                </a:lnTo>
                <a:lnTo>
                  <a:pt x="327" y="433"/>
                </a:lnTo>
                <a:lnTo>
                  <a:pt x="309" y="413"/>
                </a:lnTo>
                <a:lnTo>
                  <a:pt x="280" y="390"/>
                </a:lnTo>
                <a:lnTo>
                  <a:pt x="251" y="364"/>
                </a:lnTo>
                <a:lnTo>
                  <a:pt x="216" y="333"/>
                </a:lnTo>
                <a:lnTo>
                  <a:pt x="146" y="265"/>
                </a:lnTo>
                <a:lnTo>
                  <a:pt x="82" y="194"/>
                </a:lnTo>
                <a:lnTo>
                  <a:pt x="53" y="159"/>
                </a:lnTo>
                <a:lnTo>
                  <a:pt x="29" y="125"/>
                </a:lnTo>
                <a:lnTo>
                  <a:pt x="12" y="97"/>
                </a:lnTo>
                <a:lnTo>
                  <a:pt x="0" y="74"/>
                </a:lnTo>
                <a:lnTo>
                  <a:pt x="0" y="54"/>
                </a:lnTo>
                <a:lnTo>
                  <a:pt x="12" y="40"/>
                </a:lnTo>
              </a:path>
            </a:pathLst>
          </a:custGeom>
          <a:noFill/>
          <a:ln cap="rnd"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537080" y="3668400"/>
            <a:ext cx="0" cy="97164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150920" y="18900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AP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61048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185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bleau d'analyse fonctionnelle 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0480" indent="-2134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et la répartition des fonctions élémentaires sur les différentes fonctions de service  et sur les fonctions techn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84360" y="2492280"/>
          <a:ext cx="8150040" cy="375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8150040" cy="37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662040" y="2492280"/>
            <a:ext cx="0" cy="372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545160" y="5562720"/>
            <a:ext cx="1974960" cy="74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515280" y="5522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150920" y="47628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AP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3520" y="1447920"/>
            <a:ext cx="7696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uxième méthode AF interne à partir de AP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38080" y="2133720"/>
            <a:ext cx="73152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a méthode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Functional Analysis System Techn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350532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c0128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rdonner les fonctions identifié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c0128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érifier la logique fonctionn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c0128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r l’exhaustivité de l’analyse fonctionn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c0128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ervir de support à la recherche de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042920" y="40464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AP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1371600"/>
            <a:ext cx="434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ppel AF externe / AF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20880" y="2673360"/>
            <a:ext cx="135864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286000" y="24379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286000" y="35809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666880" y="24382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914400" y="24379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2438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304812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Systè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" y="198108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 u="sng">
                <a:solidFill>
                  <a:srgbClr val="008080"/>
                </a:solidFill>
                <a:uFillTx/>
                <a:latin typeface="Times New Roman"/>
              </a:rPr>
              <a:t>AF ex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76720" y="2362320"/>
            <a:ext cx="54100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s principales (Fp) que le client achè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e résonne pas en solutions techn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dC  fonction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" y="396252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 u="sng">
                <a:solidFill>
                  <a:srgbClr val="008080"/>
                </a:solidFill>
                <a:uFillTx/>
                <a:latin typeface="Times New Roman"/>
              </a:rPr>
              <a:t>AF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20880" y="5035680"/>
            <a:ext cx="135864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286000" y="480024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2286000" y="594324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666880" y="4800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914400" y="480024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4800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541008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Systè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838080" y="449532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2209680" y="449532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8080" y="4495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11480" y="4497480"/>
            <a:ext cx="13712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204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2042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6720" y="4191120"/>
            <a:ext cx="54100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s primaires qui permettent de répondre aux F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sonne en solutions techn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CdC techniqu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(caractériser et valider les composan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042920" y="40464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133720"/>
            <a:ext cx="7848360" cy="32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Exemple   : un débitmètre électronique de carb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p  : informer le pilote sur la consommation de carburant des mote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tte indication doit être exprimée en unité de masse en raison des différences de densité de carburant provenant de sources d’approvisionnement dive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042920" y="40464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6520" y="4119480"/>
            <a:ext cx="1143000" cy="901800"/>
          </a:xfrm>
          <a:prstGeom prst="rect">
            <a:avLst/>
          </a:prstGeom>
          <a:gradFill rotWithShape="0">
            <a:gsLst>
              <a:gs pos="0">
                <a:srgbClr val="fffed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former le pilo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884240" y="5262480"/>
            <a:ext cx="1282680" cy="901800"/>
          </a:xfrm>
          <a:prstGeom prst="rect">
            <a:avLst/>
          </a:prstGeom>
          <a:gradFill rotWithShape="0">
            <a:gsLst>
              <a:gs pos="0">
                <a:srgbClr val="fffed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fficher le débit mass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801800" y="1292400"/>
            <a:ext cx="0" cy="51847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402000" y="5942160"/>
            <a:ext cx="175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230800" y="617076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332160" y="3890880"/>
            <a:ext cx="1282680" cy="901800"/>
          </a:xfrm>
          <a:prstGeom prst="rect">
            <a:avLst/>
          </a:prstGeom>
          <a:gradFill rotWithShape="0">
            <a:gsLst>
              <a:gs pos="0">
                <a:srgbClr val="fffed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surer la densité du carbur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32160" y="1681200"/>
            <a:ext cx="1282680" cy="901800"/>
          </a:xfrm>
          <a:prstGeom prst="rect">
            <a:avLst/>
          </a:prstGeom>
          <a:gradFill rotWithShape="0">
            <a:gsLst>
              <a:gs pos="0">
                <a:srgbClr val="fffed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surer le débit mass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03760" y="1681200"/>
            <a:ext cx="1282680" cy="901800"/>
          </a:xfrm>
          <a:prstGeom prst="rect">
            <a:avLst/>
          </a:prstGeom>
          <a:gradFill rotWithShape="0">
            <a:gsLst>
              <a:gs pos="0">
                <a:srgbClr val="ffd9d9"/>
              </a:gs>
              <a:gs pos="100000">
                <a:srgbClr val="ff6f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tiliser un capteur volum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884240" y="2824200"/>
            <a:ext cx="1282680" cy="901800"/>
          </a:xfrm>
          <a:prstGeom prst="rect">
            <a:avLst/>
          </a:prstGeom>
          <a:gradFill rotWithShape="0">
            <a:gsLst>
              <a:gs pos="0">
                <a:srgbClr val="fffed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alculer le débit mass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703760" y="3281400"/>
            <a:ext cx="1282680" cy="901800"/>
          </a:xfrm>
          <a:prstGeom prst="rect">
            <a:avLst/>
          </a:prstGeom>
          <a:gradFill rotWithShape="0">
            <a:gsLst>
              <a:gs pos="0">
                <a:srgbClr val="fffed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surer la température carbur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51680" y="3281400"/>
            <a:ext cx="1282680" cy="901800"/>
          </a:xfrm>
          <a:prstGeom prst="rect">
            <a:avLst/>
          </a:prstGeom>
          <a:gradFill rotWithShape="0">
            <a:gsLst>
              <a:gs pos="0">
                <a:srgbClr val="ffd9d9"/>
              </a:gs>
              <a:gs pos="100000">
                <a:srgbClr val="ff6f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tiliser une sonde de tempé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703760" y="4576680"/>
            <a:ext cx="1282680" cy="901800"/>
          </a:xfrm>
          <a:prstGeom prst="rect">
            <a:avLst/>
          </a:prstGeom>
          <a:gradFill rotWithShape="0">
            <a:gsLst>
              <a:gs pos="0">
                <a:srgbClr val="fffed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0" lang="fr-FR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surer le constante dialect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51680" y="4576680"/>
            <a:ext cx="1282680" cy="901800"/>
          </a:xfrm>
          <a:prstGeom prst="rect">
            <a:avLst/>
          </a:prstGeom>
          <a:gradFill rotWithShape="0">
            <a:gsLst>
              <a:gs pos="0">
                <a:srgbClr val="ffd9d9"/>
              </a:gs>
              <a:gs pos="100000">
                <a:srgbClr val="ff6f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0" lang="fr-FR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tiliser une cellule dialect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2487600" y="21315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487600" y="2131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7600" y="373212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487600" y="434196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21320" y="21319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011480" y="3579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4011120" y="35798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087440" y="5103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087800" y="47991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992920" y="36561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992920" y="5103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516800" y="1370160"/>
            <a:ext cx="0" cy="51829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039680" y="327456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1039320" y="32749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039680" y="50277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039320" y="571356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675560" y="1681200"/>
            <a:ext cx="1282680" cy="901800"/>
          </a:xfrm>
          <a:prstGeom prst="rect">
            <a:avLst/>
          </a:prstGeom>
          <a:gradFill rotWithShape="0">
            <a:gsLst>
              <a:gs pos="0">
                <a:srgbClr val="fffed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ource d’éner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669080" y="182736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92920" y="21319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754680" y="220788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54680" y="2208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440480" y="50277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7593120" y="236016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593120" y="23605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40480" y="5256360"/>
            <a:ext cx="304920" cy="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307120" y="2589120"/>
            <a:ext cx="0" cy="15264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307120" y="2741760"/>
            <a:ext cx="3047760" cy="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354880" y="2741400"/>
            <a:ext cx="0" cy="205740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440480" y="3732120"/>
            <a:ext cx="838440" cy="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8278920" y="3732120"/>
            <a:ext cx="0" cy="106704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669080" y="4805280"/>
            <a:ext cx="1282680" cy="901800"/>
          </a:xfrm>
          <a:prstGeom prst="rect">
            <a:avLst/>
          </a:prstGeom>
          <a:gradFill rotWithShape="0">
            <a:gsLst>
              <a:gs pos="0">
                <a:srgbClr val="fffed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arbur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042920" y="40464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S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3040" y="2286000"/>
            <a:ext cx="7715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truction d’un modèle ou représentation d’un problè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nalyse de manière descendante, modulaire, hiérarchique et structur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ifférenciation entre le modèle fonctionnel et le matériel remplissant les fo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délise à la fois des choses (objets, documents, ...) et des événements (activité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DT est graph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avorise le travail d’équi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DT exige la mise en forme par écrit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8080" y="1676520"/>
            <a:ext cx="5410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cepts fondamentaux de S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8305920" cy="20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'analyse fonctionnelle permet de décrire un système par l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nc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u'il doit remplir, assurer mais aussi subir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rain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'analyse fonctionnelle est l'outil indispensable à la détermination d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so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tilisateu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549360"/>
            <a:ext cx="611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-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3716280"/>
            <a:ext cx="83059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D'après NF X 50-150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Besoin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écessité ou désir éprouvé par un utilis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Fonctions :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ctions d'un produit ou de l'un de ses constituants exprimé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clusivement en terme de fin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ntraintes :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imitation à la liberté du concepteur-réalisateur d'un prod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042920" y="40464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S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871880" y="2133720"/>
            <a:ext cx="990720" cy="533160"/>
          </a:xfrm>
          <a:prstGeom prst="parallelogram">
            <a:avLst>
              <a:gd name="adj" fmla="val 7713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è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4136760" y="2179800"/>
            <a:ext cx="1135080" cy="10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5737320" y="2160720"/>
            <a:ext cx="125280" cy="11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271680" y="3276720"/>
            <a:ext cx="2438640" cy="1312920"/>
            <a:chOff x="3271680" y="3276720"/>
            <a:chExt cx="2438640" cy="1312920"/>
          </a:xfrm>
        </p:grpSpPr>
        <p:sp>
          <p:nvSpPr>
            <p:cNvPr id="529" name=""/>
            <p:cNvSpPr/>
            <p:nvPr/>
          </p:nvSpPr>
          <p:spPr>
            <a:xfrm>
              <a:off x="3271680" y="3276720"/>
              <a:ext cx="2438640" cy="1312920"/>
            </a:xfrm>
            <a:prstGeom prst="parallelogram">
              <a:avLst>
                <a:gd name="adj" fmla="val 6403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3957480" y="3548160"/>
              <a:ext cx="1371240" cy="490320"/>
              <a:chOff x="3957480" y="3548160"/>
              <a:chExt cx="1371240" cy="490320"/>
            </a:xfrm>
          </p:grpSpPr>
          <p:sp>
            <p:nvSpPr>
              <p:cNvPr id="531" name=""/>
              <p:cNvSpPr/>
              <p:nvPr/>
            </p:nvSpPr>
            <p:spPr>
              <a:xfrm>
                <a:off x="3957480" y="3646440"/>
                <a:ext cx="1176480" cy="293760"/>
              </a:xfrm>
              <a:prstGeom prst="parallelogram">
                <a:avLst>
                  <a:gd name="adj" fmla="val 57774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152960" y="3548160"/>
                <a:ext cx="295200" cy="196920"/>
              </a:xfrm>
              <a:prstGeom prst="parallelogram">
                <a:avLst>
                  <a:gd name="adj" fmla="val 62226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545000" y="3548160"/>
                <a:ext cx="293760" cy="196920"/>
              </a:xfrm>
              <a:prstGeom prst="parallelogram">
                <a:avLst>
                  <a:gd name="adj" fmla="val 6192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251240" y="3841920"/>
                <a:ext cx="293760" cy="196560"/>
              </a:xfrm>
              <a:prstGeom prst="parallelogram">
                <a:avLst>
                  <a:gd name="adj" fmla="val 62036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643280" y="3841920"/>
                <a:ext cx="293760" cy="196560"/>
              </a:xfrm>
              <a:prstGeom prst="parallelogram">
                <a:avLst>
                  <a:gd name="adj" fmla="val 62036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4460760" y="3659040"/>
                <a:ext cx="69840" cy="16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5160600" y="3645000"/>
                <a:ext cx="16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8" name=""/>
          <p:cNvSpPr/>
          <p:nvPr/>
        </p:nvSpPr>
        <p:spPr>
          <a:xfrm>
            <a:off x="3119400" y="4876920"/>
            <a:ext cx="1371600" cy="457200"/>
          </a:xfrm>
          <a:prstGeom prst="parallelogram">
            <a:avLst>
              <a:gd name="adj" fmla="val 7209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24320" y="5045040"/>
            <a:ext cx="664920" cy="160200"/>
          </a:xfrm>
          <a:prstGeom prst="parallelogram">
            <a:avLst>
              <a:gd name="adj" fmla="val 5987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576600" y="5151600"/>
            <a:ext cx="166680" cy="106200"/>
          </a:xfrm>
          <a:prstGeom prst="parallelogram">
            <a:avLst>
              <a:gd name="adj" fmla="val 65148"/>
            </a:avLst>
          </a:prstGeom>
          <a:solidFill>
            <a:srgbClr val="ffff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52920" y="4998960"/>
            <a:ext cx="166680" cy="106560"/>
          </a:xfrm>
          <a:prstGeom prst="parallelogram">
            <a:avLst>
              <a:gd name="adj" fmla="val 6492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13120" y="5151600"/>
            <a:ext cx="165240" cy="106200"/>
          </a:xfrm>
          <a:prstGeom prst="parallelogram">
            <a:avLst>
              <a:gd name="adj" fmla="val 64586"/>
            </a:avLst>
          </a:prstGeom>
          <a:solidFill>
            <a:srgbClr val="ffff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867120" y="4998960"/>
            <a:ext cx="166680" cy="106560"/>
          </a:xfrm>
          <a:prstGeom prst="parallelogram">
            <a:avLst>
              <a:gd name="adj" fmla="val 6492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298680" y="2693880"/>
            <a:ext cx="1573200" cy="18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898520" y="2693880"/>
            <a:ext cx="544680" cy="18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498480" y="3913200"/>
            <a:ext cx="839880" cy="954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498920" y="3884760"/>
            <a:ext cx="30240" cy="992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3165120" y="4056120"/>
            <a:ext cx="1096920" cy="1258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184640" y="4065480"/>
            <a:ext cx="239760" cy="1258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585880" y="5924520"/>
            <a:ext cx="743040" cy="247680"/>
            <a:chOff x="2585880" y="5924520"/>
            <a:chExt cx="743040" cy="247680"/>
          </a:xfrm>
        </p:grpSpPr>
        <p:sp>
          <p:nvSpPr>
            <p:cNvPr id="551" name=""/>
            <p:cNvSpPr/>
            <p:nvPr/>
          </p:nvSpPr>
          <p:spPr>
            <a:xfrm>
              <a:off x="2585880" y="5924520"/>
              <a:ext cx="743040" cy="247680"/>
            </a:xfrm>
            <a:prstGeom prst="parallelogram">
              <a:avLst>
                <a:gd name="adj" fmla="val 72097"/>
              </a:avLst>
            </a:prstGeom>
            <a:solidFill>
              <a:srgbClr val="ffff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51120" y="6014880"/>
              <a:ext cx="360360" cy="87480"/>
            </a:xfrm>
            <a:prstGeom prst="parallelogram">
              <a:avLst>
                <a:gd name="adj" fmla="val 59425"/>
              </a:avLst>
            </a:prstGeom>
            <a:solidFill>
              <a:srgbClr val="ffff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833560" y="6073920"/>
              <a:ext cx="90720" cy="56880"/>
            </a:xfrm>
            <a:prstGeom prst="parallelogram">
              <a:avLst>
                <a:gd name="adj" fmla="val 66204"/>
              </a:avLst>
            </a:prstGeom>
            <a:solidFill>
              <a:srgbClr val="ffff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18000" bIns="-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57680" y="5997600"/>
              <a:ext cx="88560" cy="57240"/>
            </a:xfrm>
            <a:prstGeom prst="parallelogram">
              <a:avLst>
                <a:gd name="adj" fmla="val 64221"/>
              </a:avLst>
            </a:prstGeom>
            <a:solidFill>
              <a:srgbClr val="ffff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17640" bIns="-1764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71800" y="5997600"/>
              <a:ext cx="88920" cy="57240"/>
            </a:xfrm>
            <a:prstGeom prst="parallelogram">
              <a:avLst>
                <a:gd name="adj" fmla="val 64483"/>
              </a:avLst>
            </a:prstGeom>
            <a:solidFill>
              <a:srgbClr val="ffff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17640" bIns="-1764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3471840" y="5924520"/>
            <a:ext cx="743040" cy="247680"/>
            <a:chOff x="3471840" y="5924520"/>
            <a:chExt cx="743040" cy="247680"/>
          </a:xfrm>
        </p:grpSpPr>
        <p:sp>
          <p:nvSpPr>
            <p:cNvPr id="557" name=""/>
            <p:cNvSpPr/>
            <p:nvPr/>
          </p:nvSpPr>
          <p:spPr>
            <a:xfrm>
              <a:off x="3471840" y="5924520"/>
              <a:ext cx="743040" cy="247680"/>
            </a:xfrm>
            <a:prstGeom prst="parallelogram">
              <a:avLst>
                <a:gd name="adj" fmla="val 72097"/>
              </a:avLst>
            </a:prstGeom>
            <a:solidFill>
              <a:srgbClr val="ffff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637080" y="6014880"/>
              <a:ext cx="360360" cy="87480"/>
            </a:xfrm>
            <a:prstGeom prst="parallelogram">
              <a:avLst>
                <a:gd name="adj" fmla="val 59425"/>
              </a:avLst>
            </a:prstGeom>
            <a:solidFill>
              <a:srgbClr val="ffff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719520" y="6073920"/>
              <a:ext cx="90360" cy="56880"/>
            </a:xfrm>
            <a:prstGeom prst="parallelogram">
              <a:avLst>
                <a:gd name="adj" fmla="val 65942"/>
              </a:avLst>
            </a:prstGeom>
            <a:solidFill>
              <a:srgbClr val="ffff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18000" bIns="-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743280" y="5997600"/>
              <a:ext cx="88920" cy="57240"/>
            </a:xfrm>
            <a:prstGeom prst="parallelogram">
              <a:avLst>
                <a:gd name="adj" fmla="val 64483"/>
              </a:avLst>
            </a:prstGeom>
            <a:solidFill>
              <a:srgbClr val="ffff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17640" bIns="-1764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57760" y="5997600"/>
              <a:ext cx="88920" cy="57240"/>
            </a:xfrm>
            <a:prstGeom prst="parallelogram">
              <a:avLst>
                <a:gd name="adj" fmla="val 64483"/>
              </a:avLst>
            </a:prstGeom>
            <a:solidFill>
              <a:srgbClr val="ffff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17640" bIns="-1764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 flipH="1">
            <a:off x="2803680" y="5024520"/>
            <a:ext cx="915840" cy="890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346560" y="5027760"/>
            <a:ext cx="458640" cy="896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2625840" y="5126040"/>
            <a:ext cx="1033200" cy="1033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171600" y="5119560"/>
            <a:ext cx="569880" cy="1040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679560" y="5024520"/>
            <a:ext cx="258840" cy="887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48200" y="5024520"/>
            <a:ext cx="163440" cy="893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520800" y="5113440"/>
            <a:ext cx="353880" cy="1020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997440" y="5119560"/>
            <a:ext cx="29880" cy="1046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418000" y="4979880"/>
            <a:ext cx="0" cy="582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60080" y="4648320"/>
            <a:ext cx="1375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59000" y="5562720"/>
            <a:ext cx="140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DETA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33520" y="1676520"/>
            <a:ext cx="411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écomposition structu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042920" y="40464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S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56400" y="4876920"/>
            <a:ext cx="280800" cy="458640"/>
          </a:xfrm>
          <a:custGeom>
            <a:avLst/>
            <a:gdLst/>
            <a:ahLst/>
            <a:rect l="l" t="t" r="r" b="b"/>
            <a:pathLst>
              <a:path w="177" h="289">
                <a:moveTo>
                  <a:pt x="80" y="0"/>
                </a:moveTo>
                <a:lnTo>
                  <a:pt x="176" y="0"/>
                </a:lnTo>
                <a:lnTo>
                  <a:pt x="0" y="288"/>
                </a:lnTo>
                <a:lnTo>
                  <a:pt x="80" y="2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363760" y="3124080"/>
            <a:ext cx="1066680" cy="381240"/>
          </a:xfrm>
          <a:prstGeom prst="parallelogram">
            <a:avLst>
              <a:gd name="adj" fmla="val 4954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 systè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297080" y="4648320"/>
            <a:ext cx="914400" cy="304560"/>
          </a:xfrm>
          <a:prstGeom prst="parallelogram">
            <a:avLst>
              <a:gd name="adj" fmla="val 531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160720" y="4800600"/>
            <a:ext cx="58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246320" y="480060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11480" y="4556160"/>
            <a:ext cx="466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68680" y="4648320"/>
            <a:ext cx="914400" cy="304560"/>
          </a:xfrm>
          <a:prstGeom prst="parallelogram">
            <a:avLst>
              <a:gd name="adj" fmla="val 531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754280" y="5181480"/>
            <a:ext cx="914400" cy="304920"/>
          </a:xfrm>
          <a:prstGeom prst="parallelogram">
            <a:avLst>
              <a:gd name="adj" fmla="val 53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125880" y="5181480"/>
            <a:ext cx="914400" cy="304920"/>
          </a:xfrm>
          <a:prstGeom prst="parallelogram">
            <a:avLst>
              <a:gd name="adj" fmla="val 53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617920" y="5334120"/>
            <a:ext cx="58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246320" y="5334120"/>
            <a:ext cx="58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89520" y="533412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4960" y="4419720"/>
            <a:ext cx="4114800" cy="1371600"/>
          </a:xfrm>
          <a:prstGeom prst="parallelogram">
            <a:avLst>
              <a:gd name="adj" fmla="val 5312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560160" y="3530520"/>
            <a:ext cx="1803240" cy="226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1297080" y="3149640"/>
            <a:ext cx="1270080" cy="12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27400" y="3530520"/>
            <a:ext cx="673200" cy="226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56000" y="3149640"/>
            <a:ext cx="118116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478560" y="3124080"/>
            <a:ext cx="1066680" cy="381240"/>
          </a:xfrm>
          <a:prstGeom prst="parallelogram">
            <a:avLst>
              <a:gd name="adj" fmla="val 4954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né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 systè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021360" y="4648320"/>
            <a:ext cx="914400" cy="304560"/>
          </a:xfrm>
          <a:prstGeom prst="parallelogram">
            <a:avLst>
              <a:gd name="adj" fmla="val 531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né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70600" y="4800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35760" y="4556160"/>
            <a:ext cx="593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335560" y="5181480"/>
            <a:ext cx="914400" cy="304920"/>
          </a:xfrm>
          <a:prstGeom prst="parallelogram">
            <a:avLst>
              <a:gd name="adj" fmla="val 53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707160" y="5181480"/>
            <a:ext cx="914400" cy="304920"/>
          </a:xfrm>
          <a:prstGeom prst="parallelogram">
            <a:avLst>
              <a:gd name="adj" fmla="val 53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99200" y="5334120"/>
            <a:ext cx="58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979880" y="533412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570800" y="54100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649760" y="4419720"/>
            <a:ext cx="4114800" cy="1371600"/>
          </a:xfrm>
          <a:prstGeom prst="parallelogram">
            <a:avLst>
              <a:gd name="adj" fmla="val 5312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674960" y="3530520"/>
            <a:ext cx="1803240" cy="226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5411880" y="3149640"/>
            <a:ext cx="1270080" cy="12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342200" y="3530520"/>
            <a:ext cx="673200" cy="226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570800" y="3149640"/>
            <a:ext cx="118116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647120" y="525780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06760" y="4800600"/>
            <a:ext cx="230040" cy="382680"/>
          </a:xfrm>
          <a:custGeom>
            <a:avLst/>
            <a:gdLst/>
            <a:ahLst/>
            <a:rect l="l" t="t" r="r" b="b"/>
            <a:pathLst>
              <a:path w="145" h="241">
                <a:moveTo>
                  <a:pt x="0" y="0"/>
                </a:moveTo>
                <a:lnTo>
                  <a:pt x="144" y="0"/>
                </a:lnTo>
                <a:lnTo>
                  <a:pt x="48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59440" y="4800600"/>
            <a:ext cx="763560" cy="357120"/>
          </a:xfrm>
          <a:custGeom>
            <a:avLst/>
            <a:gdLst/>
            <a:ahLst/>
            <a:rect l="l" t="t" r="r" b="b"/>
            <a:pathLst>
              <a:path w="481" h="225">
                <a:moveTo>
                  <a:pt x="0" y="0"/>
                </a:moveTo>
                <a:lnTo>
                  <a:pt x="480" y="0"/>
                </a:lnTo>
                <a:lnTo>
                  <a:pt x="376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33520" y="1981080"/>
            <a:ext cx="556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ualité activités -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042920" y="40464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S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2438280"/>
            <a:ext cx="7715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971640" y="1844640"/>
            <a:ext cx="7632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c0128"/>
              </a:buClr>
              <a:buFont typeface="Wingdings" charset="2"/>
              <a:buChar char=""/>
              <a:tabLst>
                <a:tab algn="l" pos="8510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rocessus d’é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69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8510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aire les diagrammes d’activité et de données du systè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69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8510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tablir les références croisées entre ces diagram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69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8510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pléter si nécessaire les diagram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69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8510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diquer le séquencement possible des activit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69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8510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dentifier les mécanismes qui peuvent réaliser les fonctions qui permettront de passer à la phase de conce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150920" y="18900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S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284560" y="5127480"/>
            <a:ext cx="11736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602080" y="2127240"/>
            <a:ext cx="609480" cy="228600"/>
          </a:xfrm>
          <a:prstGeom prst="parallelogram">
            <a:avLst>
              <a:gd name="adj" fmla="val 7667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760840" y="1619280"/>
            <a:ext cx="857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èle (partie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2405160" y="2378160"/>
            <a:ext cx="203040" cy="29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065400" y="2390760"/>
            <a:ext cx="50760" cy="2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227400" y="2152800"/>
            <a:ext cx="447840" cy="37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535040" y="3041640"/>
            <a:ext cx="2743200" cy="838080"/>
          </a:xfrm>
          <a:prstGeom prst="parallelogram">
            <a:avLst>
              <a:gd name="adj" fmla="val 8533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566720" y="2701800"/>
            <a:ext cx="812880" cy="11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2501640" y="2389320"/>
            <a:ext cx="144360" cy="258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2280960" y="2684520"/>
            <a:ext cx="19980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691080" y="2562120"/>
            <a:ext cx="58392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35040" y="1822320"/>
            <a:ext cx="2743200" cy="838440"/>
          </a:xfrm>
          <a:prstGeom prst="parallelogram">
            <a:avLst>
              <a:gd name="adj" fmla="val 852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535040" y="4260960"/>
            <a:ext cx="2743200" cy="838080"/>
          </a:xfrm>
          <a:prstGeom prst="parallelogram">
            <a:avLst>
              <a:gd name="adj" fmla="val 8533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35040" y="5479920"/>
            <a:ext cx="2743200" cy="838440"/>
          </a:xfrm>
          <a:prstGeom prst="parallelogram">
            <a:avLst>
              <a:gd name="adj" fmla="val 852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144880" y="3117960"/>
            <a:ext cx="609480" cy="228600"/>
          </a:xfrm>
          <a:prstGeom prst="parallelogram">
            <a:avLst>
              <a:gd name="adj" fmla="val 7667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059280" y="3575160"/>
            <a:ext cx="609480" cy="228600"/>
          </a:xfrm>
          <a:prstGeom prst="parallelogram">
            <a:avLst>
              <a:gd name="adj" fmla="val 7667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602080" y="3346560"/>
            <a:ext cx="609480" cy="228600"/>
          </a:xfrm>
          <a:prstGeom prst="parallelogram">
            <a:avLst>
              <a:gd name="adj" fmla="val 7667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164040" y="2692440"/>
            <a:ext cx="384120" cy="12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611000" y="24447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138040" y="2446200"/>
            <a:ext cx="109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iller les mala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610280" y="3664080"/>
            <a:ext cx="30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833120" y="3665520"/>
            <a:ext cx="109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iller les mala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610280" y="4883040"/>
            <a:ext cx="30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832760" y="4884840"/>
            <a:ext cx="100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ôler le mala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609920" y="6102360"/>
            <a:ext cx="361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2144880" y="4336920"/>
            <a:ext cx="1523520" cy="692280"/>
            <a:chOff x="2144880" y="4336920"/>
            <a:chExt cx="1523520" cy="692280"/>
          </a:xfrm>
        </p:grpSpPr>
        <p:sp>
          <p:nvSpPr>
            <p:cNvPr id="640" name=""/>
            <p:cNvSpPr/>
            <p:nvPr/>
          </p:nvSpPr>
          <p:spPr>
            <a:xfrm>
              <a:off x="2144880" y="4336920"/>
              <a:ext cx="561600" cy="210960"/>
            </a:xfrm>
            <a:prstGeom prst="parallelogram">
              <a:avLst>
                <a:gd name="adj" fmla="val 7656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465280" y="4497120"/>
              <a:ext cx="561600" cy="211320"/>
            </a:xfrm>
            <a:prstGeom prst="parallelogram">
              <a:avLst>
                <a:gd name="adj" fmla="val 7643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786040" y="4657680"/>
              <a:ext cx="561600" cy="210960"/>
            </a:xfrm>
            <a:prstGeom prst="parallelogram">
              <a:avLst>
                <a:gd name="adj" fmla="val 7656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06800" y="4817880"/>
              <a:ext cx="561600" cy="211320"/>
            </a:xfrm>
            <a:prstGeom prst="parallelogram">
              <a:avLst>
                <a:gd name="adj" fmla="val 7643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2144880" y="5556240"/>
            <a:ext cx="609480" cy="228600"/>
          </a:xfrm>
          <a:prstGeom prst="parallelogram">
            <a:avLst>
              <a:gd name="adj" fmla="val 7667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059280" y="6013440"/>
            <a:ext cx="609480" cy="228600"/>
          </a:xfrm>
          <a:prstGeom prst="parallelogram">
            <a:avLst>
              <a:gd name="adj" fmla="val 7667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602080" y="5784840"/>
            <a:ext cx="609480" cy="228600"/>
          </a:xfrm>
          <a:prstGeom prst="parallelogram">
            <a:avLst>
              <a:gd name="adj" fmla="val 7667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905840" y="6103800"/>
            <a:ext cx="1463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quérir et valider les mesu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569600" y="3905280"/>
            <a:ext cx="1413000" cy="11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2284200" y="3914640"/>
            <a:ext cx="495000" cy="34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513240" y="3914640"/>
            <a:ext cx="41040" cy="11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760920" y="3686040"/>
            <a:ext cx="507960" cy="5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1560600" y="5133960"/>
            <a:ext cx="681120" cy="11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056040" y="5118120"/>
            <a:ext cx="488880" cy="12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665520" y="5016600"/>
            <a:ext cx="603360" cy="46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827080" y="3610080"/>
            <a:ext cx="385560" cy="2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2995560" y="3816000"/>
            <a:ext cx="79560" cy="50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3487680" y="38066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693960" y="3600360"/>
            <a:ext cx="51120" cy="60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2252520" y="4721400"/>
            <a:ext cx="212760" cy="365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414520" y="4721040"/>
            <a:ext cx="117720" cy="34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2881080" y="4721400"/>
            <a:ext cx="136440" cy="37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3052440" y="4501800"/>
            <a:ext cx="555480" cy="46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067000" y="1668600"/>
            <a:ext cx="3280320" cy="45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E HIERARCHIQU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0 : Surveiller les mal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0 : Surveiller les mal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 : Placer un malade sous contrô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2 : Retirer un malade du contrô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3 : Contrôler le mal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31 : Choisir le malade à exami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32 : Acquérir et valider les mes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321 :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322 :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323 :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33 : Contrôler la valeur des mes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34 : Afficher les alar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35 : Enregistrer les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4 : Gérer le dossi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68360" y="907920"/>
            <a:ext cx="655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e hiérarchique et modèle correspo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1042920" y="40464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S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05320" y="3308400"/>
            <a:ext cx="2133360" cy="914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0" y="2800440"/>
            <a:ext cx="0" cy="507960"/>
          </a:xfrm>
          <a:prstGeom prst="line">
            <a:avLst/>
          </a:prstGeom>
          <a:ln w="1260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618720" y="2286000"/>
            <a:ext cx="1911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ONTRAI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038840" y="4952880"/>
            <a:ext cx="1162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OY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4572000" y="4235040"/>
            <a:ext cx="0" cy="507960"/>
          </a:xfrm>
          <a:prstGeom prst="line">
            <a:avLst/>
          </a:prstGeom>
          <a:ln w="1260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997360" y="3765600"/>
            <a:ext cx="507960" cy="0"/>
          </a:xfrm>
          <a:prstGeom prst="line">
            <a:avLst/>
          </a:prstGeom>
          <a:ln w="1260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43760" y="3613320"/>
            <a:ext cx="1230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EN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5663880" y="3765600"/>
            <a:ext cx="507960" cy="0"/>
          </a:xfrm>
          <a:prstGeom prst="line">
            <a:avLst/>
          </a:prstGeom>
          <a:ln w="1260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196680" y="3613320"/>
            <a:ext cx="1146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O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042920" y="40464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S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427120" y="4330800"/>
            <a:ext cx="4388040" cy="17953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AIRE POUSSER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ES LEG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046320" y="3363840"/>
            <a:ext cx="0" cy="966960"/>
          </a:xfrm>
          <a:prstGeom prst="line">
            <a:avLst/>
          </a:prstGeom>
          <a:ln w="1260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621320" y="3363840"/>
            <a:ext cx="0" cy="966960"/>
          </a:xfrm>
          <a:prstGeom prst="line">
            <a:avLst/>
          </a:prstGeom>
          <a:ln w="1260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145200" y="3363840"/>
            <a:ext cx="0" cy="966960"/>
          </a:xfrm>
          <a:prstGeom prst="line">
            <a:avLst/>
          </a:prstGeom>
          <a:ln w="1260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517480" y="2514600"/>
            <a:ext cx="1068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ix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lég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840840" y="2535120"/>
            <a:ext cx="1529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ompé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u ferm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639760" y="2556000"/>
            <a:ext cx="91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63560" y="4829040"/>
            <a:ext cx="1663560" cy="0"/>
          </a:xfrm>
          <a:prstGeom prst="line">
            <a:avLst/>
          </a:prstGeom>
          <a:ln w="1260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3560" y="5727600"/>
            <a:ext cx="1663560" cy="0"/>
          </a:xfrm>
          <a:prstGeom prst="line">
            <a:avLst/>
          </a:prstGeom>
          <a:ln w="1260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34560" y="4389480"/>
            <a:ext cx="1047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r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44280" y="5286240"/>
            <a:ext cx="1033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Eng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46840" y="5229360"/>
            <a:ext cx="1663920" cy="0"/>
          </a:xfrm>
          <a:prstGeom prst="line">
            <a:avLst/>
          </a:prstGeom>
          <a:ln w="1260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966000" y="4788000"/>
            <a:ext cx="116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Lég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33520" y="1600200"/>
            <a:ext cx="647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 : Faire pousser des lé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1042920" y="40464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S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74400" y="1752480"/>
            <a:ext cx="8236080" cy="4572000"/>
            <a:chOff x="374400" y="1752480"/>
            <a:chExt cx="8236080" cy="4572000"/>
          </a:xfrm>
        </p:grpSpPr>
        <p:sp>
          <p:nvSpPr>
            <p:cNvPr id="692" name=""/>
            <p:cNvSpPr/>
            <p:nvPr/>
          </p:nvSpPr>
          <p:spPr>
            <a:xfrm>
              <a:off x="1581120" y="2521080"/>
              <a:ext cx="857160" cy="76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élection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s grai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24320" y="4041720"/>
              <a:ext cx="85716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695920" y="4803840"/>
              <a:ext cx="857160" cy="76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reteni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67520" y="5564160"/>
              <a:ext cx="857160" cy="76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écol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66560" y="30290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638160" y="37353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09760" y="454968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381360" y="53103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52960" y="607068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3560" y="2901960"/>
              <a:ext cx="108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3560" y="3662280"/>
              <a:ext cx="2459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52840" y="2509920"/>
              <a:ext cx="0" cy="72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95680" y="2936880"/>
              <a:ext cx="0" cy="11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10120" y="357192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124680" y="2811600"/>
              <a:ext cx="0" cy="198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09880" y="21798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676880" y="1752480"/>
              <a:ext cx="6087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1 PRI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9800" y="2541600"/>
              <a:ext cx="299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4400" y="2901960"/>
              <a:ext cx="10004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ines disponib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7280" y="3305160"/>
              <a:ext cx="6681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2 Engra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09880" y="3662280"/>
              <a:ext cx="3687480" cy="1776600"/>
            </a:xfrm>
            <a:custGeom>
              <a:avLst/>
              <a:gdLst/>
              <a:ahLst/>
              <a:rect l="l" t="t" r="r" b="b"/>
              <a:pathLst>
                <a:path w="2323" h="1119">
                  <a:moveTo>
                    <a:pt x="0" y="0"/>
                  </a:moveTo>
                  <a:lnTo>
                    <a:pt x="0" y="1118"/>
                  </a:lnTo>
                  <a:lnTo>
                    <a:pt x="2322" y="11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438280" y="2901960"/>
              <a:ext cx="1887480" cy="1774800"/>
            </a:xfrm>
            <a:custGeom>
              <a:avLst/>
              <a:gdLst/>
              <a:ahLst/>
              <a:rect l="l" t="t" r="r" b="b"/>
              <a:pathLst>
                <a:path w="1189" h="1118">
                  <a:moveTo>
                    <a:pt x="0" y="0"/>
                  </a:moveTo>
                  <a:lnTo>
                    <a:pt x="162" y="0"/>
                  </a:lnTo>
                  <a:lnTo>
                    <a:pt x="162" y="1117"/>
                  </a:lnTo>
                  <a:lnTo>
                    <a:pt x="1188" y="11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09880" y="3662280"/>
              <a:ext cx="515880" cy="507960"/>
            </a:xfrm>
            <a:custGeom>
              <a:avLst/>
              <a:gdLst/>
              <a:ahLst/>
              <a:rect l="l" t="t" r="r" b="b"/>
              <a:pathLst>
                <a:path w="325" h="320">
                  <a:moveTo>
                    <a:pt x="0" y="0"/>
                  </a:moveTo>
                  <a:lnTo>
                    <a:pt x="162" y="0"/>
                  </a:lnTo>
                  <a:lnTo>
                    <a:pt x="162" y="319"/>
                  </a:lnTo>
                  <a:lnTo>
                    <a:pt x="324" y="3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181480" y="4422600"/>
              <a:ext cx="515880" cy="508320"/>
            </a:xfrm>
            <a:custGeom>
              <a:avLst/>
              <a:gdLst/>
              <a:ahLst/>
              <a:rect l="l" t="t" r="r" b="b"/>
              <a:pathLst>
                <a:path w="325" h="320">
                  <a:moveTo>
                    <a:pt x="0" y="0"/>
                  </a:moveTo>
                  <a:lnTo>
                    <a:pt x="162" y="0"/>
                  </a:lnTo>
                  <a:lnTo>
                    <a:pt x="162" y="319"/>
                  </a:lnTo>
                  <a:lnTo>
                    <a:pt x="324" y="3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553080" y="5437080"/>
              <a:ext cx="515880" cy="254160"/>
            </a:xfrm>
            <a:custGeom>
              <a:avLst/>
              <a:gdLst/>
              <a:ahLst/>
              <a:rect l="l" t="t" r="r" b="b"/>
              <a:pathLst>
                <a:path w="325" h="160">
                  <a:moveTo>
                    <a:pt x="0" y="0"/>
                  </a:moveTo>
                  <a:lnTo>
                    <a:pt x="162" y="0"/>
                  </a:lnTo>
                  <a:lnTo>
                    <a:pt x="162" y="159"/>
                  </a:lnTo>
                  <a:lnTo>
                    <a:pt x="324" y="1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123360" y="2521080"/>
              <a:ext cx="319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575160" y="2341440"/>
              <a:ext cx="739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éten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 jardina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552840" y="2901960"/>
              <a:ext cx="3944880" cy="2662200"/>
            </a:xfrm>
            <a:custGeom>
              <a:avLst/>
              <a:gdLst/>
              <a:ahLst/>
              <a:rect l="l" t="t" r="r" b="b"/>
              <a:pathLst>
                <a:path w="2485" h="1677">
                  <a:moveTo>
                    <a:pt x="0" y="0"/>
                  </a:moveTo>
                  <a:lnTo>
                    <a:pt x="2484" y="0"/>
                  </a:lnTo>
                  <a:lnTo>
                    <a:pt x="2484" y="16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124080" y="2141640"/>
              <a:ext cx="5059440" cy="3549600"/>
            </a:xfrm>
            <a:custGeom>
              <a:avLst/>
              <a:gdLst/>
              <a:ahLst/>
              <a:rect l="l" t="t" r="r" b="b"/>
              <a:pathLst>
                <a:path w="3187" h="2236">
                  <a:moveTo>
                    <a:pt x="0" y="649"/>
                  </a:moveTo>
                  <a:lnTo>
                    <a:pt x="0" y="0"/>
                  </a:lnTo>
                  <a:lnTo>
                    <a:pt x="3186" y="0"/>
                  </a:lnTo>
                  <a:lnTo>
                    <a:pt x="3186" y="2235"/>
                  </a:lnTo>
                  <a:lnTo>
                    <a:pt x="3024" y="22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952720" y="3228840"/>
              <a:ext cx="857160" cy="760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épar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jard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951680" y="6197760"/>
              <a:ext cx="65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921800" y="5818320"/>
              <a:ext cx="5616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égum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67400" y="5764320"/>
              <a:ext cx="50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écol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û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53080" y="2141640"/>
              <a:ext cx="258840" cy="2789280"/>
            </a:xfrm>
            <a:custGeom>
              <a:avLst/>
              <a:gdLst/>
              <a:ahLst/>
              <a:rect l="l" t="t" r="r" b="b"/>
              <a:pathLst>
                <a:path w="163" h="1757">
                  <a:moveTo>
                    <a:pt x="0" y="1756"/>
                  </a:moveTo>
                  <a:lnTo>
                    <a:pt x="162" y="1756"/>
                  </a:lnTo>
                  <a:lnTo>
                    <a:pt x="16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65240" y="3154320"/>
              <a:ext cx="7185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3 TEMP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429520" y="4116240"/>
              <a:ext cx="43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rd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t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60560" y="1781280"/>
              <a:ext cx="943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rrain disponi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93920" y="1781280"/>
              <a:ext cx="1392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rrain à nouveau disponi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20720" y="2901960"/>
              <a:ext cx="6163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rrai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oni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û 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’éche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’u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écol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1150920" y="26028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S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90400" y="1584360"/>
            <a:ext cx="8020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re les titres des boîtes du diagramme pour avoir une première impression de la décom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arder le diagramme père, en observant particulièrement le contexte des flèches d’interface arrivant et partant de la boîte mère qui est détaillée dans le diagramme à examiner. Revenir à ce diagramme et regarder où se situent ces flèches externes d’interface de la boîte mère. Essayer d’identifier  les données les plus importantes, d’entrée, de sortie, de contrô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idérer maintenant les flèches internes du diagramme à examiner, chercher l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emin princip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qui relie l’entrée la plus importante (ou le contrôle) et la sortie principale. Ceci met l’accent sur les points clés du dia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iner chaque boîte dans l’ordre, vérifier que chaque entrée, contrôle, sortie se justifie. Essayer de comprendre le rôle que jour chaque flèche dans la fonction de la boî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iner comment les autres flèches se connectent entre les boîtes. Chercher les autres chemins faisant apparaître des contre-réactions, des erreur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alement, lire les explications et les textes que l’auteur a joint, les utiliser pour vérifier la compréhension du dia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105264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eils pour la lecture d’un modèle S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042920" y="40464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S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3520" y="2025720"/>
            <a:ext cx="80960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732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341360"/>
            <a:ext cx="77724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Étapes de la création d’un modè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oisir le but et les objectifs d’analy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réer le contexte général et le premier actigramme de la décomposition des activités :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réer un diagramme A0,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réer un diagramme A-0 (contexte général) à partir des données frontières du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iagramme A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ntinuer la décomposition des activités du modèle sur quelques niveau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réer le contexte général et le premier dia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ntinuer la décomposition des données du modèle jusqu’à ce qu’il atteigne le même niveau de détail dans ses deux aspects (actigramme et diagramm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Établir les liens activité/donnée et donnée/activité entre les deux décomposi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7)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Quand le modèle est achevé, choisir les mécanismes, afin de constituer les transitions pour la phase suiv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8)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jouter des indications de séquencement aux actigrammes du modè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042920" y="40464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S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66720" y="1944720"/>
            <a:ext cx="77914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732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encer un nouveau diagramme. Sélectionner une boîte à décomposer ou décider s’il est temps de s’arrê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732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sembler l’information si nécessaire 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re les documents et prendre des not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viewer les expe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732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éer le premier dessin du nouveau diagramme 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encer un nouveau formulaire de diagramm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éer la liste des donné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éer les boîtes d’activité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iner les boîtes d’activités obtenu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iger le dia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732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essiner le dia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732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éer les PES nécessai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62120" y="1413000"/>
            <a:ext cx="6248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Étapes de la création d’un 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1341360"/>
            <a:ext cx="7880400" cy="30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qualité d'un produit dépend d'abord de la pertinence et de l'exhaustivité de l'expression de ses fonctions de service auxquelles participe l'expression fonctionnelle du besoin, et ensuite de son aptitude à satisfaire ses fo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f. : NF X 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549360"/>
            <a:ext cx="611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-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4800600"/>
            <a:ext cx="6730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Une expression du besoin incomplète et non fonctionnelle présente un risque .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1150920" y="76500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Méthode RELIAS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91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ncipales étapes de la démarc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aître le besoin à satisfaire, décrire la façon dont il est réalisé et analyser comment il peut ne pas être satisfai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    Décrire fonctionnellement le besoin à satisfaire en terme de fonctions à remplir, avec des performances et des contraintes à respecte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    Établir l'arbre fonctionnel permettant de mettre en évidence les fonctions nécessaires à la réalisation du besoin en utilisant le principe : acquisition d'un flux en entrée, transformation, transmission d'un flux en sorti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)     Établir l'arbre matériel qui se superpose à l'arbre fonctionnel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)     Analyser les défaillances (AMDEC) en utilisant l'arbre fonctionnel, puis émettre des recommandation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 algn="just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54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-245520" algn="just">
              <a:lnSpc>
                <a:spcPct val="110000"/>
              </a:lnSpc>
              <a:spcBef>
                <a:spcPts val="90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ption fonctionnelle du besoin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5720" indent="-162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besoin s'exprime en terme de fonctions à rempli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5720" indent="-16200">
              <a:lnSpc>
                <a:spcPct val="70000"/>
              </a:lnSpc>
              <a:spcBef>
                <a:spcPts val="901"/>
              </a:spcBef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ssocie la liste des performances à la fonction dite princip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5520" indent="-245520" algn="just">
              <a:lnSpc>
                <a:spcPct val="110000"/>
              </a:lnSpc>
              <a:spcBef>
                <a:spcPts val="90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tablissement de l'arbre fonctionn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5720" indent="-162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s'agit de mettre en évidence les fonctions à créer pour réaliser la fonction princip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5720" indent="-162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questionnement suivant est utilis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560" indent="-1677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quoi cette fonction est-elle destiné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560" indent="-1677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 quoi agit-elle pour se réalise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5720" indent="-162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s'aidant de la trilogi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560" indent="-1677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er un flux d'entré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560" indent="-1677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transform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560" indent="-1677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ettre un flux de sort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150920" y="40464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Méthode RELIAS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61048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bre fonctionnel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1452600" y="1557360"/>
          <a:ext cx="6526080" cy="486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557360"/>
                    <a:ext cx="6526080" cy="48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"/>
          <p:cNvSpPr/>
          <p:nvPr/>
        </p:nvSpPr>
        <p:spPr>
          <a:xfrm>
            <a:off x="1150920" y="40464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Méthode RELIAS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/>
          </p:nvPr>
        </p:nvSpPr>
        <p:spPr>
          <a:xfrm>
            <a:off x="533520" y="1052280"/>
            <a:ext cx="861048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bre matéri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6680" y="1371600"/>
          <a:ext cx="712296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1371600"/>
                    <a:ext cx="712296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"/>
          <p:cNvSpPr/>
          <p:nvPr/>
        </p:nvSpPr>
        <p:spPr>
          <a:xfrm>
            <a:off x="1150920" y="40464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Méthode RELIAS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533520" y="1052640"/>
            <a:ext cx="861048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33520" y="18288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33520" y="25146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952880" y="17524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539640" y="3282840"/>
            <a:ext cx="984240" cy="292320"/>
            <a:chOff x="539640" y="3282840"/>
            <a:chExt cx="984240" cy="292320"/>
          </a:xfrm>
        </p:grpSpPr>
        <p:sp>
          <p:nvSpPr>
            <p:cNvPr id="757" name=""/>
            <p:cNvSpPr/>
            <p:nvPr/>
          </p:nvSpPr>
          <p:spPr>
            <a:xfrm>
              <a:off x="539640" y="3282840"/>
              <a:ext cx="52092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066680" y="34290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95280" y="34290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4959360" y="3282840"/>
            <a:ext cx="984240" cy="292320"/>
            <a:chOff x="4959360" y="3282840"/>
            <a:chExt cx="984240" cy="292320"/>
          </a:xfrm>
        </p:grpSpPr>
        <p:sp>
          <p:nvSpPr>
            <p:cNvPr id="761" name=""/>
            <p:cNvSpPr/>
            <p:nvPr/>
          </p:nvSpPr>
          <p:spPr>
            <a:xfrm>
              <a:off x="4959360" y="3282840"/>
              <a:ext cx="52056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86400" y="34290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715000" y="3429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539640" y="4273560"/>
            <a:ext cx="1511280" cy="291960"/>
            <a:chOff x="539640" y="4273560"/>
            <a:chExt cx="1511280" cy="291960"/>
          </a:xfrm>
        </p:grpSpPr>
        <p:sp>
          <p:nvSpPr>
            <p:cNvPr id="765" name=""/>
            <p:cNvSpPr/>
            <p:nvPr/>
          </p:nvSpPr>
          <p:spPr>
            <a:xfrm>
              <a:off x="539640" y="4273560"/>
              <a:ext cx="5209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66680" y="4419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1218960" y="4419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530360" y="4273560"/>
              <a:ext cx="5205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539640" y="5035680"/>
            <a:ext cx="1587600" cy="1206360"/>
            <a:chOff x="539640" y="5035680"/>
            <a:chExt cx="1587600" cy="1206360"/>
          </a:xfrm>
        </p:grpSpPr>
        <p:sp>
          <p:nvSpPr>
            <p:cNvPr id="770" name=""/>
            <p:cNvSpPr/>
            <p:nvPr/>
          </p:nvSpPr>
          <p:spPr>
            <a:xfrm>
              <a:off x="539640" y="5035680"/>
              <a:ext cx="5209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9640" y="5492880"/>
              <a:ext cx="5209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39640" y="5950080"/>
              <a:ext cx="5209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51814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5638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66680" y="6095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219320" y="5181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1295280" y="56386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606680" y="5492880"/>
              <a:ext cx="5205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1656360" y="1487520"/>
            <a:ext cx="19310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nc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aison entre fo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657080" y="2325600"/>
            <a:ext cx="181656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raint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oix technologiq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77880" y="1563840"/>
            <a:ext cx="144324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ériel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actéristiq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56720" y="3087720"/>
            <a:ext cx="27464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nction "A" donne naissance à 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choix technologiqu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contrai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75720" y="3087720"/>
            <a:ext cx="27172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ériel "B" donne naissance à 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choix technologiqu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contrai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40720" y="4307040"/>
            <a:ext cx="32371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rainte "C" agit sur la fonction "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333160" y="5526000"/>
            <a:ext cx="5238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oix technologique "E" donne naissance à de nouvelles fo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150920" y="33336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Méthode RELIAS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61048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e d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éfaillances 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DE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2700360" y="830160"/>
          <a:ext cx="5388120" cy="55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830160"/>
                    <a:ext cx="5388120" cy="55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1150920" y="18900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Méthode RELIAS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395280" y="1641600"/>
            <a:ext cx="8610480" cy="521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115000"/>
              </a:lnSpc>
              <a:spcBef>
                <a:spcPts val="90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mite d'application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328680" algn="just">
              <a:lnSpc>
                <a:spcPct val="115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ité des systè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5000"/>
              </a:lnSpc>
              <a:spcBef>
                <a:spcPts val="90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lques recommandations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328680" algn="just">
              <a:lnSpc>
                <a:spcPct val="115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méthode choisie doit être adaptée au système étudié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328680" algn="just">
              <a:lnSpc>
                <a:spcPct val="115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faut constituer un groupe de travail comprenant des participants formés à la méthode utilisé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328680" algn="just">
              <a:lnSpc>
                <a:spcPct val="115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groupe doit comporter un animateur garant de la méthod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328680" algn="just">
              <a:lnSpc>
                <a:spcPct val="115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faut une bonne animation de groupe (forte capacité d'écoute, de reformulation, d'estim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328680" algn="just">
              <a:lnSpc>
                <a:spcPct val="115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présence d'un candide est souvent intéress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00000" y="76500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407520" y="1688760"/>
            <a:ext cx="3730680" cy="300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 algn="just">
              <a:lnSpc>
                <a:spcPct val="120000"/>
              </a:lnSpc>
              <a:spcBef>
                <a:spcPts val="75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ème d'information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480" indent="-231480" algn="just">
              <a:lnSpc>
                <a:spcPct val="120000"/>
              </a:lnSpc>
              <a:spcBef>
                <a:spcPts val="75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ème de production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480" indent="-231480" algn="just">
              <a:lnSpc>
                <a:spcPct val="120000"/>
              </a:lnSpc>
              <a:spcBef>
                <a:spcPts val="75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anisation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480" indent="-231480" algn="just">
              <a:lnSpc>
                <a:spcPct val="120000"/>
              </a:lnSpc>
              <a:spcBef>
                <a:spcPts val="75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iciel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480" indent="-231480" algn="just">
              <a:lnSpc>
                <a:spcPct val="120000"/>
              </a:lnSpc>
              <a:spcBef>
                <a:spcPts val="75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écanique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480" indent="-231480" algn="just">
              <a:lnSpc>
                <a:spcPct val="120000"/>
              </a:lnSpc>
              <a:spcBef>
                <a:spcPts val="75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draulique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480" indent="-231480" algn="just">
              <a:lnSpc>
                <a:spcPct val="120000"/>
              </a:lnSpc>
              <a:spcBef>
                <a:spcPts val="75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électricité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480" indent="-231480" algn="just">
              <a:lnSpc>
                <a:spcPct val="120000"/>
              </a:lnSpc>
              <a:spcBef>
                <a:spcPts val="75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électronique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780080" y="1701720"/>
            <a:ext cx="373068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just">
              <a:lnSpc>
                <a:spcPct val="120000"/>
              </a:lnSpc>
              <a:spcBef>
                <a:spcPts val="75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omatism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75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faces homme/mach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75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èmes complex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75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éde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75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omédic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75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ment de programme (expression du besoin, faisabilité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751"/>
              </a:spcBef>
              <a:buClr>
                <a:srgbClr val="fc0128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150920" y="76500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Domaine d’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7510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DT Simplifi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. de MARC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W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ABE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IASE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M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150920" y="76500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Logiciels de trai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533520" y="1125000"/>
            <a:ext cx="8610480" cy="521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Recommandation RG Aéro 000 4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L'analyse fonctionnelle en matière de SdF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SDF - Projet n°1/91 (199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Guide de mise en oeuvre de l'analyse fonctionnel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DEN/Aérospatiale 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EN/CMQ n° 886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Analyse de la valeur, analyse fonctionnel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NORME NF X50-150 - vocabulaire (Août 199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Guide pour l'élaboration d'un CdCF - Expression fonctionnelle du besoi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NORME NF X50-15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Analyse de la valeur - Caractéristiques fondamentale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NORME NF X50-152 (Août 199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Analyse de la valeur - Recommandation pour sa mise en oeuvr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NORME NF X50-153 (Mai 1985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150920" y="47628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– Bibli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79640" y="549360"/>
            <a:ext cx="611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-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628640"/>
            <a:ext cx="80010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OI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«Perception chez une personne d’un manque ou d’un excè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ce qui lui est nécess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’est l’origine psychologique et sociale de la consommation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ILISATEUR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Perso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Entre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ivation de «l’achat»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client achète une fonction et non une solution techn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1480" y="3251160"/>
            <a:ext cx="1067040" cy="6858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onction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xte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5000" y="3298680"/>
            <a:ext cx="963720" cy="6368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ahier 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onct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83120" y="3298680"/>
            <a:ext cx="914400" cy="6368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02080" y="3298680"/>
            <a:ext cx="1040040" cy="6368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nalyse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 con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02280" y="2274840"/>
            <a:ext cx="963720" cy="6364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ptim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s coû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02280" y="4324320"/>
            <a:ext cx="963720" cy="6350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ptim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s dé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69320" y="3298680"/>
            <a:ext cx="1019160" cy="6368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bjecti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enu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69960" y="3479760"/>
            <a:ext cx="608040" cy="18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66000" y="2629080"/>
            <a:ext cx="563760" cy="636480"/>
          </a:xfrm>
          <a:custGeom>
            <a:avLst/>
            <a:gdLst/>
            <a:ahLst/>
            <a:rect l="l" t="t" r="r" b="b"/>
            <a:pathLst>
              <a:path w="355" h="401">
                <a:moveTo>
                  <a:pt x="0" y="0"/>
                </a:moveTo>
                <a:lnTo>
                  <a:pt x="354" y="0"/>
                </a:lnTo>
                <a:lnTo>
                  <a:pt x="354" y="400"/>
                </a:lnTo>
              </a:path>
            </a:pathLst>
          </a:custGeom>
          <a:noFill/>
          <a:ln cap="rnd" w="25560">
            <a:solidFill>
              <a:srgbClr val="ff66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66000" y="3970440"/>
            <a:ext cx="563760" cy="636480"/>
          </a:xfrm>
          <a:custGeom>
            <a:avLst/>
            <a:gdLst/>
            <a:ahLst/>
            <a:rect l="l" t="t" r="r" b="b"/>
            <a:pathLst>
              <a:path w="355" h="401">
                <a:moveTo>
                  <a:pt x="0" y="400"/>
                </a:moveTo>
                <a:lnTo>
                  <a:pt x="354" y="400"/>
                </a:lnTo>
                <a:lnTo>
                  <a:pt x="354" y="0"/>
                </a:lnTo>
              </a:path>
            </a:pathLst>
          </a:custGeom>
          <a:noFill/>
          <a:ln cap="rnd" w="25560">
            <a:solidFill>
              <a:srgbClr val="ff66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1480" y="5548320"/>
            <a:ext cx="1613160" cy="7761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nnaissance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ie des prod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xistants simil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133640" y="3941640"/>
            <a:ext cx="1440" cy="15811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40320" y="3935520"/>
            <a:ext cx="4135320" cy="1307880"/>
          </a:xfrm>
          <a:custGeom>
            <a:avLst/>
            <a:gdLst/>
            <a:ahLst/>
            <a:rect l="l" t="t" r="r" b="b"/>
            <a:pathLst>
              <a:path w="2605" h="824">
                <a:moveTo>
                  <a:pt x="0" y="0"/>
                </a:moveTo>
                <a:lnTo>
                  <a:pt x="0" y="823"/>
                </a:lnTo>
                <a:lnTo>
                  <a:pt x="2604" y="823"/>
                </a:lnTo>
                <a:lnTo>
                  <a:pt x="2604" y="0"/>
                </a:lnTo>
              </a:path>
            </a:pathLst>
          </a:custGeom>
          <a:noFill/>
          <a:ln cap="rnd" w="25560">
            <a:solidFill>
              <a:srgbClr val="ff66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80120" y="5100480"/>
            <a:ext cx="646200" cy="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11520" y="1498680"/>
            <a:ext cx="5964120" cy="1766880"/>
          </a:xfrm>
          <a:custGeom>
            <a:avLst/>
            <a:gdLst/>
            <a:ahLst/>
            <a:rect l="l" t="t" r="r" b="b"/>
            <a:pathLst>
              <a:path w="3757" h="1113">
                <a:moveTo>
                  <a:pt x="0" y="1112"/>
                </a:moveTo>
                <a:lnTo>
                  <a:pt x="0" y="0"/>
                </a:lnTo>
                <a:lnTo>
                  <a:pt x="3756" y="0"/>
                </a:lnTo>
                <a:lnTo>
                  <a:pt x="3756" y="1112"/>
                </a:lnTo>
              </a:path>
            </a:pathLst>
          </a:custGeom>
          <a:noFill/>
          <a:ln cap="rnd" w="25560">
            <a:solidFill>
              <a:srgbClr val="ff66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46800" y="3946680"/>
            <a:ext cx="1686240" cy="2049480"/>
          </a:xfrm>
          <a:custGeom>
            <a:avLst/>
            <a:gdLst/>
            <a:ahLst/>
            <a:rect l="l" t="t" r="r" b="b"/>
            <a:pathLst>
              <a:path w="1062" h="1291">
                <a:moveTo>
                  <a:pt x="1061" y="0"/>
                </a:moveTo>
                <a:lnTo>
                  <a:pt x="1061" y="1290"/>
                </a:lnTo>
                <a:lnTo>
                  <a:pt x="0" y="129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637480" y="5268960"/>
            <a:ext cx="50652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U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54760" y="5889600"/>
            <a:ext cx="164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DUSTRIAL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25920" y="5889600"/>
            <a:ext cx="12844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QUAL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2840" y="58896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26160" y="5994360"/>
            <a:ext cx="272880" cy="18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331880" y="5994360"/>
            <a:ext cx="273240" cy="18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06600" y="5889600"/>
            <a:ext cx="7048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V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080880" y="6012000"/>
            <a:ext cx="273240" cy="14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157480" y="6006960"/>
            <a:ext cx="272880" cy="18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73080" y="2205000"/>
            <a:ext cx="162252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BJECT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70160" y="3479760"/>
            <a:ext cx="912960" cy="18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98960" y="3632040"/>
            <a:ext cx="303120" cy="18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3660840"/>
            <a:ext cx="273240" cy="14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97720" y="2565360"/>
            <a:ext cx="306360" cy="2059200"/>
          </a:xfrm>
          <a:custGeom>
            <a:avLst/>
            <a:gdLst/>
            <a:ahLst/>
            <a:rect l="l" t="t" r="r" b="b"/>
            <a:pathLst>
              <a:path w="193" h="1297">
                <a:moveTo>
                  <a:pt x="192" y="0"/>
                </a:moveTo>
                <a:lnTo>
                  <a:pt x="0" y="0"/>
                </a:lnTo>
                <a:lnTo>
                  <a:pt x="0" y="1296"/>
                </a:lnTo>
                <a:lnTo>
                  <a:pt x="192" y="1296"/>
                </a:lnTo>
              </a:path>
            </a:pathLst>
          </a:custGeom>
          <a:noFill/>
          <a:ln cap="rnd" w="25560">
            <a:solidFill>
              <a:srgbClr val="ff66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68520" y="4165560"/>
            <a:ext cx="1066680" cy="6094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onction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inte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40120" y="4138560"/>
            <a:ext cx="914400" cy="6364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ahier 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37000" y="4470480"/>
            <a:ext cx="303120" cy="14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68520" y="370836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0" y="0"/>
                </a:moveTo>
                <a:lnTo>
                  <a:pt x="287" y="0"/>
                </a:lnTo>
                <a:lnTo>
                  <a:pt x="287" y="287"/>
                </a:lnTo>
              </a:path>
            </a:pathLst>
          </a:custGeom>
          <a:noFill/>
          <a:ln cap="rnd" w="25560">
            <a:solidFill>
              <a:srgbClr val="ff66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97320" y="371016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7"/>
                </a:moveTo>
                <a:lnTo>
                  <a:pt x="0" y="0"/>
                </a:lnTo>
                <a:lnTo>
                  <a:pt x="431" y="0"/>
                </a:lnTo>
              </a:path>
            </a:pathLst>
          </a:custGeom>
          <a:noFill/>
          <a:ln cap="rnd" w="25560">
            <a:solidFill>
              <a:srgbClr val="ff66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79640" y="549360"/>
            <a:ext cx="611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-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79640" y="549360"/>
            <a:ext cx="611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-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86040" y="1887480"/>
            <a:ext cx="1095120" cy="384120"/>
          </a:xfrm>
          <a:prstGeom prst="rect">
            <a:avLst/>
          </a:prstGeom>
          <a:gradFill rotWithShape="0">
            <a:gsLst>
              <a:gs pos="0">
                <a:srgbClr val="fffed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4724280"/>
            <a:ext cx="1095120" cy="384120"/>
          </a:xfrm>
          <a:prstGeom prst="rect">
            <a:avLst/>
          </a:prstGeom>
          <a:gradFill rotWithShape="0">
            <a:gsLst>
              <a:gs pos="0">
                <a:srgbClr val="e5eafe"/>
              </a:gs>
              <a:gs pos="100000">
                <a:srgbClr val="a1b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16000" y="1254240"/>
          <a:ext cx="97776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254240"/>
                    <a:ext cx="9777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886040" y="2297160"/>
            <a:ext cx="1095120" cy="2346120"/>
          </a:xfrm>
          <a:prstGeom prst="rect">
            <a:avLst/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RIM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27400" y="3278160"/>
            <a:ext cx="1095480" cy="2265480"/>
          </a:xfrm>
          <a:prstGeom prst="rect">
            <a:avLst/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ÉALI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06720" y="2787480"/>
            <a:ext cx="1095480" cy="2265480"/>
          </a:xfrm>
          <a:prstGeom prst="rect">
            <a:avLst/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656240"/>
            <a:ext cx="7824600" cy="0"/>
          </a:xfrm>
          <a:prstGeom prst="line">
            <a:avLst/>
          </a:prstGeom>
          <a:ln w="50760">
            <a:solidFill>
              <a:srgbClr val="ff505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52400" y="1138320"/>
            <a:ext cx="0" cy="5070240"/>
          </a:xfrm>
          <a:prstGeom prst="line">
            <a:avLst/>
          </a:prstGeom>
          <a:ln w="50760">
            <a:solidFill>
              <a:srgbClr val="ff505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06720" y="5078520"/>
            <a:ext cx="1095480" cy="465120"/>
          </a:xfrm>
          <a:prstGeom prst="rect">
            <a:avLst/>
          </a:prstGeom>
          <a:gradFill rotWithShape="0">
            <a:gsLst>
              <a:gs pos="0">
                <a:srgbClr val="e5eafe"/>
              </a:gs>
              <a:gs pos="100000">
                <a:srgbClr val="a1b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27400" y="5568840"/>
            <a:ext cx="1095480" cy="465120"/>
          </a:xfrm>
          <a:prstGeom prst="rect">
            <a:avLst/>
          </a:prstGeom>
          <a:gradFill rotWithShape="0">
            <a:gsLst>
              <a:gs pos="0">
                <a:srgbClr val="e5eafe"/>
              </a:gs>
              <a:gs pos="100000">
                <a:srgbClr val="a1b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06720" y="2297160"/>
            <a:ext cx="1095480" cy="465120"/>
          </a:xfrm>
          <a:prstGeom prst="rect">
            <a:avLst/>
          </a:prstGeom>
          <a:gradFill rotWithShape="0">
            <a:gsLst>
              <a:gs pos="0">
                <a:srgbClr val="fffed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27400" y="2787480"/>
            <a:ext cx="1095480" cy="465480"/>
          </a:xfrm>
          <a:prstGeom prst="rect">
            <a:avLst/>
          </a:prstGeom>
          <a:gradFill rotWithShape="0">
            <a:gsLst>
              <a:gs pos="0">
                <a:srgbClr val="fffed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4200" y="1874880"/>
            <a:ext cx="6002280" cy="0"/>
          </a:xfrm>
          <a:prstGeom prst="line">
            <a:avLst/>
          </a:prstGeom>
          <a:ln w="1260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37280" y="3265560"/>
            <a:ext cx="1519200" cy="0"/>
          </a:xfrm>
          <a:prstGeom prst="line">
            <a:avLst/>
          </a:prstGeom>
          <a:ln w="1260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37280" y="6046920"/>
            <a:ext cx="1519200" cy="0"/>
          </a:xfrm>
          <a:prstGeom prst="line">
            <a:avLst/>
          </a:prstGeom>
          <a:ln w="1260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4960" y="1876320"/>
            <a:ext cx="0" cy="138924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4960" y="3267000"/>
            <a:ext cx="0" cy="138924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4960" y="4657680"/>
            <a:ext cx="0" cy="138924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9320" y="2173320"/>
            <a:ext cx="25106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OIN DU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ATISF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59320" y="3645000"/>
            <a:ext cx="2510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OIN DU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TISF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60040" y="4954680"/>
            <a:ext cx="2211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PLUS do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COÛ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R LE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5000" y="1887480"/>
            <a:ext cx="1095480" cy="2755800"/>
          </a:xfrm>
          <a:prstGeom prst="rect">
            <a:avLst/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É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et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ère Noë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79640" y="549360"/>
            <a:ext cx="611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-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38960" y="1838160"/>
            <a:ext cx="0" cy="433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8320" y="2514600"/>
            <a:ext cx="197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326280" y="2409480"/>
            <a:ext cx="242640" cy="224280"/>
            <a:chOff x="6326280" y="2409480"/>
            <a:chExt cx="242640" cy="224280"/>
          </a:xfrm>
        </p:grpSpPr>
        <p:sp>
          <p:nvSpPr>
            <p:cNvPr id="155" name=""/>
            <p:cNvSpPr/>
            <p:nvPr/>
          </p:nvSpPr>
          <p:spPr>
            <a:xfrm>
              <a:off x="6330960" y="2414520"/>
              <a:ext cx="23796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326280" y="2409480"/>
              <a:ext cx="23796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07320" y="1752480"/>
            <a:ext cx="1091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760" y="2955960"/>
            <a:ext cx="890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t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7680" y="4251240"/>
            <a:ext cx="92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5546880"/>
            <a:ext cx="1229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exibi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286000"/>
            <a:ext cx="609480" cy="533520"/>
          </a:xfrm>
          <a:prstGeom prst="downArrow">
            <a:avLst>
              <a:gd name="adj1" fmla="val 50000"/>
              <a:gd name="adj2" fmla="val 25009"/>
            </a:avLst>
          </a:prstGeom>
          <a:gradFill rotWithShape="0">
            <a:gsLst>
              <a:gs pos="0">
                <a:srgbClr val="00ae00"/>
              </a:gs>
              <a:gs pos="100000">
                <a:srgbClr val="65c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581280"/>
            <a:ext cx="609480" cy="533520"/>
          </a:xfrm>
          <a:prstGeom prst="downArrow">
            <a:avLst>
              <a:gd name="adj1" fmla="val 50000"/>
              <a:gd name="adj2" fmla="val 25009"/>
            </a:avLst>
          </a:prstGeom>
          <a:gradFill rotWithShape="0">
            <a:gsLst>
              <a:gs pos="0">
                <a:srgbClr val="00ae00"/>
              </a:gs>
              <a:gs pos="100000">
                <a:srgbClr val="65c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876920"/>
            <a:ext cx="609480" cy="533160"/>
          </a:xfrm>
          <a:prstGeom prst="downArrow">
            <a:avLst>
              <a:gd name="adj1" fmla="val 50000"/>
              <a:gd name="adj2" fmla="val 25009"/>
            </a:avLst>
          </a:prstGeom>
          <a:gradFill rotWithShape="0">
            <a:gsLst>
              <a:gs pos="0">
                <a:srgbClr val="00ae00"/>
              </a:gs>
              <a:gs pos="100000">
                <a:srgbClr val="65c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32080" y="3244680"/>
            <a:ext cx="105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qualitati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540320"/>
            <a:ext cx="115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quantitati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50440" y="5911920"/>
            <a:ext cx="350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niveau d’importance de la perform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36960" y="3429000"/>
            <a:ext cx="30592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valeur de la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68600" y="1676520"/>
            <a:ext cx="1282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noncé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fo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78520" y="4556160"/>
            <a:ext cx="1724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acté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la fo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137160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mulation d’une fo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979640" y="549360"/>
            <a:ext cx="611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yse Fonctionnelle -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1866960"/>
            <a:ext cx="7924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100000"/>
              </a:lnSpc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NALYSE FONCTIONNELLE 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herche des fonctions nécessaires que le produit doit posséder pour satisfaire les besoins réels de tous les utilisat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ONCTIONS DE BASE OU DE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fc0128"/>
              </a:buClr>
              <a:buSzPct val="10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liquée à la rédaction du Cahier des Charges Fonctionnel (CdCF) et à l’Analyse de la Valeur (AV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2-21T14:35:28Z</dcterms:created>
  <dc:creator/>
  <dc:description/>
  <cp:keywords/>
  <dc:language>en-US</dc:language>
  <cp:lastModifiedBy>majot</cp:lastModifiedBy>
  <cp:lastPrinted>1997-01-15T08:38:52Z</cp:lastPrinted>
  <dcterms:modified xsi:type="dcterms:W3CDTF">2005-12-18T07:56:52Z</dcterms:modified>
  <cp:revision>34</cp:revision>
  <dc:subject/>
  <dc:title>Analyse fonctionnelle</dc:title>
</cp:coreProperties>
</file>