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936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AM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936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ONE 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61848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Prs M GABRIEL &amp; H MOL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961848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95B68-6485-4BC4-85DC-C99840993B26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2720" cy="45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0480" y="9376920"/>
            <a:ext cx="996480" cy="29124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1CA52-36A4-4537-9BAD-5E09C1298449}" type="slidenum">
              <a:rPr b="0" i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985680" y="743040"/>
            <a:ext cx="48801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772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00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772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00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95200" y="74520"/>
            <a:ext cx="77641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4772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100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4772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100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95200" y="74520"/>
            <a:ext cx="77641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76320"/>
            <a:ext cx="534960" cy="4808520"/>
          </a:xfrm>
          <a:custGeom>
            <a:avLst/>
            <a:gdLst>
              <a:gd name="textAreaLeft" fmla="*/ 360 w 534960"/>
              <a:gd name="textAreaRight" fmla="*/ 534600 w 534960"/>
              <a:gd name="textAreaTop" fmla="*/ 360 h 4808520"/>
              <a:gd name="textAreaBottom" fmla="*/ 4808160 h 4808520"/>
            </a:gdLst>
            <a:ahLst/>
            <a:rect l="textAreaLeft" t="textAreaTop" r="textAreaRight" b="textAreaBottom"/>
            <a:pathLst>
              <a:path w="21600" h="194037">
                <a:moveTo>
                  <a:pt x="64" y="0"/>
                </a:moveTo>
                <a:arcTo wR="64" hR="64" stAng="16200000" swAng="-5400000"/>
                <a:lnTo>
                  <a:pt x="0" y="193973"/>
                </a:lnTo>
                <a:arcTo wR="64" hR="64" stAng="10800000" swAng="-5400000"/>
                <a:lnTo>
                  <a:pt x="21536" y="194037"/>
                </a:lnTo>
                <a:arcTo wR="64" hR="64" stAng="5400000" swAng="-5400000"/>
                <a:lnTo>
                  <a:pt x="21600" y="64"/>
                </a:lnTo>
                <a:arcTo wR="64" hR="64" stAng="0" swAng="-5400000"/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91360" y="65437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31D54-32F9-4D01-8E42-9C8755477F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66680" y="6477120"/>
            <a:ext cx="1905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2/12/04 08: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33920" y="6477120"/>
            <a:ext cx="28954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1160" y="1219320"/>
            <a:ext cx="1440" cy="4267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6000"/>
              </a:lnSpc>
              <a:spcBef>
                <a:spcPts val="700"/>
              </a:spcBef>
              <a:buClr>
                <a:srgbClr val="c01313"/>
              </a:buClr>
              <a:buFont typeface="Monotype Sorts" charset="2"/>
              <a:buChar char="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1" marL="735120" indent="-277920">
              <a:lnSpc>
                <a:spcPct val="76000"/>
              </a:lnSpc>
              <a:spcBef>
                <a:spcPts val="700"/>
              </a:spcBef>
              <a:buClr>
                <a:srgbClr val="008000"/>
              </a:buClr>
              <a:buFont typeface="Monotype Sorts" charset="2"/>
              <a:buChar char="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3" marL="16002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4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5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6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76320"/>
            <a:ext cx="534960" cy="4808520"/>
          </a:xfrm>
          <a:custGeom>
            <a:avLst/>
            <a:gdLst>
              <a:gd name="textAreaLeft" fmla="*/ 360 w 534960"/>
              <a:gd name="textAreaRight" fmla="*/ 534600 w 534960"/>
              <a:gd name="textAreaTop" fmla="*/ 360 h 4808520"/>
              <a:gd name="textAreaBottom" fmla="*/ 4808160 h 4808520"/>
            </a:gdLst>
            <a:ahLst/>
            <a:rect l="textAreaLeft" t="textAreaTop" r="textAreaRight" b="textAreaBottom"/>
            <a:pathLst>
              <a:path w="21600" h="194037">
                <a:moveTo>
                  <a:pt x="64" y="0"/>
                </a:moveTo>
                <a:arcTo wR="64" hR="64" stAng="16200000" swAng="-5400000"/>
                <a:lnTo>
                  <a:pt x="0" y="193973"/>
                </a:lnTo>
                <a:arcTo wR="64" hR="64" stAng="10800000" swAng="-5400000"/>
                <a:lnTo>
                  <a:pt x="21536" y="194037"/>
                </a:lnTo>
                <a:arcTo wR="64" hR="64" stAng="5400000" swAng="-5400000"/>
                <a:lnTo>
                  <a:pt x="21600" y="64"/>
                </a:lnTo>
                <a:arcTo wR="64" hR="64" stAng="0" swAng="-5400000"/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41920" y="6248520"/>
            <a:ext cx="189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BF264-610A-4CF3-A9CB-7606F3C3CD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0"/>
          <a:ext cx="1114560" cy="847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1145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703440" y="6248520"/>
            <a:ext cx="18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2/12/04 08: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65480" y="6248520"/>
            <a:ext cx="28130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 Gabriel UHP ES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160" y="1219320"/>
            <a:ext cx="1440" cy="4267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2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Etude d'une batteri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5867280"/>
            <a:ext cx="1905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62120" y="2133720"/>
            <a:ext cx="6955560" cy="3809880"/>
            <a:chOff x="762120" y="2133720"/>
            <a:chExt cx="6955560" cy="380988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923760" y="2438280"/>
              <a:ext cx="662004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553080" y="2895480"/>
              <a:ext cx="990720" cy="2438640"/>
            </a:xfrm>
            <a:custGeom>
              <a:avLst/>
              <a:gdLst>
                <a:gd name="textAreaLeft" fmla="*/ 360 w 990720"/>
                <a:gd name="textAreaRight" fmla="*/ 990360 w 990720"/>
                <a:gd name="textAreaTop" fmla="*/ 360 h 2438640"/>
                <a:gd name="textAreaBottom" fmla="*/ 2438280 h 2438640"/>
              </a:gdLst>
              <a:ahLst/>
              <a:rect l="textAreaLeft" t="textAreaTop" r="textAreaRight" b="textAreaBottom"/>
              <a:pathLst>
                <a:path w="21600" h="53157">
                  <a:moveTo>
                    <a:pt x="34" y="0"/>
                  </a:moveTo>
                  <a:arcTo wR="34" hR="34" stAng="16200000" swAng="-5400000"/>
                  <a:lnTo>
                    <a:pt x="0" y="53123"/>
                  </a:lnTo>
                  <a:arcTo wR="34" hR="34" stAng="10800000" swAng="-5400000"/>
                  <a:lnTo>
                    <a:pt x="21566" y="53157"/>
                  </a:lnTo>
                  <a:arcTo wR="34" hR="34" stAng="5400000" swAng="-5400000"/>
                  <a:lnTo>
                    <a:pt x="21600" y="34"/>
                  </a:lnTo>
                  <a:arcTo wR="34" hR="34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486400" y="3344760"/>
              <a:ext cx="1066680" cy="47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334120" y="3877920"/>
              <a:ext cx="121896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5880" y="4876920"/>
              <a:ext cx="457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658960" y="3352680"/>
              <a:ext cx="15400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658600" y="4114800"/>
              <a:ext cx="1692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658600" y="4876920"/>
              <a:ext cx="11588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26520" y="3078000"/>
              <a:ext cx="769320" cy="295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Times New Roman"/>
                </a:rPr>
                <a:t>COS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02040" y="3679920"/>
              <a:ext cx="818280" cy="295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Times New Roman"/>
                </a:rPr>
                <a:t>BOR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11400" y="4670280"/>
              <a:ext cx="1106280" cy="295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Times New Roman"/>
                </a:rPr>
                <a:t>BATTER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658960" y="4716360"/>
              <a:ext cx="549360" cy="9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19720" y="2133720"/>
              <a:ext cx="19047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2133720"/>
              <a:ext cx="1828800" cy="3809880"/>
            </a:xfrm>
            <a:custGeom>
              <a:avLst/>
              <a:gdLst>
                <a:gd name="textAreaLeft" fmla="*/ 360 w 1828800"/>
                <a:gd name="textAreaRight" fmla="*/ 1828440 w 1828800"/>
                <a:gd name="textAreaTop" fmla="*/ 360 h 3809880"/>
                <a:gd name="textAreaBottom" fmla="*/ 3809520 h 3809880"/>
              </a:gdLst>
              <a:ahLst/>
              <a:rect l="textAreaLeft" t="textAreaTop" r="textAreaRight" b="textAreaBottom"/>
              <a:pathLst>
                <a:path w="21600" h="44994">
                  <a:moveTo>
                    <a:pt x="18" y="0"/>
                  </a:moveTo>
                  <a:arcTo wR="18" hR="18" stAng="16200000" swAng="-5400000"/>
                  <a:lnTo>
                    <a:pt x="0" y="44976"/>
                  </a:lnTo>
                  <a:arcTo wR="18" hR="18" stAng="10800000" swAng="-5400000"/>
                  <a:lnTo>
                    <a:pt x="21582" y="44994"/>
                  </a:lnTo>
                  <a:arcTo wR="18" hR="18" stAng="5400000" swAng="-5400000"/>
                  <a:lnTo>
                    <a:pt x="21600" y="18"/>
                  </a:lnTo>
                  <a:arcTo wR="18" hR="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331280" y="3222720"/>
              <a:ext cx="1302840" cy="2352960"/>
              <a:chOff x="1331280" y="3222720"/>
              <a:chExt cx="1302840" cy="2352960"/>
            </a:xfrm>
          </p:grpSpPr>
          <p:sp>
            <p:nvSpPr>
              <p:cNvPr id="119" name=""/>
              <p:cNvSpPr/>
              <p:nvPr/>
            </p:nvSpPr>
            <p:spPr>
              <a:xfrm>
                <a:off x="2121480" y="3984480"/>
                <a:ext cx="48312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0000ff"/>
                    </a:solidFill>
                    <a:latin typeface="Times New Roman"/>
                  </a:rPr>
                  <a:t>V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796760" y="3222720"/>
                <a:ext cx="82728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0000ff"/>
                    </a:solidFill>
                    <a:latin typeface="Times New Roman"/>
                  </a:rPr>
                  <a:t>ECRO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22200" y="4518000"/>
                <a:ext cx="48312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0000ff"/>
                    </a:solidFill>
                    <a:latin typeface="Times New Roman"/>
                  </a:rPr>
                  <a:t>FI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31280" y="5280120"/>
                <a:ext cx="130284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0000ff"/>
                    </a:solidFill>
                    <a:latin typeface="Times New Roman"/>
                  </a:rPr>
                  <a:t>LANGUET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58960" y="2911320"/>
            <a:ext cx="4025880" cy="128268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56640" y="3240000"/>
            <a:ext cx="255852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SE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SSE / BAT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5960" y="4530600"/>
            <a:ext cx="2882880" cy="74952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39320" y="4764240"/>
            <a:ext cx="203760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1640" y="4645080"/>
            <a:ext cx="2959200" cy="74916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89080" y="4840200"/>
            <a:ext cx="18820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ten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01760" y="1692360"/>
            <a:ext cx="5473800" cy="151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1076400"/>
            <a:ext cx="4724640" cy="1371600"/>
          </a:xfrm>
          <a:prstGeom prst="roundRect">
            <a:avLst>
              <a:gd name="adj" fmla="val 1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54640" y="1996920"/>
            <a:ext cx="1282680" cy="444600"/>
          </a:xfrm>
          <a:prstGeom prst="ellipse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96000" y="2021040"/>
            <a:ext cx="48132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1120" y="2448000"/>
            <a:ext cx="1681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244800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60480" y="2554200"/>
            <a:ext cx="5104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734920" y="4124160"/>
            <a:ext cx="32076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4048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1400" y="4154400"/>
            <a:ext cx="62460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01800" y="4154400"/>
            <a:ext cx="62460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0592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Analyse fonctionnelle externe</a:t>
            </a:r>
            <a:br>
              <a:rPr sz="3200"/>
            </a:br>
            <a:r>
              <a:rPr b="1" lang="en-GB" sz="3200" spc="-1" strike="noStrike">
                <a:solidFill>
                  <a:srgbClr val="ccccff"/>
                </a:solidFill>
                <a:latin typeface="Arial"/>
              </a:rPr>
              <a:t>Batteri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32160" y="3011400"/>
            <a:ext cx="7358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P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76120" y="2992320"/>
            <a:ext cx="2546280" cy="98640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mettre 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rant de la bo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 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2960" y="5526000"/>
            <a:ext cx="804960" cy="3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1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68720" y="5545080"/>
            <a:ext cx="214092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ésister 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'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1560" y="5450040"/>
            <a:ext cx="85032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2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03040" y="5450040"/>
            <a:ext cx="189576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toriser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ten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1380960"/>
            <a:ext cx="609480" cy="533520"/>
          </a:xfrm>
          <a:prstGeom prst="roundRect">
            <a:avLst>
              <a:gd name="adj" fmla="val 29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5960" y="1901880"/>
            <a:ext cx="2425680" cy="596880"/>
          </a:xfrm>
          <a:prstGeom prst="ellipse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58960" y="2021040"/>
            <a:ext cx="19414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rne Bat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Analyse fonctionnelle intern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5334120"/>
            <a:ext cx="8001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43440" y="2239920"/>
            <a:ext cx="11350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02160" y="2216160"/>
            <a:ext cx="1739880" cy="444600"/>
          </a:xfrm>
          <a:prstGeom prst="roundRect">
            <a:avLst>
              <a:gd name="adj" fmla="val 35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94000" y="5668920"/>
            <a:ext cx="48132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02160" y="5568840"/>
            <a:ext cx="1739880" cy="520920"/>
          </a:xfrm>
          <a:prstGeom prst="roundRect">
            <a:avLst>
              <a:gd name="adj" fmla="val 3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5000" y="2666880"/>
            <a:ext cx="14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2895480"/>
            <a:ext cx="8001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3581280"/>
            <a:ext cx="14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4267080"/>
            <a:ext cx="144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5029200"/>
            <a:ext cx="144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4876920"/>
            <a:ext cx="1981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4191120"/>
            <a:ext cx="1981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3276720"/>
            <a:ext cx="1981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3505320"/>
            <a:ext cx="198108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2666880"/>
            <a:ext cx="1800" cy="45720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3581280"/>
            <a:ext cx="1800" cy="22860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267080"/>
            <a:ext cx="1800" cy="30492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5029200"/>
            <a:ext cx="1800" cy="53352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135160" y="3049560"/>
            <a:ext cx="3046320" cy="380880"/>
            <a:chOff x="2135160" y="3049560"/>
            <a:chExt cx="3046320" cy="380880"/>
          </a:xfrm>
        </p:grpSpPr>
        <p:grpSp>
          <p:nvGrpSpPr>
            <p:cNvPr id="170" name=""/>
            <p:cNvGrpSpPr/>
            <p:nvPr/>
          </p:nvGrpSpPr>
          <p:grpSpPr>
            <a:xfrm>
              <a:off x="3657600" y="3049560"/>
              <a:ext cx="1523880" cy="380880"/>
              <a:chOff x="3657600" y="3049560"/>
              <a:chExt cx="1523880" cy="380880"/>
            </a:xfrm>
          </p:grpSpPr>
          <p:sp>
            <p:nvSpPr>
              <p:cNvPr id="171" name=""/>
              <p:cNvSpPr/>
              <p:nvPr/>
            </p:nvSpPr>
            <p:spPr>
              <a:xfrm>
                <a:off x="3657600" y="3049560"/>
                <a:ext cx="1523880" cy="38088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57600" y="3049560"/>
                <a:ext cx="1523880" cy="380880"/>
              </a:xfrm>
              <a:custGeom>
                <a:avLst/>
                <a:gdLst/>
                <a:ahLst/>
                <a:rect l="l" t="t" r="r" b="b"/>
                <a:pathLst>
                  <a:path w="4233" h="1059">
                    <a:moveTo>
                      <a:pt x="4232" y="1058"/>
                    </a:moveTo>
                    <a:lnTo>
                      <a:pt x="4226" y="1003"/>
                    </a:lnTo>
                    <a:lnTo>
                      <a:pt x="4209" y="947"/>
                    </a:lnTo>
                    <a:lnTo>
                      <a:pt x="4180" y="892"/>
                    </a:lnTo>
                    <a:lnTo>
                      <a:pt x="4140" y="838"/>
                    </a:lnTo>
                    <a:lnTo>
                      <a:pt x="4088" y="784"/>
                    </a:lnTo>
                    <a:lnTo>
                      <a:pt x="4025" y="731"/>
                    </a:lnTo>
                    <a:lnTo>
                      <a:pt x="3951" y="679"/>
                    </a:lnTo>
                    <a:lnTo>
                      <a:pt x="3866" y="628"/>
                    </a:lnTo>
                    <a:lnTo>
                      <a:pt x="3771" y="578"/>
                    </a:lnTo>
                    <a:lnTo>
                      <a:pt x="3665" y="529"/>
                    </a:lnTo>
                    <a:lnTo>
                      <a:pt x="3549" y="482"/>
                    </a:lnTo>
                    <a:lnTo>
                      <a:pt x="3424" y="436"/>
                    </a:lnTo>
                    <a:lnTo>
                      <a:pt x="3289" y="392"/>
                    </a:lnTo>
                    <a:lnTo>
                      <a:pt x="3145" y="350"/>
                    </a:lnTo>
                    <a:lnTo>
                      <a:pt x="2992" y="310"/>
                    </a:lnTo>
                    <a:lnTo>
                      <a:pt x="2832" y="272"/>
                    </a:lnTo>
                    <a:lnTo>
                      <a:pt x="2663" y="236"/>
                    </a:lnTo>
                    <a:lnTo>
                      <a:pt x="2488" y="202"/>
                    </a:lnTo>
                    <a:lnTo>
                      <a:pt x="2305" y="171"/>
                    </a:lnTo>
                    <a:lnTo>
                      <a:pt x="2116" y="142"/>
                    </a:lnTo>
                    <a:lnTo>
                      <a:pt x="1921" y="115"/>
                    </a:lnTo>
                    <a:lnTo>
                      <a:pt x="1721" y="91"/>
                    </a:lnTo>
                    <a:lnTo>
                      <a:pt x="1517" y="70"/>
                    </a:lnTo>
                    <a:lnTo>
                      <a:pt x="1308" y="52"/>
                    </a:lnTo>
                    <a:lnTo>
                      <a:pt x="1095" y="36"/>
                    </a:lnTo>
                    <a:lnTo>
                      <a:pt x="880" y="23"/>
                    </a:lnTo>
                    <a:lnTo>
                      <a:pt x="662" y="13"/>
                    </a:lnTo>
                    <a:lnTo>
                      <a:pt x="442" y="6"/>
                    </a:lnTo>
                    <a:lnTo>
                      <a:pt x="221" y="1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135160" y="3049560"/>
              <a:ext cx="1522440" cy="380880"/>
              <a:chOff x="2135160" y="3049560"/>
              <a:chExt cx="1522440" cy="380880"/>
            </a:xfrm>
          </p:grpSpPr>
          <p:sp>
            <p:nvSpPr>
              <p:cNvPr id="174" name=""/>
              <p:cNvSpPr/>
              <p:nvPr/>
            </p:nvSpPr>
            <p:spPr>
              <a:xfrm>
                <a:off x="2135160" y="3049560"/>
                <a:ext cx="1522440" cy="38088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35160" y="3049560"/>
                <a:ext cx="1522440" cy="380880"/>
              </a:xfrm>
              <a:custGeom>
                <a:avLst/>
                <a:gdLst/>
                <a:ahLst/>
                <a:rect l="l" t="t" r="r" b="b"/>
                <a:pathLst>
                  <a:path w="4229" h="1059">
                    <a:moveTo>
                      <a:pt x="4228" y="0"/>
                    </a:moveTo>
                    <a:lnTo>
                      <a:pt x="4007" y="1"/>
                    </a:lnTo>
                    <a:lnTo>
                      <a:pt x="3786" y="6"/>
                    </a:lnTo>
                    <a:lnTo>
                      <a:pt x="3567" y="13"/>
                    </a:lnTo>
                    <a:lnTo>
                      <a:pt x="3349" y="23"/>
                    </a:lnTo>
                    <a:lnTo>
                      <a:pt x="3134" y="36"/>
                    </a:lnTo>
                    <a:lnTo>
                      <a:pt x="2921" y="52"/>
                    </a:lnTo>
                    <a:lnTo>
                      <a:pt x="2713" y="70"/>
                    </a:lnTo>
                    <a:lnTo>
                      <a:pt x="2508" y="91"/>
                    </a:lnTo>
                    <a:lnTo>
                      <a:pt x="2309" y="115"/>
                    </a:lnTo>
                    <a:lnTo>
                      <a:pt x="2114" y="142"/>
                    </a:lnTo>
                    <a:lnTo>
                      <a:pt x="1925" y="171"/>
                    </a:lnTo>
                    <a:lnTo>
                      <a:pt x="1743" y="202"/>
                    </a:lnTo>
                    <a:lnTo>
                      <a:pt x="1567" y="236"/>
                    </a:lnTo>
                    <a:lnTo>
                      <a:pt x="1399" y="272"/>
                    </a:lnTo>
                    <a:lnTo>
                      <a:pt x="1238" y="310"/>
                    </a:lnTo>
                    <a:lnTo>
                      <a:pt x="1086" y="350"/>
                    </a:lnTo>
                    <a:lnTo>
                      <a:pt x="942" y="392"/>
                    </a:lnTo>
                    <a:lnTo>
                      <a:pt x="807" y="436"/>
                    </a:lnTo>
                    <a:lnTo>
                      <a:pt x="682" y="482"/>
                    </a:lnTo>
                    <a:lnTo>
                      <a:pt x="566" y="529"/>
                    </a:lnTo>
                    <a:lnTo>
                      <a:pt x="461" y="578"/>
                    </a:lnTo>
                    <a:lnTo>
                      <a:pt x="366" y="628"/>
                    </a:lnTo>
                    <a:lnTo>
                      <a:pt x="281" y="679"/>
                    </a:lnTo>
                    <a:lnTo>
                      <a:pt x="207" y="731"/>
                    </a:lnTo>
                    <a:lnTo>
                      <a:pt x="144" y="784"/>
                    </a:lnTo>
                    <a:lnTo>
                      <a:pt x="92" y="838"/>
                    </a:lnTo>
                    <a:lnTo>
                      <a:pt x="52" y="892"/>
                    </a:lnTo>
                    <a:lnTo>
                      <a:pt x="23" y="947"/>
                    </a:lnTo>
                    <a:lnTo>
                      <a:pt x="6" y="1003"/>
                    </a:lnTo>
                    <a:lnTo>
                      <a:pt x="0" y="1058"/>
                    </a:lnTo>
                  </a:path>
                </a:pathLst>
              </a:custGeom>
              <a:noFill/>
              <a:ln w="381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2440080" y="3581280"/>
            <a:ext cx="2133360" cy="304920"/>
            <a:chOff x="2440080" y="3581280"/>
            <a:chExt cx="2133360" cy="304920"/>
          </a:xfrm>
        </p:grpSpPr>
        <p:sp>
          <p:nvSpPr>
            <p:cNvPr id="177" name=""/>
            <p:cNvSpPr/>
            <p:nvPr/>
          </p:nvSpPr>
          <p:spPr>
            <a:xfrm>
              <a:off x="2440080" y="3581280"/>
              <a:ext cx="213336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40080" y="3581280"/>
              <a:ext cx="2133360" cy="304920"/>
            </a:xfrm>
            <a:custGeom>
              <a:avLst/>
              <a:gdLst/>
              <a:ahLst/>
              <a:rect l="l" t="t" r="r" b="b"/>
              <a:pathLst>
                <a:path w="5927" h="848">
                  <a:moveTo>
                    <a:pt x="0" y="0"/>
                  </a:moveTo>
                  <a:lnTo>
                    <a:pt x="8" y="44"/>
                  </a:lnTo>
                  <a:lnTo>
                    <a:pt x="32" y="89"/>
                  </a:lnTo>
                  <a:lnTo>
                    <a:pt x="73" y="132"/>
                  </a:lnTo>
                  <a:lnTo>
                    <a:pt x="129" y="176"/>
                  </a:lnTo>
                  <a:lnTo>
                    <a:pt x="202" y="219"/>
                  </a:lnTo>
                  <a:lnTo>
                    <a:pt x="290" y="262"/>
                  </a:lnTo>
                  <a:lnTo>
                    <a:pt x="394" y="304"/>
                  </a:lnTo>
                  <a:lnTo>
                    <a:pt x="512" y="345"/>
                  </a:lnTo>
                  <a:lnTo>
                    <a:pt x="646" y="385"/>
                  </a:lnTo>
                  <a:lnTo>
                    <a:pt x="794" y="424"/>
                  </a:lnTo>
                  <a:lnTo>
                    <a:pt x="956" y="461"/>
                  </a:lnTo>
                  <a:lnTo>
                    <a:pt x="1132" y="498"/>
                  </a:lnTo>
                  <a:lnTo>
                    <a:pt x="1321" y="533"/>
                  </a:lnTo>
                  <a:lnTo>
                    <a:pt x="1522" y="567"/>
                  </a:lnTo>
                  <a:lnTo>
                    <a:pt x="1736" y="599"/>
                  </a:lnTo>
                  <a:lnTo>
                    <a:pt x="1961" y="629"/>
                  </a:lnTo>
                  <a:lnTo>
                    <a:pt x="2197" y="658"/>
                  </a:lnTo>
                  <a:lnTo>
                    <a:pt x="2443" y="685"/>
                  </a:lnTo>
                  <a:lnTo>
                    <a:pt x="2698" y="710"/>
                  </a:lnTo>
                  <a:lnTo>
                    <a:pt x="2963" y="734"/>
                  </a:lnTo>
                  <a:lnTo>
                    <a:pt x="3236" y="755"/>
                  </a:lnTo>
                  <a:lnTo>
                    <a:pt x="3516" y="774"/>
                  </a:lnTo>
                  <a:lnTo>
                    <a:pt x="3802" y="791"/>
                  </a:lnTo>
                  <a:lnTo>
                    <a:pt x="4095" y="806"/>
                  </a:lnTo>
                  <a:lnTo>
                    <a:pt x="4392" y="818"/>
                  </a:lnTo>
                  <a:lnTo>
                    <a:pt x="4694" y="828"/>
                  </a:lnTo>
                  <a:lnTo>
                    <a:pt x="4999" y="837"/>
                  </a:lnTo>
                  <a:lnTo>
                    <a:pt x="5307" y="842"/>
                  </a:lnTo>
                  <a:lnTo>
                    <a:pt x="5616" y="846"/>
                  </a:lnTo>
                  <a:lnTo>
                    <a:pt x="5926" y="847"/>
                  </a:lnTo>
                </a:path>
              </a:pathLst>
            </a:custGeom>
            <a:noFill/>
            <a:ln w="381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800600" y="3581280"/>
            <a:ext cx="228600" cy="533520"/>
            <a:chOff x="4800600" y="3581280"/>
            <a:chExt cx="228600" cy="533520"/>
          </a:xfrm>
        </p:grpSpPr>
        <p:sp>
          <p:nvSpPr>
            <p:cNvPr id="180" name=""/>
            <p:cNvSpPr/>
            <p:nvPr/>
          </p:nvSpPr>
          <p:spPr>
            <a:xfrm>
              <a:off x="4800600" y="3581280"/>
              <a:ext cx="228600" cy="533520"/>
            </a:xfrm>
            <a:custGeom>
              <a:avLst/>
              <a:gdLst>
                <a:gd name="textAreaLeft" fmla="*/ 360 w 228600"/>
                <a:gd name="textAreaRight" fmla="*/ 228240 w 228600"/>
                <a:gd name="textAreaTop" fmla="*/ 360 h 533520"/>
                <a:gd name="textAreaBottom" fmla="*/ 533160 h 533520"/>
              </a:gdLst>
              <a:ahLst/>
              <a:rect l="textAreaLeft" t="textAreaTop" r="textAreaRight" b="textAreaBottom"/>
              <a:pathLst>
                <a:path w="21600" h="50366">
                  <a:moveTo>
                    <a:pt x="150" y="0"/>
                  </a:moveTo>
                  <a:arcTo wR="150" hR="150" stAng="16200000" swAng="-5400000"/>
                  <a:lnTo>
                    <a:pt x="0" y="50216"/>
                  </a:lnTo>
                  <a:arcTo wR="150" hR="150" stAng="10800000" swAng="-5400000"/>
                  <a:lnTo>
                    <a:pt x="21450" y="50366"/>
                  </a:lnTo>
                  <a:arcTo wR="150" hR="150" stAng="5400000" swAng="-5400000"/>
                  <a:lnTo>
                    <a:pt x="21600" y="150"/>
                  </a:lnTo>
                  <a:arcTo wR="150" hR="15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00600" y="3581280"/>
              <a:ext cx="228600" cy="533520"/>
            </a:xfrm>
            <a:custGeom>
              <a:avLst/>
              <a:gdLst/>
              <a:ahLst/>
              <a:rect l="l" t="t" r="r" b="b"/>
              <a:pathLst>
                <a:path w="636" h="1483">
                  <a:moveTo>
                    <a:pt x="0" y="1482"/>
                  </a:moveTo>
                  <a:lnTo>
                    <a:pt x="33" y="1480"/>
                  </a:lnTo>
                  <a:lnTo>
                    <a:pt x="66" y="1474"/>
                  </a:lnTo>
                  <a:lnTo>
                    <a:pt x="99" y="1464"/>
                  </a:lnTo>
                  <a:lnTo>
                    <a:pt x="132" y="1450"/>
                  </a:lnTo>
                  <a:lnTo>
                    <a:pt x="164" y="1432"/>
                  </a:lnTo>
                  <a:lnTo>
                    <a:pt x="196" y="1409"/>
                  </a:lnTo>
                  <a:lnTo>
                    <a:pt x="228" y="1384"/>
                  </a:lnTo>
                  <a:lnTo>
                    <a:pt x="258" y="1354"/>
                  </a:lnTo>
                  <a:lnTo>
                    <a:pt x="288" y="1320"/>
                  </a:lnTo>
                  <a:lnTo>
                    <a:pt x="318" y="1283"/>
                  </a:lnTo>
                  <a:lnTo>
                    <a:pt x="346" y="1243"/>
                  </a:lnTo>
                  <a:lnTo>
                    <a:pt x="373" y="1199"/>
                  </a:lnTo>
                  <a:lnTo>
                    <a:pt x="400" y="1152"/>
                  </a:lnTo>
                  <a:lnTo>
                    <a:pt x="425" y="1101"/>
                  </a:lnTo>
                  <a:lnTo>
                    <a:pt x="449" y="1048"/>
                  </a:lnTo>
                  <a:lnTo>
                    <a:pt x="472" y="992"/>
                  </a:lnTo>
                  <a:lnTo>
                    <a:pt x="493" y="933"/>
                  </a:lnTo>
                  <a:lnTo>
                    <a:pt x="514" y="871"/>
                  </a:lnTo>
                  <a:lnTo>
                    <a:pt x="533" y="807"/>
                  </a:lnTo>
                  <a:lnTo>
                    <a:pt x="550" y="741"/>
                  </a:lnTo>
                  <a:lnTo>
                    <a:pt x="566" y="673"/>
                  </a:lnTo>
                  <a:lnTo>
                    <a:pt x="580" y="603"/>
                  </a:lnTo>
                  <a:lnTo>
                    <a:pt x="593" y="531"/>
                  </a:lnTo>
                  <a:lnTo>
                    <a:pt x="604" y="458"/>
                  </a:lnTo>
                  <a:lnTo>
                    <a:pt x="613" y="384"/>
                  </a:lnTo>
                  <a:lnTo>
                    <a:pt x="621" y="308"/>
                  </a:lnTo>
                  <a:lnTo>
                    <a:pt x="627" y="232"/>
                  </a:lnTo>
                  <a:lnTo>
                    <a:pt x="632" y="155"/>
                  </a:lnTo>
                  <a:lnTo>
                    <a:pt x="634" y="78"/>
                  </a:lnTo>
                  <a:lnTo>
                    <a:pt x="635" y="0"/>
                  </a:lnTo>
                </a:path>
              </a:pathLst>
            </a:custGeom>
            <a:noFill/>
            <a:ln w="381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68240" y="31305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40760" y="3154320"/>
            <a:ext cx="11199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02160" y="31305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2240" y="3154320"/>
            <a:ext cx="9219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4267080"/>
            <a:ext cx="144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00160" y="4057560"/>
            <a:ext cx="3314880" cy="723960"/>
          </a:xfrm>
          <a:prstGeom prst="ellipse">
            <a:avLst/>
          </a:prstGeom>
          <a:noFill/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8240" y="38163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7680" y="3840120"/>
            <a:ext cx="9064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cr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8240" y="4578480"/>
            <a:ext cx="1739880" cy="44424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17600" y="4602240"/>
            <a:ext cx="5666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02160" y="38163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59280" y="3840120"/>
            <a:ext cx="9507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02160" y="4578480"/>
            <a:ext cx="1739880" cy="44424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09520" y="4602240"/>
            <a:ext cx="14032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ngu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34320" y="3200400"/>
            <a:ext cx="1440" cy="15228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4360" y="3100320"/>
            <a:ext cx="167472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prin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34320" y="3886200"/>
            <a:ext cx="1440" cy="152280"/>
          </a:xfrm>
          <a:prstGeom prst="line">
            <a:avLst/>
          </a:prstGeom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96400" y="3786120"/>
            <a:ext cx="145836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bouc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critères de valeur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9040" y="5273640"/>
            <a:ext cx="8369280" cy="29196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9040" y="4587840"/>
            <a:ext cx="8369280" cy="29196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9040" y="3368520"/>
            <a:ext cx="8369280" cy="29232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9040" y="1844640"/>
            <a:ext cx="8369280" cy="29196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9040" y="1387440"/>
            <a:ext cx="8369280" cy="444600"/>
          </a:xfrm>
          <a:prstGeom prst="roundRect">
            <a:avLst>
              <a:gd name="adj" fmla="val 356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1960" y="1503360"/>
            <a:ext cx="10072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93000" y="1503360"/>
            <a:ext cx="7117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VER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73720" y="1503360"/>
            <a:ext cx="14781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ILIEU ORI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81600" y="1503360"/>
            <a:ext cx="19612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ILIEU DESTINAT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2560" y="1838160"/>
            <a:ext cx="8382240" cy="1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3760" y="1884240"/>
            <a:ext cx="7466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p (él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5560" y="1380960"/>
            <a:ext cx="1800" cy="4800600"/>
          </a:xfrm>
          <a:prstGeom prst="line">
            <a:avLst/>
          </a:prstGeom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87720" y="1860480"/>
            <a:ext cx="10620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Transmet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0440" y="1860480"/>
            <a:ext cx="623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Bo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23640" y="1860480"/>
            <a:ext cx="3945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59280" y="1380960"/>
            <a:ext cx="1440" cy="4800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3880" y="1380960"/>
            <a:ext cx="1440" cy="4800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93120" y="2189160"/>
            <a:ext cx="1092600" cy="99648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ure cour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sité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30320" y="2189160"/>
            <a:ext cx="967680" cy="1179000"/>
          </a:xfrm>
          <a:custGeom>
            <a:avLst/>
            <a:gdLst>
              <a:gd name="textAreaLeft" fmla="*/ 360 w 967680"/>
              <a:gd name="textAreaRight" fmla="*/ 967320 w 967680"/>
              <a:gd name="textAreaTop" fmla="*/ 360 h 1179000"/>
              <a:gd name="textAreaBottom" fmla="*/ 1178640 h 1179000"/>
            </a:gdLst>
            <a:ahLst/>
            <a:rect l="textAreaLeft" t="textAreaTop" r="textAreaRight" b="textAreaBottom"/>
            <a:pathLst>
              <a:path w="21600" h="26315">
                <a:moveTo>
                  <a:pt x="35" y="0"/>
                </a:moveTo>
                <a:arcTo wR="35" hR="35" stAng="16200000" swAng="-5400000"/>
                <a:lnTo>
                  <a:pt x="0" y="26280"/>
                </a:lnTo>
                <a:arcTo wR="35" hR="35" stAng="10800000" swAng="-5400000"/>
                <a:lnTo>
                  <a:pt x="21565" y="26315"/>
                </a:lnTo>
                <a:arcTo wR="35" hR="35" stAng="5400000" swAng="-5400000"/>
                <a:lnTo>
                  <a:pt x="21600" y="35"/>
                </a:lnTo>
                <a:arcTo wR="35" hR="3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ètre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cité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sité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160" y="1393920"/>
            <a:ext cx="8356680" cy="4775040"/>
          </a:xfrm>
          <a:prstGeom prst="roundRect">
            <a:avLst>
              <a:gd name="adj" fmla="val 32"/>
            </a:avLst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2560" y="2143080"/>
            <a:ext cx="8382240" cy="1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97560" y="2189160"/>
            <a:ext cx="1053000" cy="1179000"/>
          </a:xfrm>
          <a:custGeom>
            <a:avLst/>
            <a:gdLst>
              <a:gd name="textAreaLeft" fmla="*/ 360 w 1053000"/>
              <a:gd name="textAreaRight" fmla="*/ 1052640 w 1053000"/>
              <a:gd name="textAreaTop" fmla="*/ 360 h 1179000"/>
              <a:gd name="textAreaBottom" fmla="*/ 1178640 h 1179000"/>
            </a:gdLst>
            <a:ahLst/>
            <a:rect l="textAreaLeft" t="textAreaTop" r="textAreaRight" b="textAreaBottom"/>
            <a:pathLst>
              <a:path w="21600" h="24184">
                <a:moveTo>
                  <a:pt x="32" y="0"/>
                </a:moveTo>
                <a:arcTo wR="32" hR="32" stAng="16200000" swAng="-5400000"/>
                <a:lnTo>
                  <a:pt x="0" y="24152"/>
                </a:lnTo>
                <a:arcTo wR="32" hR="32" stAng="10800000" swAng="-5400000"/>
                <a:lnTo>
                  <a:pt x="21568" y="24184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è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ésistance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2560" y="3362400"/>
            <a:ext cx="838224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4120" y="3408480"/>
            <a:ext cx="4219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40360" y="3384720"/>
            <a:ext cx="7632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Rés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48600" y="3384720"/>
            <a:ext cx="1280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Environ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2560" y="3666960"/>
            <a:ext cx="8382240" cy="1800"/>
          </a:xfrm>
          <a:prstGeom prst="line">
            <a:avLst/>
          </a:prstGeom>
          <a:ln w="1260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40120" y="3637080"/>
            <a:ext cx="1598400" cy="99648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ir 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ir hum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peurs hydrocarb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jection 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mpé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2560" y="4581360"/>
            <a:ext cx="8382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4120" y="4627440"/>
            <a:ext cx="4219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86640" y="4603680"/>
            <a:ext cx="8640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Autori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13320" y="4603680"/>
            <a:ext cx="124344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Mainten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2560" y="4886280"/>
            <a:ext cx="8382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43600" y="4856040"/>
            <a:ext cx="97200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ssibi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2560" y="5267160"/>
            <a:ext cx="8382240" cy="1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3040" y="5313240"/>
            <a:ext cx="8395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b (mé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17160" y="5541840"/>
            <a:ext cx="136836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serrage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sition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ésistance 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04120" y="3637080"/>
            <a:ext cx="6519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s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61880" y="5289480"/>
            <a:ext cx="9036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Mainten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2560" y="5572080"/>
            <a:ext cx="8305920" cy="1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03760" y="5289480"/>
            <a:ext cx="614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Co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47320" y="5289480"/>
            <a:ext cx="623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Bo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94800" y="4856040"/>
            <a:ext cx="144900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ment batte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07000" y="5618160"/>
            <a:ext cx="8272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73160" y="5618160"/>
            <a:ext cx="82872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i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16360" y="1606680"/>
            <a:ext cx="1054080" cy="4635360"/>
          </a:xfrm>
          <a:custGeom>
            <a:avLst/>
            <a:gdLst>
              <a:gd name="textAreaLeft" fmla="*/ 360 w 1054080"/>
              <a:gd name="textAreaRight" fmla="*/ 1053720 w 1054080"/>
              <a:gd name="textAreaTop" fmla="*/ 360 h 4635360"/>
              <a:gd name="textAreaBottom" fmla="*/ 4635000 h 4635360"/>
            </a:gdLst>
            <a:ahLst/>
            <a:rect l="textAreaLeft" t="textAreaTop" r="textAreaRight" b="textAreaBottom"/>
            <a:pathLst>
              <a:path w="21600" h="94962">
                <a:moveTo>
                  <a:pt x="32" y="0"/>
                </a:moveTo>
                <a:arcTo wR="32" hR="32" stAng="16200000" swAng="-5400000"/>
                <a:lnTo>
                  <a:pt x="0" y="94930"/>
                </a:lnTo>
                <a:arcTo wR="32" hR="32" stAng="10800000" swAng="-5400000"/>
                <a:lnTo>
                  <a:pt x="21568" y="94962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9480" y="1606680"/>
            <a:ext cx="1054080" cy="4635360"/>
          </a:xfrm>
          <a:custGeom>
            <a:avLst/>
            <a:gdLst>
              <a:gd name="textAreaLeft" fmla="*/ 360 w 1054080"/>
              <a:gd name="textAreaRight" fmla="*/ 1053720 w 1054080"/>
              <a:gd name="textAreaTop" fmla="*/ 360 h 4635360"/>
              <a:gd name="textAreaBottom" fmla="*/ 4635000 h 4635360"/>
            </a:gdLst>
            <a:ahLst/>
            <a:rect l="textAreaLeft" t="textAreaTop" r="textAreaRight" b="textAreaBottom"/>
            <a:pathLst>
              <a:path w="21600" h="94962">
                <a:moveTo>
                  <a:pt x="32" y="0"/>
                </a:moveTo>
                <a:arcTo wR="32" hR="32" stAng="16200000" swAng="-5400000"/>
                <a:lnTo>
                  <a:pt x="0" y="94930"/>
                </a:lnTo>
                <a:arcTo wR="32" hR="32" stAng="10800000" swAng="-5400000"/>
                <a:lnTo>
                  <a:pt x="21568" y="94962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16160" y="1606680"/>
            <a:ext cx="1282680" cy="4635360"/>
          </a:xfrm>
          <a:custGeom>
            <a:avLst/>
            <a:gdLst>
              <a:gd name="textAreaLeft" fmla="*/ 360 w 1282680"/>
              <a:gd name="textAreaRight" fmla="*/ 1282320 w 1282680"/>
              <a:gd name="textAreaTop" fmla="*/ 360 h 4635360"/>
              <a:gd name="textAreaBottom" fmla="*/ 4635000 h 4635360"/>
            </a:gdLst>
            <a:ahLst/>
            <a:rect l="textAreaLeft" t="textAreaTop" r="textAreaRight" b="textAreaBottom"/>
            <a:pathLst>
              <a:path w="21600" h="78042">
                <a:moveTo>
                  <a:pt x="26" y="0"/>
                </a:moveTo>
                <a:arcTo wR="26" hR="26" stAng="16200000" swAng="-5400000"/>
                <a:lnTo>
                  <a:pt x="0" y="78016"/>
                </a:lnTo>
                <a:arcTo wR="26" hR="26" stAng="10800000" swAng="-5400000"/>
                <a:lnTo>
                  <a:pt x="21574" y="78042"/>
                </a:lnTo>
                <a:arcTo wR="26" hR="26" stAng="5400000" swAng="-5400000"/>
                <a:lnTo>
                  <a:pt x="21600" y="26"/>
                </a:lnTo>
                <a:arcTo wR="26" hR="26" stAng="0" swAng="-5400000"/>
                <a:close/>
              </a:path>
            </a:pathLst>
          </a:cu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9512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Grille AMDEC</a:t>
            </a:r>
            <a:br>
              <a:rPr sz="3200"/>
            </a:br>
            <a:r>
              <a:rPr b="1" lang="en-GB" sz="2800" spc="-1" strike="noStrike">
                <a:solidFill>
                  <a:srgbClr val="500093"/>
                </a:solidFill>
                <a:latin typeface="Arial"/>
              </a:rPr>
              <a:t>Batteri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7520" y="1612800"/>
            <a:ext cx="8432640" cy="4622760"/>
          </a:xfrm>
          <a:prstGeom prst="roundRect">
            <a:avLst>
              <a:gd name="adj" fmla="val 32"/>
            </a:avLst>
          </a:prstGeom>
          <a:noFill/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6200" y="1698480"/>
            <a:ext cx="8607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Fo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53600" y="1698480"/>
            <a:ext cx="6217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89120" y="1698480"/>
            <a:ext cx="3855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N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68560" y="1698480"/>
            <a:ext cx="722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au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59280" y="1698480"/>
            <a:ext cx="9097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Dé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98800" y="1698480"/>
            <a:ext cx="294120" cy="295560"/>
          </a:xfrm>
          <a:custGeom>
            <a:avLst/>
            <a:gdLst>
              <a:gd name="textAreaLeft" fmla="*/ 360 w 294120"/>
              <a:gd name="textAreaRight" fmla="*/ 293760 w 294120"/>
              <a:gd name="textAreaTop" fmla="*/ 360 h 295560"/>
              <a:gd name="textAreaBottom" fmla="*/ 295200 h 295560"/>
            </a:gdLst>
            <a:ahLst/>
            <a:rect l="textAreaLeft" t="textAreaTop" r="textAreaRight" b="textAreaBottom"/>
            <a:pathLst>
              <a:path w="21600" h="21706">
                <a:moveTo>
                  <a:pt x="117" y="0"/>
                </a:moveTo>
                <a:arcTo wR="117" hR="117" stAng="16200000" swAng="-5400000"/>
                <a:lnTo>
                  <a:pt x="0" y="21589"/>
                </a:lnTo>
                <a:arcTo wR="117" hR="117" stAng="10800000" swAng="-5400000"/>
                <a:lnTo>
                  <a:pt x="21483" y="21706"/>
                </a:lnTo>
                <a:arcTo wR="117" hR="117" stAng="5400000" swAng="-5400000"/>
                <a:lnTo>
                  <a:pt x="21600" y="117"/>
                </a:lnTo>
                <a:arcTo wR="117" hR="11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03000" y="1698480"/>
            <a:ext cx="3243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07920" y="1698480"/>
            <a:ext cx="3139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89160" y="1698480"/>
            <a:ext cx="3139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26160" y="1622520"/>
            <a:ext cx="1020960" cy="50868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Solu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orrec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430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2133720"/>
            <a:ext cx="8458200" cy="14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26080" y="2255760"/>
            <a:ext cx="8960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uffis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1600200"/>
            <a:ext cx="180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91320" y="1698480"/>
            <a:ext cx="12571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onséqu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94920" y="2255760"/>
            <a:ext cx="118692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vais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ésolida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pa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80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93320" y="2179800"/>
            <a:ext cx="911160" cy="8139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val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pas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in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7692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61440" y="240840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1992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24480" y="1600200"/>
            <a:ext cx="180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866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70400" y="2179800"/>
            <a:ext cx="165960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ndelle frein sur écr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rou frein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cumenter 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497040" y="2971800"/>
            <a:ext cx="527364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89480" y="24843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93320" y="3017880"/>
            <a:ext cx="9050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134720" y="3429000"/>
            <a:ext cx="763596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89480" y="30942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61440" y="3017880"/>
            <a:ext cx="8546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'agré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99160" y="2408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99160" y="30942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04080" y="2408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04080" y="30942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07200" y="2408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07200" y="30942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13560" y="240840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13560" y="309420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71120" y="3017880"/>
            <a:ext cx="153756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 assuranc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z les fourniss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5880" y="2332080"/>
            <a:ext cx="3639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26800" y="3551400"/>
            <a:ext cx="8150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 fa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94920" y="3475080"/>
            <a:ext cx="1330200" cy="8139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éformation co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ntenabilité dif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c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mé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93680" y="3475080"/>
            <a:ext cx="88848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val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497040" y="3886200"/>
            <a:ext cx="527364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89480" y="3551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61440" y="355140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070400" y="3475080"/>
            <a:ext cx="14155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cumenter 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93680" y="3932280"/>
            <a:ext cx="107280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 la co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61440" y="4008600"/>
            <a:ext cx="8546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'agré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134720" y="4572000"/>
            <a:ext cx="763596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89480" y="40845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70760" y="4084560"/>
            <a:ext cx="105300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oix 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99160" y="3551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99160" y="40845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04080" y="3551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04080" y="40845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07200" y="3551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07200" y="40845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13560" y="3551400"/>
            <a:ext cx="4143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13560" y="4084560"/>
            <a:ext cx="4143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25360" y="4694400"/>
            <a:ext cx="112608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v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sition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92760" y="4618080"/>
            <a:ext cx="1306080" cy="8139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vais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isaillement bor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très mé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pa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93680" y="4618080"/>
            <a:ext cx="107892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péné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61440" y="469440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497040" y="5105520"/>
            <a:ext cx="527364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69320" y="4694400"/>
            <a:ext cx="16304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ibilisation mon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93320" y="5227560"/>
            <a:ext cx="97200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ssibi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fil tor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89480" y="4694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89480" y="553248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35960" y="545616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69680" y="5456160"/>
            <a:ext cx="16228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gmenter longueur f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99160" y="4694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04080" y="4694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7200" y="4694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613560" y="469440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99160" y="54561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04080" y="54561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07200" y="54561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613560" y="545616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AMDEC</dc:title>
</cp:coreProperties>
</file>