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83F-3CA1-4E61-AEC4-2120B672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42E-E858-4BED-8BA1-D804D8FF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11F-F760-4AC2-978D-BAE9019E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97C-07D9-4549-B9DB-AA0EBD07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32E-498F-441D-996B-A469AF06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E1E-B206-4430-A1FB-3D32EE47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75E-D861-4AA7-A21C-5AB49CF9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52A-AA01-48BE-A70C-3226BF89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15F-F406-400B-9B86-1F972F6B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7DE-B215-46D2-8C94-EA6C98F2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029-D0E7-4506-A94F-4CA12A29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87B-ACF4-43D9-82A7-D258C52B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BD1365-F42A-40BE-BDD6-8E87D8BA71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84360" y="1836720"/>
          <a:ext cx="5973840" cy="31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1836720"/>
                    <a:ext cx="597384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GB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GB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1295280"/>
          <a:ext cx="8686800" cy="45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8680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GB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09480" y="1371600"/>
          <a:ext cx="8382240" cy="49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38224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62120" y="1600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éma pneu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GB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581280" y="838080"/>
          <a:ext cx="468648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838080"/>
                    <a:ext cx="468648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04920" y="129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éma é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514600" y="2362320"/>
          <a:ext cx="356544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565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095880" y="2362320"/>
            <a:ext cx="180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52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GB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447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 d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52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GB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8381880" cy="53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UT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LYSE FONCTIONNELLE EXT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COUPAGE DE L'ENSE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LYSE FONCTIONNELLE INT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TUDIER LES DEFAILLANCES POSSIBLES SUR LES ORGAN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V rep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essostats rep 9 et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upape rep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tact KM temporis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RILLE AM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ICHES D’AIDE AU DIAGNO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YPRO</dc:creator>
  <dc:description/>
  <dc:language>en-US</dc:language>
  <cp:lastModifiedBy>ISYPRO</cp:lastModifiedBy>
  <cp:revision>0</cp:revision>
  <dc:subject/>
  <dc:title>Aucun titre de diapositive</dc:title>
</cp:coreProperties>
</file>