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936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AM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936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ONE 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61848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Prs M GABRIEL &amp; H MOL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961848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EFDC7-4853-445E-B27E-AD894CE7DE9B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914400" y="4644720"/>
            <a:ext cx="5022720" cy="45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0480" y="9376920"/>
            <a:ext cx="996480" cy="29124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7169A-609C-488A-BEF0-DC8F6DCCA1A6}" type="slidenum">
              <a:rPr b="0" i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ldImg"/>
          </p:nvPr>
        </p:nvSpPr>
        <p:spPr>
          <a:xfrm>
            <a:off x="985680" y="743040"/>
            <a:ext cx="48801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4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4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4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5200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88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4772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000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4772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000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01480"/>
            <a:ext cx="816912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81691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95200" y="74520"/>
            <a:ext cx="77641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01480"/>
            <a:ext cx="816912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7188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5200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7188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4772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1000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4772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1000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81691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95200" y="74520"/>
            <a:ext cx="77641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88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76320"/>
            <a:ext cx="534960" cy="4808520"/>
          </a:xfrm>
          <a:custGeom>
            <a:avLst/>
            <a:gdLst>
              <a:gd name="textAreaLeft" fmla="*/ 360 w 534960"/>
              <a:gd name="textAreaRight" fmla="*/ 534600 w 534960"/>
              <a:gd name="textAreaTop" fmla="*/ 360 h 4808520"/>
              <a:gd name="textAreaBottom" fmla="*/ 4808160 h 4808520"/>
            </a:gdLst>
            <a:ahLst/>
            <a:rect l="textAreaLeft" t="textAreaTop" r="textAreaRight" b="textAreaBottom"/>
            <a:pathLst>
              <a:path w="21600" h="194037">
                <a:moveTo>
                  <a:pt x="64" y="0"/>
                </a:moveTo>
                <a:arcTo wR="64" hR="64" stAng="16200000" swAng="-5400000"/>
                <a:lnTo>
                  <a:pt x="0" y="193973"/>
                </a:lnTo>
                <a:arcTo wR="64" hR="64" stAng="10800000" swAng="-5400000"/>
                <a:lnTo>
                  <a:pt x="21536" y="194037"/>
                </a:lnTo>
                <a:arcTo wR="64" hR="64" stAng="5400000" swAng="-5400000"/>
                <a:lnTo>
                  <a:pt x="21600" y="64"/>
                </a:lnTo>
                <a:arcTo wR="64" hR="64" stAng="0" swAng="-5400000"/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91360" y="65437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6B737-6275-4AB2-886C-7A4A7AFFAC4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066680" y="6477120"/>
            <a:ext cx="1905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02/12/04 08: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33920" y="6477120"/>
            <a:ext cx="28954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81160" y="1219320"/>
            <a:ext cx="1440" cy="426708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401480"/>
            <a:ext cx="81691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76000"/>
              </a:lnSpc>
              <a:spcBef>
                <a:spcPts val="700"/>
              </a:spcBef>
              <a:buClr>
                <a:srgbClr val="c01313"/>
              </a:buClr>
              <a:buFont typeface="Monotype Sorts" charset="2"/>
              <a:buChar char="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1" marL="735120" indent="-277920">
              <a:lnSpc>
                <a:spcPct val="76000"/>
              </a:lnSpc>
              <a:spcBef>
                <a:spcPts val="700"/>
              </a:spcBef>
              <a:buClr>
                <a:srgbClr val="008000"/>
              </a:buClr>
              <a:buFont typeface="Monotype Sorts" charset="2"/>
              <a:buChar char="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2" marL="1143000" indent="-228600">
              <a:lnSpc>
                <a:spcPct val="76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3" marL="1600200" indent="-22860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4" marL="2057400" indent="-22860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5" marL="2057400" indent="-22860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6" marL="2057400" indent="-22860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976320"/>
            <a:ext cx="534960" cy="4808520"/>
          </a:xfrm>
          <a:custGeom>
            <a:avLst/>
            <a:gdLst>
              <a:gd name="textAreaLeft" fmla="*/ 360 w 534960"/>
              <a:gd name="textAreaRight" fmla="*/ 534600 w 534960"/>
              <a:gd name="textAreaTop" fmla="*/ 360 h 4808520"/>
              <a:gd name="textAreaBottom" fmla="*/ 4808160 h 4808520"/>
            </a:gdLst>
            <a:ahLst/>
            <a:rect l="textAreaLeft" t="textAreaTop" r="textAreaRight" b="textAreaBottom"/>
            <a:pathLst>
              <a:path w="21600" h="194037">
                <a:moveTo>
                  <a:pt x="64" y="0"/>
                </a:moveTo>
                <a:arcTo wR="64" hR="64" stAng="16200000" swAng="-5400000"/>
                <a:lnTo>
                  <a:pt x="0" y="193973"/>
                </a:lnTo>
                <a:arcTo wR="64" hR="64" stAng="10800000" swAng="-5400000"/>
                <a:lnTo>
                  <a:pt x="21536" y="194037"/>
                </a:lnTo>
                <a:arcTo wR="64" hR="64" stAng="5400000" swAng="-5400000"/>
                <a:lnTo>
                  <a:pt x="21600" y="64"/>
                </a:lnTo>
                <a:arcTo wR="64" hR="64" stAng="0" swAng="-5400000"/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541920" y="6248520"/>
            <a:ext cx="1898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9F21C-EB93-440B-A504-41D0239EB04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0"/>
          <a:ext cx="1114560" cy="847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1145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703440" y="6248520"/>
            <a:ext cx="1898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02/12/04 08: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65480" y="6248520"/>
            <a:ext cx="28130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 Gabriel UHP ESS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1160" y="1219320"/>
            <a:ext cx="1440" cy="426708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2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54240" y="3664080"/>
            <a:ext cx="3492720" cy="120636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68440" y="2597040"/>
            <a:ext cx="4788000" cy="1206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9556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Exemple du surligneur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30240" y="1266840"/>
            <a:ext cx="3359160" cy="482760"/>
            <a:chOff x="930240" y="1266840"/>
            <a:chExt cx="3359160" cy="482760"/>
          </a:xfrm>
        </p:grpSpPr>
        <p:sp>
          <p:nvSpPr>
            <p:cNvPr id="105" name=""/>
            <p:cNvSpPr/>
            <p:nvPr/>
          </p:nvSpPr>
          <p:spPr>
            <a:xfrm>
              <a:off x="930240" y="1266840"/>
              <a:ext cx="3359160" cy="482760"/>
            </a:xfrm>
            <a:prstGeom prst="roundRect">
              <a:avLst>
                <a:gd name="adj" fmla="val 329"/>
              </a:avLst>
            </a:prstGeom>
            <a:noFill/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43560" y="1266840"/>
              <a:ext cx="3334320" cy="433080"/>
            </a:xfrm>
            <a:prstGeom prst="roundRect">
              <a:avLst>
                <a:gd name="adj" fmla="val 32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c01313"/>
                  </a:solidFill>
                  <a:latin typeface="Arial"/>
                </a:rPr>
                <a:t>Rosace des fonc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15960" y="5492880"/>
            <a:ext cx="3111480" cy="825480"/>
          </a:xfrm>
          <a:prstGeom prst="ellipse">
            <a:avLst/>
          </a:prstGeom>
          <a:solidFill>
            <a:srgbClr val="c8fec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50080" y="5568840"/>
            <a:ext cx="2806560" cy="749520"/>
          </a:xfrm>
          <a:prstGeom prst="ellipse">
            <a:avLst/>
          </a:prstGeom>
          <a:solidFill>
            <a:srgbClr val="c8fec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89240" y="3976560"/>
            <a:ext cx="1272240" cy="489960"/>
          </a:xfrm>
          <a:prstGeom prst="roundRect">
            <a:avLst>
              <a:gd name="adj" fmla="val 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770468"/>
                </a:solidFill>
                <a:latin typeface="Arial"/>
              </a:rPr>
              <a:t>Feu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32760" y="5699160"/>
            <a:ext cx="240336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770468"/>
                </a:solidFill>
                <a:latin typeface="Arial"/>
              </a:rPr>
              <a:t>Envir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5699160"/>
            <a:ext cx="259092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770468"/>
                </a:solidFill>
                <a:latin typeface="Arial"/>
              </a:rPr>
              <a:t>Rég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2590920"/>
            <a:ext cx="3809880" cy="304560"/>
          </a:xfrm>
          <a:prstGeom prst="roundRect">
            <a:avLst>
              <a:gd name="adj" fmla="val 5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20880" y="2597040"/>
            <a:ext cx="1968480" cy="97812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89240" y="2879640"/>
            <a:ext cx="88056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770468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7280" y="2444760"/>
            <a:ext cx="1815840" cy="97776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37680" y="2727360"/>
            <a:ext cx="135324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770468"/>
                </a:solidFill>
                <a:latin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773400" y="3429000"/>
            <a:ext cx="244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3429000"/>
            <a:ext cx="180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28440" y="3260880"/>
            <a:ext cx="57456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29000" y="4716360"/>
            <a:ext cx="304920" cy="930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86400" y="480060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46000" y="4937040"/>
            <a:ext cx="65340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46400" y="4937040"/>
            <a:ext cx="65340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282920" y="1219320"/>
            <a:ext cx="3521160" cy="1785960"/>
            <a:chOff x="4282920" y="1219320"/>
            <a:chExt cx="3521160" cy="1785960"/>
          </a:xfrm>
        </p:grpSpPr>
        <p:grpSp>
          <p:nvGrpSpPr>
            <p:cNvPr id="125" name=""/>
            <p:cNvGrpSpPr/>
            <p:nvPr/>
          </p:nvGrpSpPr>
          <p:grpSpPr>
            <a:xfrm>
              <a:off x="4282920" y="1360440"/>
              <a:ext cx="2841840" cy="1644840"/>
              <a:chOff x="4282920" y="1360440"/>
              <a:chExt cx="2841840" cy="1644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4290840" y="1360440"/>
                <a:ext cx="2833920" cy="1644840"/>
                <a:chOff x="4290840" y="1360440"/>
                <a:chExt cx="2833920" cy="16448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290840" y="1987560"/>
                  <a:ext cx="1420920" cy="1017720"/>
                </a:xfrm>
                <a:custGeom>
                  <a:avLst/>
                  <a:gdLst/>
                  <a:ahLst/>
                  <a:rect l="l" t="t" r="r" b="b"/>
                  <a:pathLst>
                    <a:path w="3946" h="2826">
                      <a:moveTo>
                        <a:pt x="3341" y="0"/>
                      </a:moveTo>
                      <a:lnTo>
                        <a:pt x="3945" y="1351"/>
                      </a:lnTo>
                      <a:lnTo>
                        <a:pt x="635" y="2816"/>
                      </a:lnTo>
                      <a:lnTo>
                        <a:pt x="644" y="2812"/>
                      </a:lnTo>
                      <a:lnTo>
                        <a:pt x="617" y="2825"/>
                      </a:lnTo>
                      <a:lnTo>
                        <a:pt x="604" y="2825"/>
                      </a:lnTo>
                      <a:lnTo>
                        <a:pt x="586" y="2821"/>
                      </a:lnTo>
                      <a:lnTo>
                        <a:pt x="560" y="2803"/>
                      </a:lnTo>
                      <a:lnTo>
                        <a:pt x="542" y="2794"/>
                      </a:lnTo>
                      <a:lnTo>
                        <a:pt x="507" y="2768"/>
                      </a:lnTo>
                      <a:lnTo>
                        <a:pt x="489" y="2728"/>
                      </a:lnTo>
                      <a:lnTo>
                        <a:pt x="449" y="2684"/>
                      </a:lnTo>
                      <a:lnTo>
                        <a:pt x="414" y="2644"/>
                      </a:lnTo>
                      <a:lnTo>
                        <a:pt x="379" y="2600"/>
                      </a:lnTo>
                      <a:lnTo>
                        <a:pt x="348" y="2543"/>
                      </a:lnTo>
                      <a:lnTo>
                        <a:pt x="326" y="2503"/>
                      </a:lnTo>
                      <a:lnTo>
                        <a:pt x="299" y="2454"/>
                      </a:lnTo>
                      <a:lnTo>
                        <a:pt x="273" y="2410"/>
                      </a:lnTo>
                      <a:lnTo>
                        <a:pt x="255" y="2362"/>
                      </a:lnTo>
                      <a:lnTo>
                        <a:pt x="229" y="2313"/>
                      </a:lnTo>
                      <a:lnTo>
                        <a:pt x="202" y="2256"/>
                      </a:lnTo>
                      <a:lnTo>
                        <a:pt x="180" y="2211"/>
                      </a:lnTo>
                      <a:lnTo>
                        <a:pt x="163" y="2162"/>
                      </a:lnTo>
                      <a:lnTo>
                        <a:pt x="136" y="2109"/>
                      </a:lnTo>
                      <a:lnTo>
                        <a:pt x="114" y="2061"/>
                      </a:lnTo>
                      <a:lnTo>
                        <a:pt x="92" y="1990"/>
                      </a:lnTo>
                      <a:lnTo>
                        <a:pt x="70" y="1942"/>
                      </a:lnTo>
                      <a:lnTo>
                        <a:pt x="52" y="1880"/>
                      </a:lnTo>
                      <a:lnTo>
                        <a:pt x="35" y="1836"/>
                      </a:lnTo>
                      <a:lnTo>
                        <a:pt x="30" y="1765"/>
                      </a:lnTo>
                      <a:lnTo>
                        <a:pt x="22" y="1717"/>
                      </a:lnTo>
                      <a:lnTo>
                        <a:pt x="0" y="1668"/>
                      </a:lnTo>
                      <a:lnTo>
                        <a:pt x="4" y="1628"/>
                      </a:lnTo>
                      <a:lnTo>
                        <a:pt x="4" y="1589"/>
                      </a:lnTo>
                      <a:lnTo>
                        <a:pt x="8" y="1567"/>
                      </a:lnTo>
                      <a:lnTo>
                        <a:pt x="8" y="1531"/>
                      </a:lnTo>
                      <a:lnTo>
                        <a:pt x="8" y="1514"/>
                      </a:lnTo>
                      <a:lnTo>
                        <a:pt x="17" y="1492"/>
                      </a:lnTo>
                      <a:lnTo>
                        <a:pt x="30" y="1483"/>
                      </a:lnTo>
                      <a:lnTo>
                        <a:pt x="44" y="1474"/>
                      </a:lnTo>
                      <a:lnTo>
                        <a:pt x="3341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2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5497560" y="1360440"/>
                  <a:ext cx="1627200" cy="1111320"/>
                </a:xfrm>
                <a:custGeom>
                  <a:avLst/>
                  <a:gdLst/>
                  <a:ahLst/>
                  <a:rect l="l" t="t" r="r" b="b"/>
                  <a:pathLst>
                    <a:path w="4519" h="3087">
                      <a:moveTo>
                        <a:pt x="3914" y="0"/>
                      </a:moveTo>
                      <a:lnTo>
                        <a:pt x="4518" y="1350"/>
                      </a:lnTo>
                      <a:lnTo>
                        <a:pt x="635" y="3082"/>
                      </a:lnTo>
                      <a:lnTo>
                        <a:pt x="643" y="3077"/>
                      </a:lnTo>
                      <a:lnTo>
                        <a:pt x="630" y="3086"/>
                      </a:lnTo>
                      <a:lnTo>
                        <a:pt x="608" y="3073"/>
                      </a:lnTo>
                      <a:lnTo>
                        <a:pt x="591" y="3082"/>
                      </a:lnTo>
                      <a:lnTo>
                        <a:pt x="555" y="3055"/>
                      </a:lnTo>
                      <a:lnTo>
                        <a:pt x="538" y="3046"/>
                      </a:lnTo>
                      <a:lnTo>
                        <a:pt x="520" y="3020"/>
                      </a:lnTo>
                      <a:lnTo>
                        <a:pt x="485" y="2989"/>
                      </a:lnTo>
                      <a:lnTo>
                        <a:pt x="445" y="2945"/>
                      </a:lnTo>
                      <a:lnTo>
                        <a:pt x="410" y="2892"/>
                      </a:lnTo>
                      <a:lnTo>
                        <a:pt x="383" y="2847"/>
                      </a:lnTo>
                      <a:lnTo>
                        <a:pt x="348" y="2803"/>
                      </a:lnTo>
                      <a:lnTo>
                        <a:pt x="326" y="2759"/>
                      </a:lnTo>
                      <a:lnTo>
                        <a:pt x="304" y="2715"/>
                      </a:lnTo>
                      <a:lnTo>
                        <a:pt x="273" y="2666"/>
                      </a:lnTo>
                      <a:lnTo>
                        <a:pt x="247" y="2613"/>
                      </a:lnTo>
                      <a:lnTo>
                        <a:pt x="224" y="2569"/>
                      </a:lnTo>
                      <a:lnTo>
                        <a:pt x="194" y="2503"/>
                      </a:lnTo>
                      <a:lnTo>
                        <a:pt x="172" y="2463"/>
                      </a:lnTo>
                      <a:lnTo>
                        <a:pt x="154" y="2410"/>
                      </a:lnTo>
                      <a:lnTo>
                        <a:pt x="136" y="2362"/>
                      </a:lnTo>
                      <a:lnTo>
                        <a:pt x="114" y="2313"/>
                      </a:lnTo>
                      <a:lnTo>
                        <a:pt x="88" y="2251"/>
                      </a:lnTo>
                      <a:lnTo>
                        <a:pt x="74" y="2203"/>
                      </a:lnTo>
                      <a:lnTo>
                        <a:pt x="57" y="2141"/>
                      </a:lnTo>
                      <a:lnTo>
                        <a:pt x="44" y="2088"/>
                      </a:lnTo>
                      <a:lnTo>
                        <a:pt x="30" y="2022"/>
                      </a:lnTo>
                      <a:lnTo>
                        <a:pt x="17" y="1973"/>
                      </a:lnTo>
                      <a:lnTo>
                        <a:pt x="4" y="1920"/>
                      </a:lnTo>
                      <a:lnTo>
                        <a:pt x="4" y="1876"/>
                      </a:lnTo>
                      <a:lnTo>
                        <a:pt x="0" y="1841"/>
                      </a:lnTo>
                      <a:lnTo>
                        <a:pt x="4" y="1823"/>
                      </a:lnTo>
                      <a:lnTo>
                        <a:pt x="4" y="1779"/>
                      </a:lnTo>
                      <a:lnTo>
                        <a:pt x="8" y="1766"/>
                      </a:lnTo>
                      <a:lnTo>
                        <a:pt x="22" y="1740"/>
                      </a:lnTo>
                      <a:lnTo>
                        <a:pt x="30" y="1735"/>
                      </a:lnTo>
                      <a:lnTo>
                        <a:pt x="30" y="1726"/>
                      </a:lnTo>
                      <a:lnTo>
                        <a:pt x="3914" y="0"/>
                      </a:lnTo>
                    </a:path>
                  </a:pathLst>
                </a:cu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2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282920" y="1393920"/>
                <a:ext cx="2802240" cy="1590480"/>
                <a:chOff x="4282920" y="1393920"/>
                <a:chExt cx="2802240" cy="1590480"/>
              </a:xfrm>
            </p:grpSpPr>
            <p:grpSp>
              <p:nvGrpSpPr>
                <p:cNvPr id="130" name=""/>
                <p:cNvGrpSpPr/>
                <p:nvPr/>
              </p:nvGrpSpPr>
              <p:grpSpPr>
                <a:xfrm>
                  <a:off x="4282920" y="1393920"/>
                  <a:ext cx="2630520" cy="1261800"/>
                  <a:chOff x="4282920" y="1393920"/>
                  <a:chExt cx="2630520" cy="126180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5494320" y="1393920"/>
                    <a:ext cx="1419120" cy="723960"/>
                  </a:xfrm>
                  <a:custGeom>
                    <a:avLst/>
                    <a:gdLst/>
                    <a:ahLst/>
                    <a:rect l="l" t="t" r="r" b="b"/>
                    <a:pathLst>
                      <a:path w="3941" h="2010">
                        <a:moveTo>
                          <a:pt x="3900" y="0"/>
                        </a:moveTo>
                        <a:lnTo>
                          <a:pt x="3940" y="273"/>
                        </a:lnTo>
                        <a:lnTo>
                          <a:pt x="52" y="2009"/>
                        </a:lnTo>
                        <a:lnTo>
                          <a:pt x="39" y="1943"/>
                        </a:lnTo>
                        <a:lnTo>
                          <a:pt x="13" y="1877"/>
                        </a:lnTo>
                        <a:lnTo>
                          <a:pt x="4" y="1806"/>
                        </a:lnTo>
                        <a:lnTo>
                          <a:pt x="0" y="1744"/>
                        </a:lnTo>
                        <a:lnTo>
                          <a:pt x="3900" y="0"/>
                        </a:lnTo>
                      </a:path>
                    </a:pathLst>
                  </a:custGeom>
                  <a:solidFill>
                    <a:srgbClr val="a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2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4282920" y="2025720"/>
                    <a:ext cx="1217880" cy="630000"/>
                  </a:xfrm>
                  <a:custGeom>
                    <a:avLst/>
                    <a:gdLst/>
                    <a:ahLst/>
                    <a:rect l="l" t="t" r="r" b="b"/>
                    <a:pathLst>
                      <a:path w="3382" h="1749">
                        <a:moveTo>
                          <a:pt x="3324" y="0"/>
                        </a:moveTo>
                        <a:lnTo>
                          <a:pt x="3324" y="61"/>
                        </a:lnTo>
                        <a:lnTo>
                          <a:pt x="3341" y="110"/>
                        </a:lnTo>
                        <a:lnTo>
                          <a:pt x="3355" y="163"/>
                        </a:lnTo>
                        <a:lnTo>
                          <a:pt x="3359" y="211"/>
                        </a:lnTo>
                        <a:lnTo>
                          <a:pt x="3381" y="264"/>
                        </a:lnTo>
                        <a:lnTo>
                          <a:pt x="57" y="1748"/>
                        </a:lnTo>
                        <a:lnTo>
                          <a:pt x="48" y="1700"/>
                        </a:lnTo>
                        <a:lnTo>
                          <a:pt x="30" y="1660"/>
                        </a:lnTo>
                        <a:lnTo>
                          <a:pt x="17" y="1603"/>
                        </a:lnTo>
                        <a:lnTo>
                          <a:pt x="0" y="1528"/>
                        </a:lnTo>
                        <a:lnTo>
                          <a:pt x="4" y="1479"/>
                        </a:lnTo>
                        <a:lnTo>
                          <a:pt x="3324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2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4413240" y="1744560"/>
                  <a:ext cx="2671920" cy="1239840"/>
                  <a:chOff x="4413240" y="1744560"/>
                  <a:chExt cx="2671920" cy="123984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5621400" y="1744560"/>
                    <a:ext cx="1463760" cy="703440"/>
                  </a:xfrm>
                  <a:custGeom>
                    <a:avLst/>
                    <a:gdLst/>
                    <a:ahLst/>
                    <a:rect l="l" t="t" r="r" b="b"/>
                    <a:pathLst>
                      <a:path w="4065" h="1953">
                        <a:moveTo>
                          <a:pt x="4064" y="211"/>
                        </a:moveTo>
                        <a:lnTo>
                          <a:pt x="3901" y="0"/>
                        </a:lnTo>
                        <a:lnTo>
                          <a:pt x="0" y="1731"/>
                        </a:lnTo>
                        <a:lnTo>
                          <a:pt x="44" y="1784"/>
                        </a:lnTo>
                        <a:lnTo>
                          <a:pt x="83" y="1846"/>
                        </a:lnTo>
                        <a:lnTo>
                          <a:pt x="127" y="1912"/>
                        </a:lnTo>
                        <a:lnTo>
                          <a:pt x="176" y="1952"/>
                        </a:lnTo>
                        <a:lnTo>
                          <a:pt x="4064" y="211"/>
                        </a:lnTo>
                      </a:path>
                    </a:pathLst>
                  </a:cu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2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4413240" y="2374920"/>
                    <a:ext cx="1257480" cy="609480"/>
                  </a:xfrm>
                  <a:custGeom>
                    <a:avLst/>
                    <a:gdLst/>
                    <a:ahLst/>
                    <a:rect l="l" t="t" r="r" b="b"/>
                    <a:pathLst>
                      <a:path w="3492" h="1692">
                        <a:moveTo>
                          <a:pt x="3491" y="211"/>
                        </a:moveTo>
                        <a:lnTo>
                          <a:pt x="3447" y="176"/>
                        </a:lnTo>
                        <a:lnTo>
                          <a:pt x="3416" y="127"/>
                        </a:lnTo>
                        <a:lnTo>
                          <a:pt x="3376" y="83"/>
                        </a:lnTo>
                        <a:lnTo>
                          <a:pt x="3359" y="44"/>
                        </a:lnTo>
                        <a:lnTo>
                          <a:pt x="3319" y="0"/>
                        </a:lnTo>
                        <a:lnTo>
                          <a:pt x="0" y="1479"/>
                        </a:lnTo>
                        <a:lnTo>
                          <a:pt x="35" y="1523"/>
                        </a:lnTo>
                        <a:lnTo>
                          <a:pt x="48" y="1550"/>
                        </a:lnTo>
                        <a:lnTo>
                          <a:pt x="79" y="1607"/>
                        </a:lnTo>
                        <a:lnTo>
                          <a:pt x="141" y="1660"/>
                        </a:lnTo>
                        <a:lnTo>
                          <a:pt x="172" y="1691"/>
                        </a:lnTo>
                        <a:lnTo>
                          <a:pt x="3491" y="21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2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36" name=""/>
            <p:cNvGrpSpPr/>
            <p:nvPr/>
          </p:nvGrpSpPr>
          <p:grpSpPr>
            <a:xfrm>
              <a:off x="6904080" y="1219320"/>
              <a:ext cx="900000" cy="623880"/>
              <a:chOff x="6904080" y="1219320"/>
              <a:chExt cx="900000" cy="62388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6905520" y="1219320"/>
                <a:ext cx="898560" cy="623880"/>
                <a:chOff x="6905520" y="1219320"/>
                <a:chExt cx="898560" cy="623880"/>
              </a:xfrm>
            </p:grpSpPr>
            <p:grpSp>
              <p:nvGrpSpPr>
                <p:cNvPr id="138" name=""/>
                <p:cNvGrpSpPr/>
                <p:nvPr/>
              </p:nvGrpSpPr>
              <p:grpSpPr>
                <a:xfrm>
                  <a:off x="6905520" y="1257480"/>
                  <a:ext cx="716040" cy="585720"/>
                  <a:chOff x="6905520" y="1257480"/>
                  <a:chExt cx="716040" cy="58572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6905520" y="1335240"/>
                    <a:ext cx="274680" cy="507960"/>
                  </a:xfrm>
                  <a:custGeom>
                    <a:avLst/>
                    <a:gdLst/>
                    <a:ahLst/>
                    <a:rect l="l" t="t" r="r" b="b"/>
                    <a:pathLst>
                      <a:path w="765" h="1411">
                        <a:moveTo>
                          <a:pt x="176" y="0"/>
                        </a:moveTo>
                        <a:lnTo>
                          <a:pt x="17" y="57"/>
                        </a:lnTo>
                        <a:lnTo>
                          <a:pt x="17" y="70"/>
                        </a:lnTo>
                        <a:lnTo>
                          <a:pt x="4" y="92"/>
                        </a:lnTo>
                        <a:lnTo>
                          <a:pt x="0" y="127"/>
                        </a:lnTo>
                        <a:lnTo>
                          <a:pt x="0" y="163"/>
                        </a:lnTo>
                        <a:lnTo>
                          <a:pt x="13" y="229"/>
                        </a:lnTo>
                        <a:lnTo>
                          <a:pt x="26" y="282"/>
                        </a:lnTo>
                        <a:lnTo>
                          <a:pt x="39" y="353"/>
                        </a:lnTo>
                        <a:lnTo>
                          <a:pt x="61" y="429"/>
                        </a:lnTo>
                        <a:lnTo>
                          <a:pt x="79" y="481"/>
                        </a:lnTo>
                        <a:lnTo>
                          <a:pt x="92" y="548"/>
                        </a:lnTo>
                        <a:lnTo>
                          <a:pt x="128" y="614"/>
                        </a:lnTo>
                        <a:lnTo>
                          <a:pt x="154" y="693"/>
                        </a:lnTo>
                        <a:lnTo>
                          <a:pt x="172" y="751"/>
                        </a:lnTo>
                        <a:lnTo>
                          <a:pt x="203" y="818"/>
                        </a:lnTo>
                        <a:lnTo>
                          <a:pt x="251" y="902"/>
                        </a:lnTo>
                        <a:lnTo>
                          <a:pt x="278" y="972"/>
                        </a:lnTo>
                        <a:lnTo>
                          <a:pt x="327" y="1056"/>
                        </a:lnTo>
                        <a:lnTo>
                          <a:pt x="371" y="1118"/>
                        </a:lnTo>
                        <a:lnTo>
                          <a:pt x="393" y="1166"/>
                        </a:lnTo>
                        <a:lnTo>
                          <a:pt x="415" y="1216"/>
                        </a:lnTo>
                        <a:lnTo>
                          <a:pt x="446" y="1260"/>
                        </a:lnTo>
                        <a:lnTo>
                          <a:pt x="472" y="1295"/>
                        </a:lnTo>
                        <a:lnTo>
                          <a:pt x="499" y="1317"/>
                        </a:lnTo>
                        <a:lnTo>
                          <a:pt x="525" y="1353"/>
                        </a:lnTo>
                        <a:lnTo>
                          <a:pt x="561" y="1375"/>
                        </a:lnTo>
                        <a:lnTo>
                          <a:pt x="574" y="1384"/>
                        </a:lnTo>
                        <a:lnTo>
                          <a:pt x="592" y="1397"/>
                        </a:lnTo>
                        <a:lnTo>
                          <a:pt x="609" y="1410"/>
                        </a:lnTo>
                        <a:lnTo>
                          <a:pt x="618" y="1410"/>
                        </a:lnTo>
                        <a:lnTo>
                          <a:pt x="764" y="1348"/>
                        </a:lnTo>
                        <a:lnTo>
                          <a:pt x="742" y="1348"/>
                        </a:lnTo>
                        <a:lnTo>
                          <a:pt x="724" y="1335"/>
                        </a:lnTo>
                        <a:lnTo>
                          <a:pt x="698" y="1326"/>
                        </a:lnTo>
                        <a:lnTo>
                          <a:pt x="676" y="1304"/>
                        </a:lnTo>
                        <a:lnTo>
                          <a:pt x="671" y="1282"/>
                        </a:lnTo>
                        <a:lnTo>
                          <a:pt x="636" y="1264"/>
                        </a:lnTo>
                        <a:lnTo>
                          <a:pt x="618" y="1229"/>
                        </a:lnTo>
                        <a:lnTo>
                          <a:pt x="583" y="1180"/>
                        </a:lnTo>
                        <a:lnTo>
                          <a:pt x="548" y="1136"/>
                        </a:lnTo>
                        <a:lnTo>
                          <a:pt x="521" y="1091"/>
                        </a:lnTo>
                        <a:lnTo>
                          <a:pt x="481" y="1025"/>
                        </a:lnTo>
                        <a:lnTo>
                          <a:pt x="468" y="990"/>
                        </a:lnTo>
                        <a:lnTo>
                          <a:pt x="428" y="915"/>
                        </a:lnTo>
                        <a:lnTo>
                          <a:pt x="388" y="840"/>
                        </a:lnTo>
                        <a:lnTo>
                          <a:pt x="353" y="764"/>
                        </a:lnTo>
                        <a:lnTo>
                          <a:pt x="313" y="680"/>
                        </a:lnTo>
                        <a:lnTo>
                          <a:pt x="287" y="618"/>
                        </a:lnTo>
                        <a:lnTo>
                          <a:pt x="238" y="499"/>
                        </a:lnTo>
                        <a:lnTo>
                          <a:pt x="207" y="406"/>
                        </a:lnTo>
                        <a:lnTo>
                          <a:pt x="176" y="291"/>
                        </a:lnTo>
                        <a:lnTo>
                          <a:pt x="159" y="207"/>
                        </a:lnTo>
                        <a:lnTo>
                          <a:pt x="141" y="145"/>
                        </a:lnTo>
                        <a:lnTo>
                          <a:pt x="145" y="92"/>
                        </a:lnTo>
                        <a:lnTo>
                          <a:pt x="154" y="39"/>
                        </a:lnTo>
                        <a:lnTo>
                          <a:pt x="159" y="13"/>
                        </a:lnTo>
                        <a:lnTo>
                          <a:pt x="176" y="0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2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0" name=""/>
                  <p:cNvGrpSpPr/>
                  <p:nvPr/>
                </p:nvGrpSpPr>
                <p:grpSpPr>
                  <a:xfrm>
                    <a:off x="6962760" y="1257480"/>
                    <a:ext cx="658800" cy="560160"/>
                    <a:chOff x="6962760" y="1257480"/>
                    <a:chExt cx="658800" cy="560160"/>
                  </a:xfrm>
                </p:grpSpPr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277040" y="1325520"/>
                      <a:ext cx="155520" cy="26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0" h="746">
                          <a:moveTo>
                            <a:pt x="176" y="41"/>
                          </a:moveTo>
                          <a:lnTo>
                            <a:pt x="22" y="0"/>
                          </a:lnTo>
                          <a:lnTo>
                            <a:pt x="17" y="0"/>
                          </a:lnTo>
                          <a:lnTo>
                            <a:pt x="13" y="9"/>
                          </a:lnTo>
                          <a:lnTo>
                            <a:pt x="0" y="28"/>
                          </a:lnTo>
                          <a:lnTo>
                            <a:pt x="8" y="37"/>
                          </a:lnTo>
                          <a:lnTo>
                            <a:pt x="13" y="59"/>
                          </a:lnTo>
                          <a:lnTo>
                            <a:pt x="13" y="107"/>
                          </a:lnTo>
                          <a:lnTo>
                            <a:pt x="22" y="143"/>
                          </a:lnTo>
                          <a:lnTo>
                            <a:pt x="53" y="200"/>
                          </a:lnTo>
                          <a:lnTo>
                            <a:pt x="70" y="275"/>
                          </a:lnTo>
                          <a:lnTo>
                            <a:pt x="92" y="333"/>
                          </a:lnTo>
                          <a:lnTo>
                            <a:pt x="119" y="381"/>
                          </a:lnTo>
                          <a:lnTo>
                            <a:pt x="150" y="445"/>
                          </a:lnTo>
                          <a:lnTo>
                            <a:pt x="185" y="516"/>
                          </a:lnTo>
                          <a:lnTo>
                            <a:pt x="212" y="569"/>
                          </a:lnTo>
                          <a:lnTo>
                            <a:pt x="229" y="617"/>
                          </a:lnTo>
                          <a:lnTo>
                            <a:pt x="256" y="666"/>
                          </a:lnTo>
                          <a:lnTo>
                            <a:pt x="288" y="701"/>
                          </a:lnTo>
                          <a:lnTo>
                            <a:pt x="314" y="727"/>
                          </a:lnTo>
                          <a:lnTo>
                            <a:pt x="327" y="745"/>
                          </a:lnTo>
                          <a:lnTo>
                            <a:pt x="429" y="599"/>
                          </a:lnTo>
                          <a:lnTo>
                            <a:pt x="176" y="41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6962760" y="1330200"/>
                      <a:ext cx="393840" cy="48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3" h="1353">
                          <a:moveTo>
                            <a:pt x="752" y="52"/>
                          </a:moveTo>
                          <a:lnTo>
                            <a:pt x="39" y="0"/>
                          </a:lnTo>
                          <a:lnTo>
                            <a:pt x="13" y="26"/>
                          </a:lnTo>
                          <a:lnTo>
                            <a:pt x="0" y="70"/>
                          </a:lnTo>
                          <a:lnTo>
                            <a:pt x="4" y="114"/>
                          </a:lnTo>
                          <a:lnTo>
                            <a:pt x="8" y="167"/>
                          </a:lnTo>
                          <a:lnTo>
                            <a:pt x="8" y="194"/>
                          </a:lnTo>
                          <a:lnTo>
                            <a:pt x="17" y="247"/>
                          </a:lnTo>
                          <a:lnTo>
                            <a:pt x="30" y="300"/>
                          </a:lnTo>
                          <a:lnTo>
                            <a:pt x="44" y="366"/>
                          </a:lnTo>
                          <a:lnTo>
                            <a:pt x="61" y="412"/>
                          </a:lnTo>
                          <a:lnTo>
                            <a:pt x="79" y="461"/>
                          </a:lnTo>
                          <a:lnTo>
                            <a:pt x="101" y="531"/>
                          </a:lnTo>
                          <a:lnTo>
                            <a:pt x="136" y="606"/>
                          </a:lnTo>
                          <a:lnTo>
                            <a:pt x="181" y="712"/>
                          </a:lnTo>
                          <a:lnTo>
                            <a:pt x="203" y="765"/>
                          </a:lnTo>
                          <a:lnTo>
                            <a:pt x="235" y="838"/>
                          </a:lnTo>
                          <a:lnTo>
                            <a:pt x="270" y="887"/>
                          </a:lnTo>
                          <a:lnTo>
                            <a:pt x="296" y="944"/>
                          </a:lnTo>
                          <a:lnTo>
                            <a:pt x="327" y="1010"/>
                          </a:lnTo>
                          <a:lnTo>
                            <a:pt x="354" y="1072"/>
                          </a:lnTo>
                          <a:lnTo>
                            <a:pt x="393" y="1116"/>
                          </a:lnTo>
                          <a:lnTo>
                            <a:pt x="429" y="1179"/>
                          </a:lnTo>
                          <a:lnTo>
                            <a:pt x="473" y="1228"/>
                          </a:lnTo>
                          <a:lnTo>
                            <a:pt x="513" y="1290"/>
                          </a:lnTo>
                          <a:lnTo>
                            <a:pt x="544" y="1312"/>
                          </a:lnTo>
                          <a:lnTo>
                            <a:pt x="579" y="1330"/>
                          </a:lnTo>
                          <a:lnTo>
                            <a:pt x="597" y="1348"/>
                          </a:lnTo>
                          <a:lnTo>
                            <a:pt x="614" y="1352"/>
                          </a:lnTo>
                          <a:lnTo>
                            <a:pt x="632" y="1343"/>
                          </a:lnTo>
                          <a:lnTo>
                            <a:pt x="645" y="1339"/>
                          </a:lnTo>
                          <a:lnTo>
                            <a:pt x="1092" y="775"/>
                          </a:lnTo>
                          <a:lnTo>
                            <a:pt x="1061" y="602"/>
                          </a:lnTo>
                          <a:lnTo>
                            <a:pt x="986" y="402"/>
                          </a:lnTo>
                          <a:lnTo>
                            <a:pt x="911" y="260"/>
                          </a:lnTo>
                          <a:lnTo>
                            <a:pt x="827" y="119"/>
                          </a:lnTo>
                          <a:lnTo>
                            <a:pt x="752" y="52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7237440" y="1330200"/>
                      <a:ext cx="14760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2" h="776">
                          <a:moveTo>
                            <a:pt x="101" y="0"/>
                          </a:moveTo>
                          <a:lnTo>
                            <a:pt x="48" y="39"/>
                          </a:lnTo>
                          <a:lnTo>
                            <a:pt x="17" y="39"/>
                          </a:lnTo>
                          <a:lnTo>
                            <a:pt x="8" y="57"/>
                          </a:lnTo>
                          <a:lnTo>
                            <a:pt x="8" y="61"/>
                          </a:lnTo>
                          <a:lnTo>
                            <a:pt x="0" y="79"/>
                          </a:lnTo>
                          <a:lnTo>
                            <a:pt x="8" y="119"/>
                          </a:lnTo>
                          <a:lnTo>
                            <a:pt x="8" y="141"/>
                          </a:lnTo>
                          <a:lnTo>
                            <a:pt x="17" y="176"/>
                          </a:lnTo>
                          <a:lnTo>
                            <a:pt x="35" y="216"/>
                          </a:lnTo>
                          <a:lnTo>
                            <a:pt x="48" y="251"/>
                          </a:lnTo>
                          <a:lnTo>
                            <a:pt x="57" y="291"/>
                          </a:lnTo>
                          <a:lnTo>
                            <a:pt x="70" y="317"/>
                          </a:lnTo>
                          <a:lnTo>
                            <a:pt x="88" y="357"/>
                          </a:lnTo>
                          <a:lnTo>
                            <a:pt x="114" y="412"/>
                          </a:lnTo>
                          <a:lnTo>
                            <a:pt x="132" y="452"/>
                          </a:lnTo>
                          <a:lnTo>
                            <a:pt x="150" y="492"/>
                          </a:lnTo>
                          <a:lnTo>
                            <a:pt x="172" y="540"/>
                          </a:lnTo>
                          <a:lnTo>
                            <a:pt x="185" y="567"/>
                          </a:lnTo>
                          <a:lnTo>
                            <a:pt x="198" y="597"/>
                          </a:lnTo>
                          <a:lnTo>
                            <a:pt x="220" y="628"/>
                          </a:lnTo>
                          <a:lnTo>
                            <a:pt x="229" y="659"/>
                          </a:lnTo>
                          <a:lnTo>
                            <a:pt x="251" y="681"/>
                          </a:lnTo>
                          <a:lnTo>
                            <a:pt x="256" y="695"/>
                          </a:lnTo>
                          <a:lnTo>
                            <a:pt x="273" y="717"/>
                          </a:lnTo>
                          <a:lnTo>
                            <a:pt x="282" y="734"/>
                          </a:lnTo>
                          <a:lnTo>
                            <a:pt x="295" y="748"/>
                          </a:lnTo>
                          <a:lnTo>
                            <a:pt x="300" y="761"/>
                          </a:lnTo>
                          <a:lnTo>
                            <a:pt x="322" y="771"/>
                          </a:lnTo>
                          <a:lnTo>
                            <a:pt x="326" y="775"/>
                          </a:lnTo>
                          <a:lnTo>
                            <a:pt x="411" y="734"/>
                          </a:lnTo>
                          <a:lnTo>
                            <a:pt x="407" y="734"/>
                          </a:lnTo>
                          <a:lnTo>
                            <a:pt x="393" y="726"/>
                          </a:lnTo>
                          <a:lnTo>
                            <a:pt x="385" y="717"/>
                          </a:lnTo>
                          <a:lnTo>
                            <a:pt x="375" y="699"/>
                          </a:lnTo>
                          <a:lnTo>
                            <a:pt x="357" y="681"/>
                          </a:lnTo>
                          <a:lnTo>
                            <a:pt x="348" y="668"/>
                          </a:lnTo>
                          <a:lnTo>
                            <a:pt x="326" y="633"/>
                          </a:lnTo>
                          <a:lnTo>
                            <a:pt x="313" y="611"/>
                          </a:lnTo>
                          <a:lnTo>
                            <a:pt x="300" y="589"/>
                          </a:lnTo>
                          <a:lnTo>
                            <a:pt x="286" y="562"/>
                          </a:lnTo>
                          <a:lnTo>
                            <a:pt x="269" y="522"/>
                          </a:lnTo>
                          <a:lnTo>
                            <a:pt x="256" y="483"/>
                          </a:lnTo>
                          <a:lnTo>
                            <a:pt x="229" y="439"/>
                          </a:lnTo>
                          <a:lnTo>
                            <a:pt x="211" y="402"/>
                          </a:lnTo>
                          <a:lnTo>
                            <a:pt x="194" y="370"/>
                          </a:lnTo>
                          <a:lnTo>
                            <a:pt x="181" y="335"/>
                          </a:lnTo>
                          <a:lnTo>
                            <a:pt x="158" y="278"/>
                          </a:lnTo>
                          <a:lnTo>
                            <a:pt x="136" y="220"/>
                          </a:lnTo>
                          <a:lnTo>
                            <a:pt x="114" y="163"/>
                          </a:lnTo>
                          <a:lnTo>
                            <a:pt x="105" y="105"/>
                          </a:lnTo>
                          <a:lnTo>
                            <a:pt x="101" y="79"/>
                          </a:lnTo>
                          <a:lnTo>
                            <a:pt x="92" y="52"/>
                          </a:lnTo>
                          <a:lnTo>
                            <a:pt x="92" y="26"/>
                          </a:lnTo>
                          <a:lnTo>
                            <a:pt x="88" y="22"/>
                          </a:lnTo>
                          <a:lnTo>
                            <a:pt x="101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7350120" y="1262160"/>
                      <a:ext cx="271440" cy="26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3" h="746">
                          <a:moveTo>
                            <a:pt x="521" y="0"/>
                          </a:moveTo>
                          <a:lnTo>
                            <a:pt x="13" y="205"/>
                          </a:lnTo>
                          <a:lnTo>
                            <a:pt x="0" y="213"/>
                          </a:lnTo>
                          <a:lnTo>
                            <a:pt x="4" y="258"/>
                          </a:lnTo>
                          <a:lnTo>
                            <a:pt x="13" y="341"/>
                          </a:lnTo>
                          <a:lnTo>
                            <a:pt x="35" y="421"/>
                          </a:lnTo>
                          <a:lnTo>
                            <a:pt x="84" y="540"/>
                          </a:lnTo>
                          <a:lnTo>
                            <a:pt x="129" y="626"/>
                          </a:lnTo>
                          <a:lnTo>
                            <a:pt x="186" y="705"/>
                          </a:lnTo>
                          <a:lnTo>
                            <a:pt x="235" y="745"/>
                          </a:lnTo>
                          <a:lnTo>
                            <a:pt x="261" y="741"/>
                          </a:lnTo>
                          <a:lnTo>
                            <a:pt x="752" y="505"/>
                          </a:lnTo>
                          <a:lnTo>
                            <a:pt x="521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7583400" y="1257480"/>
                      <a:ext cx="9720" cy="193320"/>
                    </a:xfrm>
                    <a:prstGeom prst="ellipse">
                      <a:avLst/>
                    </a:pr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7566120" y="1219320"/>
                  <a:ext cx="237960" cy="198360"/>
                  <a:chOff x="7566120" y="1219320"/>
                  <a:chExt cx="237960" cy="19836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7581960" y="1262160"/>
                    <a:ext cx="2206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614" h="432">
                        <a:moveTo>
                          <a:pt x="613" y="208"/>
                        </a:moveTo>
                        <a:lnTo>
                          <a:pt x="404" y="0"/>
                        </a:lnTo>
                        <a:lnTo>
                          <a:pt x="0" y="182"/>
                        </a:lnTo>
                        <a:lnTo>
                          <a:pt x="111" y="431"/>
                        </a:lnTo>
                        <a:lnTo>
                          <a:pt x="613" y="208"/>
                        </a:lnTo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2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7721640" y="1219320"/>
                    <a:ext cx="82440" cy="118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8" h="329">
                        <a:moveTo>
                          <a:pt x="0" y="0"/>
                        </a:moveTo>
                        <a:lnTo>
                          <a:pt x="39" y="102"/>
                        </a:lnTo>
                        <a:lnTo>
                          <a:pt x="227" y="328"/>
                        </a:lnTo>
                        <a:lnTo>
                          <a:pt x="183" y="22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2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7566120" y="1225440"/>
                    <a:ext cx="15228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423" h="242">
                        <a:moveTo>
                          <a:pt x="422" y="67"/>
                        </a:moveTo>
                        <a:lnTo>
                          <a:pt x="390" y="0"/>
                        </a:lnTo>
                        <a:lnTo>
                          <a:pt x="0" y="169"/>
                        </a:lnTo>
                        <a:lnTo>
                          <a:pt x="22" y="241"/>
                        </a:lnTo>
                        <a:lnTo>
                          <a:pt x="422" y="67"/>
                        </a:lnTo>
                      </a:path>
                    </a:pathLst>
                  </a:custGeom>
                  <a:solidFill>
                    <a:srgbClr val="404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lnSpc>
                        <a:spcPct val="82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0" name=""/>
              <p:cNvGrpSpPr/>
              <p:nvPr/>
            </p:nvGrpSpPr>
            <p:grpSpPr>
              <a:xfrm>
                <a:off x="6904080" y="1360440"/>
                <a:ext cx="420480" cy="457200"/>
                <a:chOff x="6904080" y="1360440"/>
                <a:chExt cx="420480" cy="4572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6904080" y="1374840"/>
                  <a:ext cx="68400" cy="112680"/>
                </a:xfrm>
                <a:custGeom>
                  <a:avLst/>
                  <a:gdLst/>
                  <a:ahLst/>
                  <a:rect l="l" t="t" r="r" b="b"/>
                  <a:pathLst>
                    <a:path w="188" h="311">
                      <a:moveTo>
                        <a:pt x="147" y="0"/>
                      </a:moveTo>
                      <a:lnTo>
                        <a:pt x="0" y="39"/>
                      </a:lnTo>
                      <a:lnTo>
                        <a:pt x="4" y="84"/>
                      </a:lnTo>
                      <a:lnTo>
                        <a:pt x="13" y="133"/>
                      </a:lnTo>
                      <a:lnTo>
                        <a:pt x="17" y="186"/>
                      </a:lnTo>
                      <a:lnTo>
                        <a:pt x="26" y="213"/>
                      </a:lnTo>
                      <a:lnTo>
                        <a:pt x="39" y="261"/>
                      </a:lnTo>
                      <a:lnTo>
                        <a:pt x="62" y="310"/>
                      </a:lnTo>
                      <a:lnTo>
                        <a:pt x="187" y="253"/>
                      </a:lnTo>
                      <a:lnTo>
                        <a:pt x="178" y="222"/>
                      </a:lnTo>
                      <a:lnTo>
                        <a:pt x="174" y="186"/>
                      </a:lnTo>
                      <a:lnTo>
                        <a:pt x="160" y="133"/>
                      </a:lnTo>
                      <a:lnTo>
                        <a:pt x="142" y="84"/>
                      </a:lnTo>
                      <a:lnTo>
                        <a:pt x="142" y="48"/>
                      </a:lnTo>
                      <a:lnTo>
                        <a:pt x="147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2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037280" y="1720800"/>
                  <a:ext cx="101880" cy="96840"/>
                </a:xfrm>
                <a:custGeom>
                  <a:avLst/>
                  <a:gdLst/>
                  <a:ahLst/>
                  <a:rect l="l" t="t" r="r" b="b"/>
                  <a:pathLst>
                    <a:path w="281" h="271">
                      <a:moveTo>
                        <a:pt x="280" y="217"/>
                      </a:moveTo>
                      <a:lnTo>
                        <a:pt x="156" y="270"/>
                      </a:lnTo>
                      <a:lnTo>
                        <a:pt x="129" y="252"/>
                      </a:lnTo>
                      <a:lnTo>
                        <a:pt x="103" y="213"/>
                      </a:lnTo>
                      <a:lnTo>
                        <a:pt x="66" y="177"/>
                      </a:lnTo>
                      <a:lnTo>
                        <a:pt x="48" y="142"/>
                      </a:lnTo>
                      <a:lnTo>
                        <a:pt x="31" y="101"/>
                      </a:lnTo>
                      <a:lnTo>
                        <a:pt x="0" y="57"/>
                      </a:lnTo>
                      <a:lnTo>
                        <a:pt x="125" y="0"/>
                      </a:lnTo>
                      <a:lnTo>
                        <a:pt x="151" y="30"/>
                      </a:lnTo>
                      <a:lnTo>
                        <a:pt x="169" y="57"/>
                      </a:lnTo>
                      <a:lnTo>
                        <a:pt x="200" y="101"/>
                      </a:lnTo>
                      <a:lnTo>
                        <a:pt x="227" y="146"/>
                      </a:lnTo>
                      <a:lnTo>
                        <a:pt x="258" y="182"/>
                      </a:lnTo>
                      <a:lnTo>
                        <a:pt x="280" y="217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2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091280" y="1569960"/>
                  <a:ext cx="233280" cy="223920"/>
                </a:xfrm>
                <a:custGeom>
                  <a:avLst/>
                  <a:gdLst/>
                  <a:ahLst/>
                  <a:rect l="l" t="t" r="r" b="b"/>
                  <a:pathLst>
                    <a:path w="647" h="621">
                      <a:moveTo>
                        <a:pt x="611" y="0"/>
                      </a:moveTo>
                      <a:lnTo>
                        <a:pt x="0" y="389"/>
                      </a:lnTo>
                      <a:lnTo>
                        <a:pt x="26" y="447"/>
                      </a:lnTo>
                      <a:lnTo>
                        <a:pt x="66" y="491"/>
                      </a:lnTo>
                      <a:lnTo>
                        <a:pt x="97" y="541"/>
                      </a:lnTo>
                      <a:lnTo>
                        <a:pt x="132" y="585"/>
                      </a:lnTo>
                      <a:lnTo>
                        <a:pt x="163" y="620"/>
                      </a:lnTo>
                      <a:lnTo>
                        <a:pt x="646" y="70"/>
                      </a:lnTo>
                      <a:lnTo>
                        <a:pt x="611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2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962760" y="1360440"/>
                  <a:ext cx="270000" cy="106560"/>
                </a:xfrm>
                <a:custGeom>
                  <a:avLst/>
                  <a:gdLst/>
                  <a:ahLst/>
                  <a:rect l="l" t="t" r="r" b="b"/>
                  <a:pathLst>
                    <a:path w="749" h="294">
                      <a:moveTo>
                        <a:pt x="717" y="0"/>
                      </a:moveTo>
                      <a:lnTo>
                        <a:pt x="8" y="26"/>
                      </a:lnTo>
                      <a:lnTo>
                        <a:pt x="0" y="70"/>
                      </a:lnTo>
                      <a:lnTo>
                        <a:pt x="13" y="97"/>
                      </a:lnTo>
                      <a:lnTo>
                        <a:pt x="22" y="124"/>
                      </a:lnTo>
                      <a:lnTo>
                        <a:pt x="22" y="165"/>
                      </a:lnTo>
                      <a:lnTo>
                        <a:pt x="30" y="200"/>
                      </a:lnTo>
                      <a:lnTo>
                        <a:pt x="44" y="231"/>
                      </a:lnTo>
                      <a:lnTo>
                        <a:pt x="44" y="271"/>
                      </a:lnTo>
                      <a:lnTo>
                        <a:pt x="53" y="293"/>
                      </a:lnTo>
                      <a:lnTo>
                        <a:pt x="748" y="101"/>
                      </a:lnTo>
                      <a:lnTo>
                        <a:pt x="717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2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5" name=""/>
          <p:cNvGrpSpPr/>
          <p:nvPr/>
        </p:nvGrpSpPr>
        <p:grpSpPr>
          <a:xfrm>
            <a:off x="7981920" y="1282680"/>
            <a:ext cx="1046160" cy="874800"/>
            <a:chOff x="7981920" y="1282680"/>
            <a:chExt cx="1046160" cy="874800"/>
          </a:xfrm>
        </p:grpSpPr>
        <p:sp>
          <p:nvSpPr>
            <p:cNvPr id="156" name=""/>
            <p:cNvSpPr/>
            <p:nvPr/>
          </p:nvSpPr>
          <p:spPr>
            <a:xfrm>
              <a:off x="7981920" y="1282680"/>
              <a:ext cx="1046160" cy="871560"/>
            </a:xfrm>
            <a:custGeom>
              <a:avLst/>
              <a:gdLst/>
              <a:ahLst/>
              <a:rect l="l" t="t" r="r" b="b"/>
              <a:pathLst>
                <a:path w="2907" h="2422">
                  <a:moveTo>
                    <a:pt x="2305" y="0"/>
                  </a:moveTo>
                  <a:lnTo>
                    <a:pt x="1210" y="481"/>
                  </a:lnTo>
                  <a:lnTo>
                    <a:pt x="0" y="1100"/>
                  </a:lnTo>
                  <a:lnTo>
                    <a:pt x="8" y="1219"/>
                  </a:lnTo>
                  <a:lnTo>
                    <a:pt x="26" y="1356"/>
                  </a:lnTo>
                  <a:lnTo>
                    <a:pt x="79" y="1542"/>
                  </a:lnTo>
                  <a:lnTo>
                    <a:pt x="145" y="1705"/>
                  </a:lnTo>
                  <a:lnTo>
                    <a:pt x="202" y="1833"/>
                  </a:lnTo>
                  <a:lnTo>
                    <a:pt x="291" y="1988"/>
                  </a:lnTo>
                  <a:lnTo>
                    <a:pt x="367" y="2130"/>
                  </a:lnTo>
                  <a:lnTo>
                    <a:pt x="481" y="2253"/>
                  </a:lnTo>
                  <a:lnTo>
                    <a:pt x="565" y="2351"/>
                  </a:lnTo>
                  <a:lnTo>
                    <a:pt x="671" y="2421"/>
                  </a:lnTo>
                  <a:lnTo>
                    <a:pt x="1868" y="1807"/>
                  </a:lnTo>
                  <a:lnTo>
                    <a:pt x="2906" y="1179"/>
                  </a:lnTo>
                  <a:lnTo>
                    <a:pt x="230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908920" y="1311120"/>
              <a:ext cx="32040" cy="371520"/>
            </a:xfrm>
            <a:prstGeom prst="ellips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81920" y="1332000"/>
              <a:ext cx="900000" cy="387360"/>
            </a:xfrm>
            <a:custGeom>
              <a:avLst/>
              <a:gdLst/>
              <a:ahLst/>
              <a:rect l="l" t="t" r="r" b="b"/>
              <a:pathLst>
                <a:path w="2500" h="1075">
                  <a:moveTo>
                    <a:pt x="2340" y="0"/>
                  </a:moveTo>
                  <a:lnTo>
                    <a:pt x="1219" y="340"/>
                  </a:lnTo>
                  <a:lnTo>
                    <a:pt x="0" y="959"/>
                  </a:lnTo>
                  <a:lnTo>
                    <a:pt x="4" y="1003"/>
                  </a:lnTo>
                  <a:lnTo>
                    <a:pt x="4" y="1039"/>
                  </a:lnTo>
                  <a:lnTo>
                    <a:pt x="4" y="1074"/>
                  </a:lnTo>
                  <a:lnTo>
                    <a:pt x="1228" y="451"/>
                  </a:lnTo>
                  <a:lnTo>
                    <a:pt x="2358" y="30"/>
                  </a:lnTo>
                  <a:lnTo>
                    <a:pt x="2367" y="97"/>
                  </a:lnTo>
                  <a:lnTo>
                    <a:pt x="2499" y="248"/>
                  </a:lnTo>
                  <a:lnTo>
                    <a:pt x="234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91640" y="1552680"/>
              <a:ext cx="434880" cy="280800"/>
            </a:xfrm>
            <a:custGeom>
              <a:avLst/>
              <a:gdLst/>
              <a:ahLst/>
              <a:rect l="l" t="t" r="r" b="b"/>
              <a:pathLst>
                <a:path w="1207" h="779">
                  <a:moveTo>
                    <a:pt x="1175" y="0"/>
                  </a:moveTo>
                  <a:lnTo>
                    <a:pt x="1184" y="92"/>
                  </a:lnTo>
                  <a:lnTo>
                    <a:pt x="1206" y="181"/>
                  </a:lnTo>
                  <a:lnTo>
                    <a:pt x="44" y="778"/>
                  </a:lnTo>
                  <a:lnTo>
                    <a:pt x="30" y="746"/>
                  </a:lnTo>
                  <a:lnTo>
                    <a:pt x="30" y="711"/>
                  </a:lnTo>
                  <a:lnTo>
                    <a:pt x="17" y="680"/>
                  </a:lnTo>
                  <a:lnTo>
                    <a:pt x="8" y="649"/>
                  </a:lnTo>
                  <a:lnTo>
                    <a:pt x="4" y="627"/>
                  </a:lnTo>
                  <a:lnTo>
                    <a:pt x="0" y="601"/>
                  </a:lnTo>
                  <a:lnTo>
                    <a:pt x="117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026560" y="1487520"/>
              <a:ext cx="823680" cy="430200"/>
            </a:xfrm>
            <a:custGeom>
              <a:avLst/>
              <a:gdLst/>
              <a:ahLst/>
              <a:rect l="l" t="t" r="r" b="b"/>
              <a:pathLst>
                <a:path w="2288" h="1194">
                  <a:moveTo>
                    <a:pt x="2287" y="0"/>
                  </a:moveTo>
                  <a:lnTo>
                    <a:pt x="1104" y="504"/>
                  </a:lnTo>
                  <a:lnTo>
                    <a:pt x="0" y="1078"/>
                  </a:lnTo>
                  <a:lnTo>
                    <a:pt x="13" y="1114"/>
                  </a:lnTo>
                  <a:lnTo>
                    <a:pt x="30" y="1149"/>
                  </a:lnTo>
                  <a:lnTo>
                    <a:pt x="44" y="1193"/>
                  </a:lnTo>
                  <a:lnTo>
                    <a:pt x="1078" y="632"/>
                  </a:lnTo>
                  <a:lnTo>
                    <a:pt x="1175" y="543"/>
                  </a:lnTo>
                  <a:lnTo>
                    <a:pt x="2287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072280" y="1763640"/>
              <a:ext cx="459000" cy="293760"/>
            </a:xfrm>
            <a:custGeom>
              <a:avLst/>
              <a:gdLst/>
              <a:ahLst/>
              <a:rect l="l" t="t" r="r" b="b"/>
              <a:pathLst>
                <a:path w="1274" h="815">
                  <a:moveTo>
                    <a:pt x="1141" y="0"/>
                  </a:moveTo>
                  <a:lnTo>
                    <a:pt x="1158" y="57"/>
                  </a:lnTo>
                  <a:lnTo>
                    <a:pt x="1198" y="128"/>
                  </a:lnTo>
                  <a:lnTo>
                    <a:pt x="1238" y="190"/>
                  </a:lnTo>
                  <a:lnTo>
                    <a:pt x="1273" y="239"/>
                  </a:lnTo>
                  <a:lnTo>
                    <a:pt x="137" y="814"/>
                  </a:lnTo>
                  <a:lnTo>
                    <a:pt x="110" y="782"/>
                  </a:lnTo>
                  <a:lnTo>
                    <a:pt x="79" y="729"/>
                  </a:lnTo>
                  <a:lnTo>
                    <a:pt x="52" y="681"/>
                  </a:lnTo>
                  <a:lnTo>
                    <a:pt x="22" y="636"/>
                  </a:lnTo>
                  <a:lnTo>
                    <a:pt x="0" y="592"/>
                  </a:lnTo>
                  <a:lnTo>
                    <a:pt x="1141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501040" y="1590840"/>
              <a:ext cx="422280" cy="293400"/>
            </a:xfrm>
            <a:custGeom>
              <a:avLst/>
              <a:gdLst/>
              <a:ahLst/>
              <a:rect l="l" t="t" r="r" b="b"/>
              <a:pathLst>
                <a:path w="1172" h="814">
                  <a:moveTo>
                    <a:pt x="1171" y="0"/>
                  </a:moveTo>
                  <a:lnTo>
                    <a:pt x="976" y="243"/>
                  </a:lnTo>
                  <a:lnTo>
                    <a:pt x="238" y="813"/>
                  </a:lnTo>
                  <a:lnTo>
                    <a:pt x="0" y="800"/>
                  </a:lnTo>
                  <a:lnTo>
                    <a:pt x="123" y="734"/>
                  </a:lnTo>
                  <a:lnTo>
                    <a:pt x="1171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866080" y="1409760"/>
              <a:ext cx="158760" cy="274680"/>
            </a:xfrm>
            <a:custGeom>
              <a:avLst/>
              <a:gdLst/>
              <a:ahLst/>
              <a:rect l="l" t="t" r="r" b="b"/>
              <a:pathLst>
                <a:path w="439" h="765">
                  <a:moveTo>
                    <a:pt x="354" y="561"/>
                  </a:moveTo>
                  <a:lnTo>
                    <a:pt x="363" y="579"/>
                  </a:lnTo>
                  <a:lnTo>
                    <a:pt x="363" y="601"/>
                  </a:lnTo>
                  <a:lnTo>
                    <a:pt x="354" y="605"/>
                  </a:lnTo>
                  <a:lnTo>
                    <a:pt x="345" y="610"/>
                  </a:lnTo>
                  <a:lnTo>
                    <a:pt x="336" y="605"/>
                  </a:lnTo>
                  <a:lnTo>
                    <a:pt x="319" y="579"/>
                  </a:lnTo>
                  <a:lnTo>
                    <a:pt x="310" y="557"/>
                  </a:lnTo>
                  <a:lnTo>
                    <a:pt x="275" y="494"/>
                  </a:lnTo>
                  <a:lnTo>
                    <a:pt x="230" y="423"/>
                  </a:lnTo>
                  <a:lnTo>
                    <a:pt x="182" y="335"/>
                  </a:lnTo>
                  <a:lnTo>
                    <a:pt x="102" y="176"/>
                  </a:lnTo>
                  <a:lnTo>
                    <a:pt x="57" y="92"/>
                  </a:lnTo>
                  <a:lnTo>
                    <a:pt x="30" y="39"/>
                  </a:lnTo>
                  <a:lnTo>
                    <a:pt x="0" y="0"/>
                  </a:lnTo>
                  <a:lnTo>
                    <a:pt x="35" y="79"/>
                  </a:lnTo>
                  <a:lnTo>
                    <a:pt x="61" y="128"/>
                  </a:lnTo>
                  <a:lnTo>
                    <a:pt x="89" y="180"/>
                  </a:lnTo>
                  <a:lnTo>
                    <a:pt x="120" y="251"/>
                  </a:lnTo>
                  <a:lnTo>
                    <a:pt x="160" y="317"/>
                  </a:lnTo>
                  <a:lnTo>
                    <a:pt x="204" y="410"/>
                  </a:lnTo>
                  <a:lnTo>
                    <a:pt x="239" y="481"/>
                  </a:lnTo>
                  <a:lnTo>
                    <a:pt x="292" y="557"/>
                  </a:lnTo>
                  <a:lnTo>
                    <a:pt x="323" y="614"/>
                  </a:lnTo>
                  <a:lnTo>
                    <a:pt x="359" y="658"/>
                  </a:lnTo>
                  <a:lnTo>
                    <a:pt x="372" y="680"/>
                  </a:lnTo>
                  <a:lnTo>
                    <a:pt x="398" y="698"/>
                  </a:lnTo>
                  <a:lnTo>
                    <a:pt x="438" y="764"/>
                  </a:lnTo>
                  <a:lnTo>
                    <a:pt x="403" y="693"/>
                  </a:lnTo>
                  <a:lnTo>
                    <a:pt x="394" y="676"/>
                  </a:lnTo>
                  <a:lnTo>
                    <a:pt x="389" y="641"/>
                  </a:lnTo>
                  <a:lnTo>
                    <a:pt x="385" y="623"/>
                  </a:lnTo>
                  <a:lnTo>
                    <a:pt x="372" y="601"/>
                  </a:lnTo>
                  <a:lnTo>
                    <a:pt x="363" y="579"/>
                  </a:lnTo>
                  <a:lnTo>
                    <a:pt x="354" y="56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88200" y="1662120"/>
              <a:ext cx="819360" cy="495360"/>
            </a:xfrm>
            <a:custGeom>
              <a:avLst/>
              <a:gdLst/>
              <a:ahLst/>
              <a:rect l="l" t="t" r="r" b="b"/>
              <a:pathLst>
                <a:path w="2276" h="1374">
                  <a:moveTo>
                    <a:pt x="2275" y="35"/>
                  </a:moveTo>
                  <a:lnTo>
                    <a:pt x="1290" y="763"/>
                  </a:lnTo>
                  <a:lnTo>
                    <a:pt x="92" y="1373"/>
                  </a:lnTo>
                  <a:lnTo>
                    <a:pt x="0" y="1307"/>
                  </a:lnTo>
                  <a:lnTo>
                    <a:pt x="1272" y="658"/>
                  </a:lnTo>
                  <a:lnTo>
                    <a:pt x="2227" y="0"/>
                  </a:lnTo>
                  <a:lnTo>
                    <a:pt x="2275" y="35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9556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Fonc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65440" y="2255760"/>
            <a:ext cx="1168920" cy="546480"/>
          </a:xfrm>
          <a:prstGeom prst="roundRect">
            <a:avLst>
              <a:gd name="adj" fmla="val 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c01313"/>
                </a:solidFill>
                <a:latin typeface="Arial"/>
              </a:rPr>
              <a:t>FP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4160" y="2316240"/>
            <a:ext cx="213804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ttre en val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s élé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18640" y="2316240"/>
            <a:ext cx="198108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scr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r un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78440" y="2316240"/>
            <a:ext cx="152856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 utilis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 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289548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3124080"/>
            <a:ext cx="2057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114800" y="2963520"/>
            <a:ext cx="1440" cy="16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2971800"/>
            <a:ext cx="1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19720" y="3124080"/>
            <a:ext cx="1981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477120" y="2963520"/>
            <a:ext cx="1440" cy="16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2971800"/>
            <a:ext cx="18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3124080"/>
            <a:ext cx="1447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8229600" y="2963520"/>
            <a:ext cx="1440" cy="16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09680" y="3274920"/>
            <a:ext cx="1525320" cy="31932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roupe verb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07680" y="3274920"/>
            <a:ext cx="603360" cy="31932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17720" y="3274920"/>
            <a:ext cx="603360" cy="31932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95320" y="4129200"/>
            <a:ext cx="1261800" cy="489960"/>
          </a:xfrm>
          <a:prstGeom prst="roundRect">
            <a:avLst>
              <a:gd name="adj" fmla="val 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01313"/>
                </a:solidFill>
                <a:latin typeface="Arial"/>
              </a:rPr>
              <a:t>FC1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70800" y="4145040"/>
            <a:ext cx="342864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Résis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à l'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nvir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95320" y="4890960"/>
            <a:ext cx="1261800" cy="489960"/>
          </a:xfrm>
          <a:prstGeom prst="roundRect">
            <a:avLst>
              <a:gd name="adj" fmla="val 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01313"/>
                </a:solidFill>
                <a:latin typeface="Arial"/>
              </a:rPr>
              <a:t>FC2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65760" y="4906800"/>
            <a:ext cx="359496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Respec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la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rég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9640" y="5592600"/>
            <a:ext cx="522360" cy="498600"/>
          </a:xfrm>
          <a:custGeom>
            <a:avLst/>
            <a:gdLst/>
            <a:ahLst/>
            <a:rect l="l" t="t" r="r" b="b"/>
            <a:pathLst>
              <a:path w="1449" h="1383">
                <a:moveTo>
                  <a:pt x="0" y="345"/>
                </a:moveTo>
                <a:lnTo>
                  <a:pt x="723" y="345"/>
                </a:lnTo>
                <a:lnTo>
                  <a:pt x="723" y="0"/>
                </a:lnTo>
                <a:lnTo>
                  <a:pt x="1448" y="691"/>
                </a:lnTo>
                <a:lnTo>
                  <a:pt x="723" y="1382"/>
                </a:lnTo>
                <a:lnTo>
                  <a:pt x="723" y="1036"/>
                </a:lnTo>
                <a:lnTo>
                  <a:pt x="0" y="1036"/>
                </a:lnTo>
                <a:lnTo>
                  <a:pt x="0" y="345"/>
                </a:lnTo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62880" y="5668920"/>
            <a:ext cx="524844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 référer au tableau de critères de val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514760" y="3448080"/>
            <a:ext cx="2247840" cy="1181160"/>
          </a:xfrm>
          <a:prstGeom prst="ellipse">
            <a:avLst/>
          </a:prstGeom>
          <a:noFill/>
          <a:ln w="3816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52800" y="3143160"/>
            <a:ext cx="952200" cy="114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9556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Bloc diagramm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2666880"/>
            <a:ext cx="8458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4952880"/>
            <a:ext cx="85345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0560" y="1758960"/>
            <a:ext cx="151128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46640" y="1812960"/>
            <a:ext cx="88056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30560" y="2901960"/>
            <a:ext cx="151128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29000" y="2955960"/>
            <a:ext cx="91260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30560" y="4121280"/>
            <a:ext cx="151128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18480" y="4175280"/>
            <a:ext cx="113364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Mè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206880" y="5340240"/>
            <a:ext cx="1511280" cy="520920"/>
            <a:chOff x="3206880" y="5340240"/>
            <a:chExt cx="1511280" cy="520920"/>
          </a:xfrm>
        </p:grpSpPr>
        <p:sp>
          <p:nvSpPr>
            <p:cNvPr id="200" name=""/>
            <p:cNvSpPr/>
            <p:nvPr/>
          </p:nvSpPr>
          <p:spPr>
            <a:xfrm>
              <a:off x="3206880" y="5340240"/>
              <a:ext cx="1511280" cy="520920"/>
            </a:xfrm>
            <a:prstGeom prst="roundRect">
              <a:avLst>
                <a:gd name="adj" fmla="val 301"/>
              </a:avLst>
            </a:prstGeom>
            <a:solidFill>
              <a:srgbClr val="c0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06880" y="5340240"/>
              <a:ext cx="1511280" cy="520920"/>
            </a:xfrm>
            <a:prstGeom prst="roundRect">
              <a:avLst>
                <a:gd name="adj" fmla="val 30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770468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286080" y="5394240"/>
            <a:ext cx="136224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3680" y="2901960"/>
            <a:ext cx="166356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920" y="2955960"/>
            <a:ext cx="167328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Capuc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645160" y="3206880"/>
            <a:ext cx="257796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0400" y="3260880"/>
            <a:ext cx="260892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Mèche</a:t>
            </a:r>
            <a:r>
              <a:rPr b="1" lang="en-GB" sz="24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intérie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45160" y="4121280"/>
            <a:ext cx="158760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85640" y="4175280"/>
            <a:ext cx="103176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Enc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2286000"/>
            <a:ext cx="1440" cy="609480"/>
          </a:xfrm>
          <a:prstGeom prst="line">
            <a:avLst/>
          </a:prstGeom>
          <a:ln w="127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86200" y="3429000"/>
            <a:ext cx="1440" cy="685800"/>
          </a:xfrm>
          <a:prstGeom prst="line">
            <a:avLst/>
          </a:prstGeom>
          <a:ln w="127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4648320"/>
            <a:ext cx="1440" cy="685800"/>
          </a:xfrm>
          <a:prstGeom prst="line">
            <a:avLst/>
          </a:prstGeom>
          <a:ln w="127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14800" y="2286000"/>
            <a:ext cx="1440" cy="609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33720" y="3048120"/>
            <a:ext cx="99036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14800" y="3429000"/>
            <a:ext cx="144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14800" y="4648320"/>
            <a:ext cx="144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648320" y="3649680"/>
            <a:ext cx="990360" cy="549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10280" y="3733920"/>
            <a:ext cx="180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8320" y="4267080"/>
            <a:ext cx="990360" cy="1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1880" y="2666880"/>
            <a:ext cx="1800" cy="2286000"/>
          </a:xfrm>
          <a:prstGeom prst="line">
            <a:avLst/>
          </a:prstGeom>
          <a:ln w="7632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5257800"/>
            <a:ext cx="1440" cy="228600"/>
          </a:xfrm>
          <a:prstGeom prst="line">
            <a:avLst/>
          </a:prstGeom>
          <a:ln w="127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15840" y="5234040"/>
            <a:ext cx="1674720" cy="3481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lux princip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5638680"/>
            <a:ext cx="1440" cy="228600"/>
          </a:xfrm>
          <a:prstGeom prst="line">
            <a:avLst/>
          </a:prstGeom>
          <a:ln w="381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70120" y="5614920"/>
            <a:ext cx="1458360" cy="3481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lux bouc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5880" y="5334120"/>
            <a:ext cx="1800" cy="4572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59680" y="5386320"/>
            <a:ext cx="2108880" cy="3481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mites de l'é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AMDEC</dc:title>
</cp:coreProperties>
</file>