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3B4CB-063D-4E38-B5B8-C1CF4CD6082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7329D-4454-48BC-9EA2-A5C7FEE5C364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985680" y="742680"/>
            <a:ext cx="4881600" cy="36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8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1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8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1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560" y="74520"/>
            <a:ext cx="77659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8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1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8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1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560" y="74520"/>
            <a:ext cx="77659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E0C11-822D-4984-BA3F-E0EF4A67EC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D2C46-9C90-4817-B40E-6A30AD4B58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080" y="2285640"/>
            <a:ext cx="7731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6760" y="3816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ycle de vie d'un produi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0" y="1606680"/>
            <a:ext cx="4483080" cy="44830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4360" y="1219320"/>
            <a:ext cx="1800" cy="5181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416400" y="3503520"/>
            <a:ext cx="3065400" cy="641520"/>
            <a:chOff x="3416400" y="3503520"/>
            <a:chExt cx="3065400" cy="641520"/>
          </a:xfrm>
        </p:grpSpPr>
        <p:sp>
          <p:nvSpPr>
            <p:cNvPr id="104" name=""/>
            <p:cNvSpPr/>
            <p:nvPr/>
          </p:nvSpPr>
          <p:spPr>
            <a:xfrm>
              <a:off x="3416400" y="3503520"/>
              <a:ext cx="3065400" cy="641520"/>
            </a:xfrm>
            <a:prstGeom prst="roundRect">
              <a:avLst>
                <a:gd name="adj" fmla="val 245"/>
              </a:avLst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1840" y="3503520"/>
              <a:ext cx="2499120" cy="60336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5160" y="1197000"/>
            <a:ext cx="2181240" cy="469800"/>
            <a:chOff x="2135160" y="1197000"/>
            <a:chExt cx="2181240" cy="469800"/>
          </a:xfrm>
        </p:grpSpPr>
        <p:sp>
          <p:nvSpPr>
            <p:cNvPr id="107" name=""/>
            <p:cNvSpPr/>
            <p:nvPr/>
          </p:nvSpPr>
          <p:spPr>
            <a:xfrm>
              <a:off x="2135160" y="1197000"/>
              <a:ext cx="218124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0040" y="1197000"/>
              <a:ext cx="185292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spéc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1280" y="3406680"/>
            <a:ext cx="1852560" cy="470160"/>
            <a:chOff x="611280" y="3406680"/>
            <a:chExt cx="1852560" cy="470160"/>
          </a:xfrm>
        </p:grpSpPr>
        <p:sp>
          <p:nvSpPr>
            <p:cNvPr id="110" name=""/>
            <p:cNvSpPr/>
            <p:nvPr/>
          </p:nvSpPr>
          <p:spPr>
            <a:xfrm>
              <a:off x="611280" y="3406680"/>
              <a:ext cx="185256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8680" y="3406680"/>
              <a:ext cx="151776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conc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8480" y="5159520"/>
            <a:ext cx="1714320" cy="469800"/>
            <a:chOff x="1068480" y="5159520"/>
            <a:chExt cx="1714320" cy="469800"/>
          </a:xfrm>
        </p:grpSpPr>
        <p:sp>
          <p:nvSpPr>
            <p:cNvPr id="113" name=""/>
            <p:cNvSpPr/>
            <p:nvPr/>
          </p:nvSpPr>
          <p:spPr>
            <a:xfrm>
              <a:off x="1068480" y="5159520"/>
              <a:ext cx="171432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4120" y="5159520"/>
              <a:ext cx="146448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fabr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92560" y="6302520"/>
            <a:ext cx="1522440" cy="469800"/>
            <a:chOff x="4192560" y="6302520"/>
            <a:chExt cx="1522440" cy="469800"/>
          </a:xfrm>
        </p:grpSpPr>
        <p:sp>
          <p:nvSpPr>
            <p:cNvPr id="116" name=""/>
            <p:cNvSpPr/>
            <p:nvPr/>
          </p:nvSpPr>
          <p:spPr>
            <a:xfrm>
              <a:off x="4192560" y="6302520"/>
              <a:ext cx="152244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6280" y="6302520"/>
              <a:ext cx="121464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livra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59440" y="5235480"/>
            <a:ext cx="1684440" cy="470160"/>
            <a:chOff x="6859440" y="5235480"/>
            <a:chExt cx="1684440" cy="470160"/>
          </a:xfrm>
        </p:grpSpPr>
        <p:sp>
          <p:nvSpPr>
            <p:cNvPr id="119" name=""/>
            <p:cNvSpPr/>
            <p:nvPr/>
          </p:nvSpPr>
          <p:spPr>
            <a:xfrm>
              <a:off x="6859440" y="5235480"/>
              <a:ext cx="168444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7480" y="5235480"/>
              <a:ext cx="136836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util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62920" y="3232080"/>
            <a:ext cx="1915920" cy="469800"/>
            <a:chOff x="7162920" y="3232080"/>
            <a:chExt cx="1915920" cy="469800"/>
          </a:xfrm>
        </p:grpSpPr>
        <p:sp>
          <p:nvSpPr>
            <p:cNvPr id="122" name=""/>
            <p:cNvSpPr/>
            <p:nvPr/>
          </p:nvSpPr>
          <p:spPr>
            <a:xfrm>
              <a:off x="7162920" y="3232080"/>
              <a:ext cx="191592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26000" y="3232080"/>
              <a:ext cx="158940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explo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021360" y="1273320"/>
            <a:ext cx="3005280" cy="469800"/>
            <a:chOff x="6021360" y="1273320"/>
            <a:chExt cx="3005280" cy="469800"/>
          </a:xfrm>
        </p:grpSpPr>
        <p:sp>
          <p:nvSpPr>
            <p:cNvPr id="125" name=""/>
            <p:cNvSpPr/>
            <p:nvPr/>
          </p:nvSpPr>
          <p:spPr>
            <a:xfrm>
              <a:off x="6021360" y="1273320"/>
              <a:ext cx="300528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76600" y="1273320"/>
              <a:ext cx="249480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retour d'expér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449360" y="2263680"/>
            <a:ext cx="558720" cy="470160"/>
            <a:chOff x="1449360" y="2263680"/>
            <a:chExt cx="558720" cy="470160"/>
          </a:xfrm>
        </p:grpSpPr>
        <p:sp>
          <p:nvSpPr>
            <p:cNvPr id="128" name=""/>
            <p:cNvSpPr/>
            <p:nvPr/>
          </p:nvSpPr>
          <p:spPr>
            <a:xfrm>
              <a:off x="1449360" y="2263680"/>
              <a:ext cx="55872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4400" y="2263680"/>
              <a:ext cx="54684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cc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58960" y="2911320"/>
            <a:ext cx="4025880" cy="128268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56640" y="3240000"/>
            <a:ext cx="25585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 /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5960" y="4530600"/>
            <a:ext cx="2882880" cy="7495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39320" y="4764240"/>
            <a:ext cx="2037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11640" y="4645080"/>
            <a:ext cx="2959200" cy="74916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9080" y="4840200"/>
            <a:ext cx="1882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01760" y="1692360"/>
            <a:ext cx="547380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1076400"/>
            <a:ext cx="472464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54640" y="1996920"/>
            <a:ext cx="1282680" cy="44460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96000" y="202104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2560" y="2448000"/>
            <a:ext cx="165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81680" y="2448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60480" y="2554200"/>
            <a:ext cx="510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36720" y="4124160"/>
            <a:ext cx="3175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52880" y="4048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14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018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059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br>
              <a:rPr sz="3200"/>
            </a:br>
            <a:r>
              <a:rPr b="1" lang="en-GB" sz="3200" spc="-1" strike="noStrike">
                <a:solidFill>
                  <a:srgbClr val="ccccff"/>
                </a:solidFill>
                <a:latin typeface="Arial"/>
              </a:rPr>
              <a:t>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32160" y="3011400"/>
            <a:ext cx="7358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76120" y="2992320"/>
            <a:ext cx="2546280" cy="98640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mettr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rant de la 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2960" y="5526000"/>
            <a:ext cx="8049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68720" y="5545080"/>
            <a:ext cx="21409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ésister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31560" y="5450040"/>
            <a:ext cx="850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03040" y="5450040"/>
            <a:ext cx="18957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rise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380960"/>
            <a:ext cx="6094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5960" y="1901880"/>
            <a:ext cx="2425680" cy="59688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58960" y="2021040"/>
            <a:ext cx="1941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533412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43440" y="2239920"/>
            <a:ext cx="1135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02160" y="2216160"/>
            <a:ext cx="1739880" cy="444600"/>
          </a:xfrm>
          <a:prstGeom prst="roundRect">
            <a:avLst>
              <a:gd name="adj" fmla="val 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94000" y="566892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2160" y="5568840"/>
            <a:ext cx="1739880" cy="520920"/>
          </a:xfrm>
          <a:prstGeom prst="roundRect">
            <a:avLst>
              <a:gd name="adj" fmla="val 3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2666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289548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58128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5029200"/>
            <a:ext cx="144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14600" y="48769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41911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32767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14600" y="3505320"/>
            <a:ext cx="198108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2666880"/>
            <a:ext cx="1800" cy="4572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581280"/>
            <a:ext cx="1800" cy="2286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267080"/>
            <a:ext cx="1800" cy="3049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5029200"/>
            <a:ext cx="1800" cy="533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135160" y="3049560"/>
            <a:ext cx="3046320" cy="380880"/>
            <a:chOff x="2135160" y="3049560"/>
            <a:chExt cx="3046320" cy="380880"/>
          </a:xfrm>
        </p:grpSpPr>
        <p:grpSp>
          <p:nvGrpSpPr>
            <p:cNvPr id="430" name=""/>
            <p:cNvGrpSpPr/>
            <p:nvPr/>
          </p:nvGrpSpPr>
          <p:grpSpPr>
            <a:xfrm>
              <a:off x="3657600" y="3049560"/>
              <a:ext cx="1523880" cy="380880"/>
              <a:chOff x="3657600" y="3049560"/>
              <a:chExt cx="1523880" cy="380880"/>
            </a:xfrm>
          </p:grpSpPr>
          <p:sp>
            <p:nvSpPr>
              <p:cNvPr id="431" name=""/>
              <p:cNvSpPr/>
              <p:nvPr/>
            </p:nvSpPr>
            <p:spPr>
              <a:xfrm>
                <a:off x="3657600" y="3049560"/>
                <a:ext cx="152388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57600" y="3049560"/>
                <a:ext cx="1523880" cy="380880"/>
              </a:xfrm>
              <a:custGeom>
                <a:avLst/>
                <a:gdLst/>
                <a:ahLst/>
                <a:rect l="l" t="t" r="r" b="b"/>
                <a:pathLst>
                  <a:path w="4233" h="1059">
                    <a:moveTo>
                      <a:pt x="4232" y="1058"/>
                    </a:moveTo>
                    <a:lnTo>
                      <a:pt x="4226" y="1003"/>
                    </a:lnTo>
                    <a:lnTo>
                      <a:pt x="4209" y="947"/>
                    </a:lnTo>
                    <a:lnTo>
                      <a:pt x="4180" y="892"/>
                    </a:lnTo>
                    <a:lnTo>
                      <a:pt x="4140" y="838"/>
                    </a:lnTo>
                    <a:lnTo>
                      <a:pt x="4088" y="784"/>
                    </a:lnTo>
                    <a:lnTo>
                      <a:pt x="4025" y="731"/>
                    </a:lnTo>
                    <a:lnTo>
                      <a:pt x="3951" y="679"/>
                    </a:lnTo>
                    <a:lnTo>
                      <a:pt x="3866" y="628"/>
                    </a:lnTo>
                    <a:lnTo>
                      <a:pt x="3771" y="578"/>
                    </a:lnTo>
                    <a:lnTo>
                      <a:pt x="3665" y="529"/>
                    </a:lnTo>
                    <a:lnTo>
                      <a:pt x="3549" y="482"/>
                    </a:lnTo>
                    <a:lnTo>
                      <a:pt x="3424" y="436"/>
                    </a:lnTo>
                    <a:lnTo>
                      <a:pt x="3289" y="392"/>
                    </a:lnTo>
                    <a:lnTo>
                      <a:pt x="3145" y="350"/>
                    </a:lnTo>
                    <a:lnTo>
                      <a:pt x="2992" y="310"/>
                    </a:lnTo>
                    <a:lnTo>
                      <a:pt x="2832" y="272"/>
                    </a:lnTo>
                    <a:lnTo>
                      <a:pt x="2663" y="236"/>
                    </a:lnTo>
                    <a:lnTo>
                      <a:pt x="2488" y="202"/>
                    </a:lnTo>
                    <a:lnTo>
                      <a:pt x="2305" y="171"/>
                    </a:lnTo>
                    <a:lnTo>
                      <a:pt x="2116" y="142"/>
                    </a:lnTo>
                    <a:lnTo>
                      <a:pt x="1921" y="115"/>
                    </a:lnTo>
                    <a:lnTo>
                      <a:pt x="1721" y="91"/>
                    </a:lnTo>
                    <a:lnTo>
                      <a:pt x="1517" y="70"/>
                    </a:lnTo>
                    <a:lnTo>
                      <a:pt x="1308" y="52"/>
                    </a:lnTo>
                    <a:lnTo>
                      <a:pt x="1095" y="36"/>
                    </a:lnTo>
                    <a:lnTo>
                      <a:pt x="880" y="23"/>
                    </a:lnTo>
                    <a:lnTo>
                      <a:pt x="662" y="13"/>
                    </a:lnTo>
                    <a:lnTo>
                      <a:pt x="442" y="6"/>
                    </a:lnTo>
                    <a:lnTo>
                      <a:pt x="221" y="1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135160" y="3049560"/>
              <a:ext cx="1522440" cy="380880"/>
              <a:chOff x="2135160" y="3049560"/>
              <a:chExt cx="1522440" cy="380880"/>
            </a:xfrm>
          </p:grpSpPr>
          <p:sp>
            <p:nvSpPr>
              <p:cNvPr id="434" name=""/>
              <p:cNvSpPr/>
              <p:nvPr/>
            </p:nvSpPr>
            <p:spPr>
              <a:xfrm>
                <a:off x="2135160" y="3049560"/>
                <a:ext cx="152244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35160" y="3049560"/>
                <a:ext cx="1522440" cy="380880"/>
              </a:xfrm>
              <a:custGeom>
                <a:avLst/>
                <a:gdLst/>
                <a:ahLst/>
                <a:rect l="l" t="t" r="r" b="b"/>
                <a:pathLst>
                  <a:path w="4229" h="1059">
                    <a:moveTo>
                      <a:pt x="4228" y="0"/>
                    </a:moveTo>
                    <a:lnTo>
                      <a:pt x="4007" y="1"/>
                    </a:lnTo>
                    <a:lnTo>
                      <a:pt x="3786" y="6"/>
                    </a:lnTo>
                    <a:lnTo>
                      <a:pt x="3567" y="13"/>
                    </a:lnTo>
                    <a:lnTo>
                      <a:pt x="3349" y="23"/>
                    </a:lnTo>
                    <a:lnTo>
                      <a:pt x="3134" y="36"/>
                    </a:lnTo>
                    <a:lnTo>
                      <a:pt x="2921" y="52"/>
                    </a:lnTo>
                    <a:lnTo>
                      <a:pt x="2713" y="70"/>
                    </a:lnTo>
                    <a:lnTo>
                      <a:pt x="2508" y="91"/>
                    </a:lnTo>
                    <a:lnTo>
                      <a:pt x="2309" y="115"/>
                    </a:lnTo>
                    <a:lnTo>
                      <a:pt x="2114" y="142"/>
                    </a:lnTo>
                    <a:lnTo>
                      <a:pt x="1925" y="171"/>
                    </a:lnTo>
                    <a:lnTo>
                      <a:pt x="1743" y="202"/>
                    </a:lnTo>
                    <a:lnTo>
                      <a:pt x="1567" y="236"/>
                    </a:lnTo>
                    <a:lnTo>
                      <a:pt x="1399" y="272"/>
                    </a:lnTo>
                    <a:lnTo>
                      <a:pt x="1238" y="310"/>
                    </a:lnTo>
                    <a:lnTo>
                      <a:pt x="1086" y="350"/>
                    </a:lnTo>
                    <a:lnTo>
                      <a:pt x="942" y="392"/>
                    </a:lnTo>
                    <a:lnTo>
                      <a:pt x="807" y="436"/>
                    </a:lnTo>
                    <a:lnTo>
                      <a:pt x="682" y="482"/>
                    </a:lnTo>
                    <a:lnTo>
                      <a:pt x="566" y="529"/>
                    </a:lnTo>
                    <a:lnTo>
                      <a:pt x="461" y="578"/>
                    </a:lnTo>
                    <a:lnTo>
                      <a:pt x="366" y="628"/>
                    </a:lnTo>
                    <a:lnTo>
                      <a:pt x="281" y="679"/>
                    </a:lnTo>
                    <a:lnTo>
                      <a:pt x="207" y="731"/>
                    </a:lnTo>
                    <a:lnTo>
                      <a:pt x="144" y="784"/>
                    </a:lnTo>
                    <a:lnTo>
                      <a:pt x="92" y="838"/>
                    </a:lnTo>
                    <a:lnTo>
                      <a:pt x="52" y="892"/>
                    </a:lnTo>
                    <a:lnTo>
                      <a:pt x="23" y="947"/>
                    </a:lnTo>
                    <a:lnTo>
                      <a:pt x="6" y="1003"/>
                    </a:lnTo>
                    <a:lnTo>
                      <a:pt x="0" y="1058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2440080" y="3581280"/>
            <a:ext cx="2133360" cy="304920"/>
            <a:chOff x="2440080" y="3581280"/>
            <a:chExt cx="2133360" cy="304920"/>
          </a:xfrm>
        </p:grpSpPr>
        <p:sp>
          <p:nvSpPr>
            <p:cNvPr id="437" name=""/>
            <p:cNvSpPr/>
            <p:nvPr/>
          </p:nvSpPr>
          <p:spPr>
            <a:xfrm>
              <a:off x="2440080" y="3581280"/>
              <a:ext cx="21333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40080" y="35812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0"/>
                  </a:moveTo>
                  <a:lnTo>
                    <a:pt x="8" y="44"/>
                  </a:lnTo>
                  <a:lnTo>
                    <a:pt x="32" y="89"/>
                  </a:lnTo>
                  <a:lnTo>
                    <a:pt x="73" y="132"/>
                  </a:lnTo>
                  <a:lnTo>
                    <a:pt x="129" y="176"/>
                  </a:lnTo>
                  <a:lnTo>
                    <a:pt x="202" y="219"/>
                  </a:lnTo>
                  <a:lnTo>
                    <a:pt x="290" y="262"/>
                  </a:lnTo>
                  <a:lnTo>
                    <a:pt x="394" y="304"/>
                  </a:lnTo>
                  <a:lnTo>
                    <a:pt x="512" y="345"/>
                  </a:lnTo>
                  <a:lnTo>
                    <a:pt x="646" y="385"/>
                  </a:lnTo>
                  <a:lnTo>
                    <a:pt x="794" y="424"/>
                  </a:lnTo>
                  <a:lnTo>
                    <a:pt x="956" y="461"/>
                  </a:lnTo>
                  <a:lnTo>
                    <a:pt x="1132" y="498"/>
                  </a:lnTo>
                  <a:lnTo>
                    <a:pt x="1321" y="533"/>
                  </a:lnTo>
                  <a:lnTo>
                    <a:pt x="1522" y="567"/>
                  </a:lnTo>
                  <a:lnTo>
                    <a:pt x="1736" y="599"/>
                  </a:lnTo>
                  <a:lnTo>
                    <a:pt x="1961" y="629"/>
                  </a:lnTo>
                  <a:lnTo>
                    <a:pt x="2197" y="658"/>
                  </a:lnTo>
                  <a:lnTo>
                    <a:pt x="2443" y="685"/>
                  </a:lnTo>
                  <a:lnTo>
                    <a:pt x="2698" y="710"/>
                  </a:lnTo>
                  <a:lnTo>
                    <a:pt x="2963" y="734"/>
                  </a:lnTo>
                  <a:lnTo>
                    <a:pt x="3236" y="755"/>
                  </a:lnTo>
                  <a:lnTo>
                    <a:pt x="3516" y="774"/>
                  </a:lnTo>
                  <a:lnTo>
                    <a:pt x="3802" y="791"/>
                  </a:lnTo>
                  <a:lnTo>
                    <a:pt x="4095" y="806"/>
                  </a:lnTo>
                  <a:lnTo>
                    <a:pt x="4392" y="818"/>
                  </a:lnTo>
                  <a:lnTo>
                    <a:pt x="4694" y="828"/>
                  </a:lnTo>
                  <a:lnTo>
                    <a:pt x="4999" y="837"/>
                  </a:lnTo>
                  <a:lnTo>
                    <a:pt x="5307" y="842"/>
                  </a:lnTo>
                  <a:lnTo>
                    <a:pt x="5616" y="846"/>
                  </a:lnTo>
                  <a:lnTo>
                    <a:pt x="5926" y="847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800600" y="3581280"/>
            <a:ext cx="228600" cy="533520"/>
            <a:chOff x="4800600" y="3581280"/>
            <a:chExt cx="228600" cy="533520"/>
          </a:xfrm>
        </p:grpSpPr>
        <p:sp>
          <p:nvSpPr>
            <p:cNvPr id="440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50366">
                  <a:moveTo>
                    <a:pt x="150" y="0"/>
                  </a:moveTo>
                  <a:arcTo wR="150" hR="150" stAng="16200000" swAng="-5400000"/>
                  <a:lnTo>
                    <a:pt x="0" y="50216"/>
                  </a:lnTo>
                  <a:arcTo wR="150" hR="150" stAng="10800000" swAng="-5400000"/>
                  <a:lnTo>
                    <a:pt x="21450" y="50366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/>
              <a:ahLst/>
              <a:rect l="l" t="t" r="r" b="b"/>
              <a:pathLst>
                <a:path w="636" h="1483">
                  <a:moveTo>
                    <a:pt x="0" y="1482"/>
                  </a:moveTo>
                  <a:lnTo>
                    <a:pt x="33" y="1480"/>
                  </a:lnTo>
                  <a:lnTo>
                    <a:pt x="66" y="1474"/>
                  </a:lnTo>
                  <a:lnTo>
                    <a:pt x="99" y="1464"/>
                  </a:lnTo>
                  <a:lnTo>
                    <a:pt x="132" y="1450"/>
                  </a:lnTo>
                  <a:lnTo>
                    <a:pt x="164" y="1432"/>
                  </a:lnTo>
                  <a:lnTo>
                    <a:pt x="196" y="1409"/>
                  </a:lnTo>
                  <a:lnTo>
                    <a:pt x="228" y="1384"/>
                  </a:lnTo>
                  <a:lnTo>
                    <a:pt x="258" y="1354"/>
                  </a:lnTo>
                  <a:lnTo>
                    <a:pt x="288" y="1320"/>
                  </a:lnTo>
                  <a:lnTo>
                    <a:pt x="318" y="1283"/>
                  </a:lnTo>
                  <a:lnTo>
                    <a:pt x="346" y="1243"/>
                  </a:lnTo>
                  <a:lnTo>
                    <a:pt x="373" y="1199"/>
                  </a:lnTo>
                  <a:lnTo>
                    <a:pt x="400" y="1152"/>
                  </a:lnTo>
                  <a:lnTo>
                    <a:pt x="425" y="1101"/>
                  </a:lnTo>
                  <a:lnTo>
                    <a:pt x="449" y="1048"/>
                  </a:lnTo>
                  <a:lnTo>
                    <a:pt x="472" y="992"/>
                  </a:lnTo>
                  <a:lnTo>
                    <a:pt x="493" y="933"/>
                  </a:lnTo>
                  <a:lnTo>
                    <a:pt x="514" y="871"/>
                  </a:lnTo>
                  <a:lnTo>
                    <a:pt x="533" y="807"/>
                  </a:lnTo>
                  <a:lnTo>
                    <a:pt x="550" y="741"/>
                  </a:lnTo>
                  <a:lnTo>
                    <a:pt x="566" y="673"/>
                  </a:lnTo>
                  <a:lnTo>
                    <a:pt x="580" y="603"/>
                  </a:lnTo>
                  <a:lnTo>
                    <a:pt x="593" y="531"/>
                  </a:lnTo>
                  <a:lnTo>
                    <a:pt x="604" y="458"/>
                  </a:lnTo>
                  <a:lnTo>
                    <a:pt x="613" y="384"/>
                  </a:lnTo>
                  <a:lnTo>
                    <a:pt x="621" y="308"/>
                  </a:lnTo>
                  <a:lnTo>
                    <a:pt x="627" y="232"/>
                  </a:lnTo>
                  <a:lnTo>
                    <a:pt x="632" y="155"/>
                  </a:lnTo>
                  <a:lnTo>
                    <a:pt x="634" y="78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824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40760" y="3154320"/>
            <a:ext cx="1119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0216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72240" y="3154320"/>
            <a:ext cx="921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00160" y="4057560"/>
            <a:ext cx="3314880" cy="723960"/>
          </a:xfrm>
          <a:prstGeom prst="ellipse">
            <a:avLst/>
          </a:prstGeom>
          <a:noFill/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824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7680" y="3840120"/>
            <a:ext cx="906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824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2240"/>
            <a:ext cx="566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0216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59280" y="3840120"/>
            <a:ext cx="9507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0216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09520" y="4602240"/>
            <a:ext cx="14032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00400"/>
            <a:ext cx="1440" cy="15228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4360" y="310032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3886200"/>
            <a:ext cx="1440" cy="15228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96400" y="37861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ritères de val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9040" y="5273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9040" y="45878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9040" y="3368520"/>
            <a:ext cx="8369280" cy="29232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9040" y="1844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9040" y="1387440"/>
            <a:ext cx="8369280" cy="444600"/>
          </a:xfrm>
          <a:prstGeom prst="roundRect">
            <a:avLst>
              <a:gd name="adj" fmla="val 356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1960" y="1503360"/>
            <a:ext cx="100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93000" y="1503360"/>
            <a:ext cx="7117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73720" y="1503360"/>
            <a:ext cx="14781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ORI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81600" y="1503360"/>
            <a:ext cx="1961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DESTINA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2560" y="1838160"/>
            <a:ext cx="83822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3760" y="1884240"/>
            <a:ext cx="7466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p (él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5560" y="1380960"/>
            <a:ext cx="1800" cy="48006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87720" y="1860480"/>
            <a:ext cx="1062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80440" y="1860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23640" y="1860480"/>
            <a:ext cx="394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38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93120" y="2189160"/>
            <a:ext cx="10926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e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30320" y="2189160"/>
            <a:ext cx="967680" cy="1179000"/>
          </a:xfrm>
          <a:custGeom>
            <a:avLst/>
            <a:gdLst>
              <a:gd name="textAreaLeft" fmla="*/ 360 w 967680"/>
              <a:gd name="textAreaRight" fmla="*/ 967320 w 96768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6315">
                <a:moveTo>
                  <a:pt x="35" y="0"/>
                </a:moveTo>
                <a:arcTo wR="35" hR="35" stAng="16200000" swAng="-5400000"/>
                <a:lnTo>
                  <a:pt x="0" y="26280"/>
                </a:lnTo>
                <a:arcTo wR="35" hR="35" stAng="10800000" swAng="-5400000"/>
                <a:lnTo>
                  <a:pt x="21565" y="2631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c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5160" y="1393920"/>
            <a:ext cx="8356680" cy="477504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214308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97560" y="2189160"/>
            <a:ext cx="1053000" cy="1179000"/>
          </a:xfrm>
          <a:custGeom>
            <a:avLst/>
            <a:gdLst>
              <a:gd name="textAreaLeft" fmla="*/ 360 w 1053000"/>
              <a:gd name="textAreaRight" fmla="*/ 1052640 w 105300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4184">
                <a:moveTo>
                  <a:pt x="32" y="0"/>
                </a:moveTo>
                <a:arcTo wR="32" hR="32" stAng="16200000" swAng="-5400000"/>
                <a:lnTo>
                  <a:pt x="0" y="24152"/>
                </a:lnTo>
                <a:arcTo wR="32" hR="32" stAng="10800000" swAng="-5400000"/>
                <a:lnTo>
                  <a:pt x="21568" y="2418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2560" y="3362400"/>
            <a:ext cx="83822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4120" y="340848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360" y="3384720"/>
            <a:ext cx="7632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Ré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48600" y="3384720"/>
            <a:ext cx="1280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2560" y="3666960"/>
            <a:ext cx="8382240" cy="1800"/>
          </a:xfrm>
          <a:prstGeom prst="line">
            <a:avLst/>
          </a:prstGeom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0120" y="3637080"/>
            <a:ext cx="15984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hu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peurs hydrocarb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ion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2560" y="458136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4120" y="462744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86640" y="4603680"/>
            <a:ext cx="864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utor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13320" y="4603680"/>
            <a:ext cx="124344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2560" y="488628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43600" y="485604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2560" y="526716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3040" y="5313240"/>
            <a:ext cx="839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 (mé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17160" y="5541840"/>
            <a:ext cx="136836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serrag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04120" y="3637080"/>
            <a:ext cx="651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1880" y="5289480"/>
            <a:ext cx="9036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5572080"/>
            <a:ext cx="830592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03760" y="5289480"/>
            <a:ext cx="614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47320" y="5289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94800" y="4856040"/>
            <a:ext cx="1449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men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07000" y="5618160"/>
            <a:ext cx="82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73160" y="5618160"/>
            <a:ext cx="8287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81636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948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16160" y="1606680"/>
            <a:ext cx="1282680" cy="4635360"/>
          </a:xfrm>
          <a:custGeom>
            <a:avLst/>
            <a:gdLst>
              <a:gd name="textAreaLeft" fmla="*/ 360 w 1282680"/>
              <a:gd name="textAreaRight" fmla="*/ 1282320 w 12826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78042">
                <a:moveTo>
                  <a:pt x="26" y="0"/>
                </a:moveTo>
                <a:arcTo wR="26" hR="26" stAng="16200000" swAng="-5400000"/>
                <a:lnTo>
                  <a:pt x="0" y="78016"/>
                </a:lnTo>
                <a:arcTo wR="26" hR="26" stAng="10800000" swAng="-5400000"/>
                <a:lnTo>
                  <a:pt x="21574" y="78042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Grille AMDEC</a:t>
            </a:r>
            <a:br>
              <a:rPr sz="3200"/>
            </a:br>
            <a:r>
              <a:rPr b="1" lang="en-GB" sz="2800" spc="-1" strike="noStrike">
                <a:solidFill>
                  <a:srgbClr val="500093"/>
                </a:solidFill>
                <a:latin typeface="Arial"/>
              </a:rPr>
              <a:t>Batteri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7520" y="1612800"/>
            <a:ext cx="8432640" cy="462276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6200" y="1698480"/>
            <a:ext cx="8607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53600" y="1698480"/>
            <a:ext cx="621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89120" y="1698480"/>
            <a:ext cx="385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8560" y="1698480"/>
            <a:ext cx="722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1698480"/>
            <a:ext cx="909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Dé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98800" y="1698480"/>
            <a:ext cx="294120" cy="295560"/>
          </a:xfrm>
          <a:custGeom>
            <a:avLst/>
            <a:gdLst>
              <a:gd name="textAreaLeft" fmla="*/ 360 w 294120"/>
              <a:gd name="textAreaRight" fmla="*/ 293760 w 294120"/>
              <a:gd name="textAreaTop" fmla="*/ 360 h 295560"/>
              <a:gd name="textAreaBottom" fmla="*/ 295200 h 295560"/>
            </a:gdLst>
            <a:ahLst/>
            <a:rect l="textAreaLeft" t="textAreaTop" r="textAreaRight" b="textAreaBottom"/>
            <a:pathLst>
              <a:path w="21600" h="21706">
                <a:moveTo>
                  <a:pt x="117" y="0"/>
                </a:moveTo>
                <a:arcTo wR="117" hR="117" stAng="16200000" swAng="-5400000"/>
                <a:lnTo>
                  <a:pt x="0" y="21589"/>
                </a:lnTo>
                <a:arcTo wR="117" hR="117" stAng="10800000" swAng="-5400000"/>
                <a:lnTo>
                  <a:pt x="21483" y="21706"/>
                </a:lnTo>
                <a:arcTo wR="117" hR="117" stAng="5400000" swAng="-5400000"/>
                <a:lnTo>
                  <a:pt x="21600" y="117"/>
                </a:lnTo>
                <a:arcTo wR="117" hR="1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03000" y="1698480"/>
            <a:ext cx="3243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0792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8916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26160" y="1622520"/>
            <a:ext cx="1020960" cy="508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Solu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r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43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2133720"/>
            <a:ext cx="845820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26080" y="2255760"/>
            <a:ext cx="896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uffi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96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91320" y="1698480"/>
            <a:ext cx="12571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nsé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94920" y="2255760"/>
            <a:ext cx="118692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solid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93320" y="2179800"/>
            <a:ext cx="91116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i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76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61440" y="2408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44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866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70400" y="2179800"/>
            <a:ext cx="16596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ndelle frein sur écr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rou fre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498840" y="297180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89480" y="24843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93320" y="3017880"/>
            <a:ext cx="90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36520" y="3429000"/>
            <a:ext cx="76327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8948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61440" y="301788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99160" y="2408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9916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0408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0408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0720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0720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13560" y="2408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13560" y="30942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71120" y="3017880"/>
            <a:ext cx="153756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z les fourniss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5880" y="2332080"/>
            <a:ext cx="363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26800" y="3551400"/>
            <a:ext cx="81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 fa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94920" y="3475080"/>
            <a:ext cx="133020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formation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tenabilité di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93680" y="3475080"/>
            <a:ext cx="8884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498840" y="388620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894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61440" y="3551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70400" y="3475080"/>
            <a:ext cx="1415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93680" y="3932280"/>
            <a:ext cx="10728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la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61440" y="400860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136520" y="4572000"/>
            <a:ext cx="76327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94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70760" y="4084560"/>
            <a:ext cx="1053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x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9916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9916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040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040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07200" y="3551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07200" y="40845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13560" y="355140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13560" y="408456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25360" y="4694400"/>
            <a:ext cx="11260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92760" y="4618080"/>
            <a:ext cx="130608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saillement bo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très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93680" y="4618080"/>
            <a:ext cx="10789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éné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61440" y="4694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98840" y="510552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69320" y="4694400"/>
            <a:ext cx="16304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ibilisation mon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93320" y="522756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fil tor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8948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89480" y="553248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35960" y="545616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69680" y="5456160"/>
            <a:ext cx="16228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gmenter longueur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9916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0408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0720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13560" y="4694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9916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0408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0720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13560" y="545616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237760" y="46080"/>
            <a:ext cx="4384440" cy="579240"/>
            <a:chOff x="2237760" y="46080"/>
            <a:chExt cx="4384440" cy="579240"/>
          </a:xfrm>
        </p:grpSpPr>
        <p:sp>
          <p:nvSpPr>
            <p:cNvPr id="131" name=""/>
            <p:cNvSpPr/>
            <p:nvPr/>
          </p:nvSpPr>
          <p:spPr>
            <a:xfrm>
              <a:off x="2270160" y="46080"/>
              <a:ext cx="431640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37760" y="46080"/>
              <a:ext cx="438444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nalyse fonctionne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54920" y="3017880"/>
            <a:ext cx="1677600" cy="579240"/>
            <a:chOff x="6154920" y="3017880"/>
            <a:chExt cx="1677600" cy="579240"/>
          </a:xfrm>
        </p:grpSpPr>
        <p:sp>
          <p:nvSpPr>
            <p:cNvPr id="134" name=""/>
            <p:cNvSpPr/>
            <p:nvPr/>
          </p:nvSpPr>
          <p:spPr>
            <a:xfrm>
              <a:off x="6156360" y="3017880"/>
              <a:ext cx="167472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54920" y="3017880"/>
              <a:ext cx="167760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MD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3320" y="3017880"/>
            <a:ext cx="4090320" cy="579240"/>
            <a:chOff x="103320" y="3017880"/>
            <a:chExt cx="4090320" cy="579240"/>
          </a:xfrm>
        </p:grpSpPr>
        <p:sp>
          <p:nvSpPr>
            <p:cNvPr id="137" name=""/>
            <p:cNvSpPr/>
            <p:nvPr/>
          </p:nvSpPr>
          <p:spPr>
            <a:xfrm>
              <a:off x="136440" y="3017880"/>
              <a:ext cx="402444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" y="3017880"/>
              <a:ext cx="409032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nalyse de la valeu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499120" y="746280"/>
            <a:ext cx="4046040" cy="15303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s -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lieu environ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éponse technique au 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4320" y="3718080"/>
            <a:ext cx="4049280" cy="18961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é écono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ffrage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ndement de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 optimisée en coû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36480" y="3718080"/>
            <a:ext cx="3663360" cy="18961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abilité du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é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e de défa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uses - effets - crit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 fiabili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498040" y="5616720"/>
            <a:ext cx="4152600" cy="834840"/>
            <a:chOff x="2498040" y="5616720"/>
            <a:chExt cx="4152600" cy="834840"/>
          </a:xfrm>
        </p:grpSpPr>
        <p:sp>
          <p:nvSpPr>
            <p:cNvPr id="143" name=""/>
            <p:cNvSpPr/>
            <p:nvPr/>
          </p:nvSpPr>
          <p:spPr>
            <a:xfrm>
              <a:off x="2509920" y="5616720"/>
              <a:ext cx="4125960" cy="834840"/>
            </a:xfrm>
            <a:prstGeom prst="roundRect">
              <a:avLst>
                <a:gd name="adj" fmla="val 190"/>
              </a:avLst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98040" y="5616720"/>
              <a:ext cx="4152600" cy="79884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ynthè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olution fiable et optimisé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0240" y="356760"/>
            <a:ext cx="7853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2368440"/>
            <a:ext cx="4407120" cy="2044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2133720"/>
            <a:ext cx="2286000" cy="3047760"/>
          </a:xfrm>
          <a:custGeom>
            <a:avLst/>
            <a:gdLst>
              <a:gd name="textAreaLeft" fmla="*/ 360 w 2286000"/>
              <a:gd name="textAreaRight" fmla="*/ 2285640 w 2286000"/>
              <a:gd name="textAreaTop" fmla="*/ 360 h 3047760"/>
              <a:gd name="textAreaBottom" fmla="*/ 3047400 h 3047760"/>
            </a:gdLst>
            <a:ahLst/>
            <a:rect l="textAreaLeft" t="textAreaTop" r="textAreaRight" b="textAreaBottom"/>
            <a:pathLst>
              <a:path w="21600" h="28797">
                <a:moveTo>
                  <a:pt x="15" y="0"/>
                </a:moveTo>
                <a:arcTo wR="15" hR="15" stAng="16200000" swAng="-5400000"/>
                <a:lnTo>
                  <a:pt x="0" y="28782"/>
                </a:lnTo>
                <a:arcTo wR="15" hR="15" stAng="10800000" swAng="-5400000"/>
                <a:lnTo>
                  <a:pt x="21585" y="2879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21280" y="2035080"/>
            <a:ext cx="1346400" cy="774720"/>
            <a:chOff x="5921280" y="2035080"/>
            <a:chExt cx="1346400" cy="774720"/>
          </a:xfrm>
        </p:grpSpPr>
        <p:sp>
          <p:nvSpPr>
            <p:cNvPr id="149" name=""/>
            <p:cNvSpPr/>
            <p:nvPr/>
          </p:nvSpPr>
          <p:spPr>
            <a:xfrm>
              <a:off x="5921280" y="2035080"/>
              <a:ext cx="134640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25240" y="203508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31120" y="3787920"/>
            <a:ext cx="1346040" cy="774720"/>
            <a:chOff x="6531120" y="3787920"/>
            <a:chExt cx="1346040" cy="774720"/>
          </a:xfrm>
        </p:grpSpPr>
        <p:sp>
          <p:nvSpPr>
            <p:cNvPr id="152" name=""/>
            <p:cNvSpPr/>
            <p:nvPr/>
          </p:nvSpPr>
          <p:spPr>
            <a:xfrm>
              <a:off x="6531120" y="3787920"/>
              <a:ext cx="134604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6520" y="378792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8280" y="2292480"/>
            <a:ext cx="2349360" cy="234936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5040" y="1873080"/>
            <a:ext cx="3660480" cy="4597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39800" y="1806480"/>
            <a:ext cx="1346040" cy="774720"/>
            <a:chOff x="739800" y="1806480"/>
            <a:chExt cx="1346040" cy="774720"/>
          </a:xfrm>
        </p:grpSpPr>
        <p:sp>
          <p:nvSpPr>
            <p:cNvPr id="157" name=""/>
            <p:cNvSpPr/>
            <p:nvPr/>
          </p:nvSpPr>
          <p:spPr>
            <a:xfrm>
              <a:off x="739800" y="1806480"/>
              <a:ext cx="134604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560" y="180648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2438280"/>
            <a:ext cx="1295280" cy="2895840"/>
          </a:xfrm>
          <a:custGeom>
            <a:avLst/>
            <a:gdLst>
              <a:gd name="textAreaLeft" fmla="*/ 360 w 1295280"/>
              <a:gd name="textAreaRight" fmla="*/ 1294920 w 1295280"/>
              <a:gd name="textAreaTop" fmla="*/ 360 h 2895840"/>
              <a:gd name="textAreaBottom" fmla="*/ 2895480 h 2895840"/>
            </a:gdLst>
            <a:ahLst/>
            <a:rect l="textAreaLeft" t="textAreaTop" r="textAreaRight" b="textAreaBottom"/>
            <a:pathLst>
              <a:path w="21600" h="48283">
                <a:moveTo>
                  <a:pt x="26" y="0"/>
                </a:moveTo>
                <a:arcTo wR="26" hR="26" stAng="16200000" swAng="-5400000"/>
                <a:lnTo>
                  <a:pt x="0" y="48257"/>
                </a:lnTo>
                <a:arcTo wR="26" hR="26" stAng="10800000" swAng="-5400000"/>
                <a:lnTo>
                  <a:pt x="21574" y="48283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35280" y="5616720"/>
            <a:ext cx="1346400" cy="774720"/>
            <a:chOff x="3635280" y="5616720"/>
            <a:chExt cx="1346400" cy="774720"/>
          </a:xfrm>
        </p:grpSpPr>
        <p:sp>
          <p:nvSpPr>
            <p:cNvPr id="161" name=""/>
            <p:cNvSpPr/>
            <p:nvPr/>
          </p:nvSpPr>
          <p:spPr>
            <a:xfrm>
              <a:off x="3635280" y="5616720"/>
              <a:ext cx="134640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9240" y="561672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45640" y="4832280"/>
            <a:ext cx="74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840" y="3794040"/>
            <a:ext cx="7603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3360" y="2041560"/>
            <a:ext cx="7603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3680" y="2560680"/>
            <a:ext cx="1540440" cy="15213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obj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étu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68680" y="5700600"/>
            <a:ext cx="3526200" cy="622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P =groupe verbal + MEi + M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C = groupe verbal + M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1480" y="2666880"/>
            <a:ext cx="1743120" cy="3076560"/>
          </a:xfrm>
          <a:custGeom>
            <a:avLst/>
            <a:gdLst>
              <a:gd name="textAreaLeft" fmla="*/ 360 w 1743120"/>
              <a:gd name="textAreaRight" fmla="*/ 1742760 w 1743120"/>
              <a:gd name="textAreaTop" fmla="*/ 360 h 3076560"/>
              <a:gd name="textAreaBottom" fmla="*/ 3076200 h 3076560"/>
            </a:gdLst>
            <a:ahLst/>
            <a:rect l="textAreaLeft" t="textAreaTop" r="textAreaRight" b="textAreaBottom"/>
            <a:pathLst>
              <a:path w="21600" h="38120">
                <a:moveTo>
                  <a:pt x="19" y="0"/>
                </a:moveTo>
                <a:arcTo wR="19" hR="19" stAng="16200000" swAng="-5400000"/>
                <a:lnTo>
                  <a:pt x="0" y="38101"/>
                </a:lnTo>
                <a:arcTo wR="19" hR="19" stAng="10800000" swAng="-5400000"/>
                <a:lnTo>
                  <a:pt x="21581" y="38120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14360" y="5638680"/>
            <a:ext cx="2314800" cy="847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067680" cy="5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81200" y="801720"/>
            <a:ext cx="2249280" cy="1079640"/>
            <a:chOff x="781200" y="801720"/>
            <a:chExt cx="2249280" cy="1079640"/>
          </a:xfrm>
        </p:grpSpPr>
        <p:sp>
          <p:nvSpPr>
            <p:cNvPr id="172" name=""/>
            <p:cNvSpPr/>
            <p:nvPr/>
          </p:nvSpPr>
          <p:spPr>
            <a:xfrm>
              <a:off x="781200" y="801720"/>
              <a:ext cx="2249280" cy="1079640"/>
            </a:xfrm>
            <a:prstGeom prst="roundRect">
              <a:avLst>
                <a:gd name="adj" fmla="val 144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0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5520" y="801720"/>
              <a:ext cx="2240280" cy="103392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Milie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xtérieur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74720" y="5595840"/>
            <a:ext cx="2262240" cy="1092240"/>
            <a:chOff x="774720" y="5595840"/>
            <a:chExt cx="2262240" cy="1092240"/>
          </a:xfrm>
        </p:grpSpPr>
        <p:sp>
          <p:nvSpPr>
            <p:cNvPr id="175" name=""/>
            <p:cNvSpPr/>
            <p:nvPr/>
          </p:nvSpPr>
          <p:spPr>
            <a:xfrm>
              <a:off x="774720" y="5595840"/>
              <a:ext cx="2262240" cy="1092240"/>
            </a:xfrm>
            <a:prstGeom prst="roundRect">
              <a:avLst>
                <a:gd name="adj" fmla="val 144"/>
              </a:avLst>
            </a:prstGeom>
            <a:solidFill>
              <a:srgbClr val="a2ffa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0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520" y="5595840"/>
              <a:ext cx="2240280" cy="103392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milie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xtérieur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05120" y="1981080"/>
            <a:ext cx="1440" cy="3581640"/>
          </a:xfrm>
          <a:prstGeom prst="line">
            <a:avLst/>
          </a:prstGeom>
          <a:ln w="127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0480" y="3009960"/>
            <a:ext cx="3581280" cy="21337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54560" y="3132000"/>
            <a:ext cx="1836720" cy="532080"/>
            <a:chOff x="5254560" y="3132000"/>
            <a:chExt cx="1836720" cy="532080"/>
          </a:xfrm>
        </p:grpSpPr>
        <p:sp>
          <p:nvSpPr>
            <p:cNvPr id="180" name=""/>
            <p:cNvSpPr/>
            <p:nvPr/>
          </p:nvSpPr>
          <p:spPr>
            <a:xfrm>
              <a:off x="5254560" y="3132000"/>
              <a:ext cx="1836720" cy="53208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9600" y="313200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54560" y="4410000"/>
            <a:ext cx="1836720" cy="531720"/>
            <a:chOff x="5254560" y="4410000"/>
            <a:chExt cx="1836720" cy="531720"/>
          </a:xfrm>
        </p:grpSpPr>
        <p:sp>
          <p:nvSpPr>
            <p:cNvPr id="183" name=""/>
            <p:cNvSpPr/>
            <p:nvPr/>
          </p:nvSpPr>
          <p:spPr>
            <a:xfrm>
              <a:off x="5254560" y="4410000"/>
              <a:ext cx="1836720" cy="53172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4560" y="4410000"/>
              <a:ext cx="183672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09680" y="1981080"/>
            <a:ext cx="180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025640" y="2293920"/>
            <a:ext cx="1836720" cy="531720"/>
            <a:chOff x="1025640" y="2293920"/>
            <a:chExt cx="1836720" cy="531720"/>
          </a:xfrm>
        </p:grpSpPr>
        <p:sp>
          <p:nvSpPr>
            <p:cNvPr id="187" name=""/>
            <p:cNvSpPr/>
            <p:nvPr/>
          </p:nvSpPr>
          <p:spPr>
            <a:xfrm>
              <a:off x="1025640" y="2293920"/>
              <a:ext cx="1836720" cy="53172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30320" y="229392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025640" y="3817800"/>
            <a:ext cx="1836720" cy="532080"/>
            <a:chOff x="1025640" y="3817800"/>
            <a:chExt cx="1836720" cy="532080"/>
          </a:xfrm>
        </p:grpSpPr>
        <p:sp>
          <p:nvSpPr>
            <p:cNvPr id="190" name=""/>
            <p:cNvSpPr/>
            <p:nvPr/>
          </p:nvSpPr>
          <p:spPr>
            <a:xfrm>
              <a:off x="1025640" y="3817800"/>
              <a:ext cx="1836720" cy="53208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30320" y="381780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2895480" y="3346560"/>
            <a:ext cx="236232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4114800"/>
            <a:ext cx="2362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657600"/>
            <a:ext cx="14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133720"/>
            <a:ext cx="8915400" cy="144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5334120"/>
            <a:ext cx="8915400" cy="144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7680" y="3062160"/>
            <a:ext cx="8366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F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0400" y="3747960"/>
            <a:ext cx="81828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54240" y="3664080"/>
            <a:ext cx="3492720" cy="12063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8440" y="2597040"/>
            <a:ext cx="4788000" cy="120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xemple du surlign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30240" y="1266840"/>
            <a:ext cx="3359160" cy="482760"/>
            <a:chOff x="930240" y="1266840"/>
            <a:chExt cx="3359160" cy="482760"/>
          </a:xfrm>
        </p:grpSpPr>
        <p:sp>
          <p:nvSpPr>
            <p:cNvPr id="203" name=""/>
            <p:cNvSpPr/>
            <p:nvPr/>
          </p:nvSpPr>
          <p:spPr>
            <a:xfrm>
              <a:off x="930240" y="1266840"/>
              <a:ext cx="3359160" cy="482760"/>
            </a:xfrm>
            <a:prstGeom prst="roundRect">
              <a:avLst>
                <a:gd name="adj" fmla="val 329"/>
              </a:avLst>
            </a:prstGeom>
            <a:noFill/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43560" y="1266840"/>
              <a:ext cx="3334320" cy="433080"/>
            </a:xfrm>
            <a:prstGeom prst="roundRect">
              <a:avLst>
                <a:gd name="adj" fmla="val 3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c01313"/>
                  </a:solidFill>
                  <a:latin typeface="Arial"/>
                </a:rPr>
                <a:t>Rosace des fo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15960" y="5492880"/>
            <a:ext cx="3111480" cy="82548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50080" y="5568840"/>
            <a:ext cx="2806560" cy="74952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89240" y="3976560"/>
            <a:ext cx="12722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770468"/>
                </a:solidFill>
                <a:latin typeface="Arial"/>
              </a:rPr>
              <a:t>F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2760" y="5699160"/>
            <a:ext cx="24033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5699160"/>
            <a:ext cx="2590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2590920"/>
            <a:ext cx="3809880" cy="30456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0880" y="2597040"/>
            <a:ext cx="1968480" cy="9781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89240" y="287964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7280" y="2444760"/>
            <a:ext cx="1815840" cy="9777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37680" y="2727360"/>
            <a:ext cx="13532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775560" y="3429000"/>
            <a:ext cx="241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4290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28440" y="3260880"/>
            <a:ext cx="574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29000" y="4717800"/>
            <a:ext cx="30492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800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60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464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82920" y="1219320"/>
            <a:ext cx="3521160" cy="1785960"/>
            <a:chOff x="4282920" y="1219320"/>
            <a:chExt cx="3521160" cy="1785960"/>
          </a:xfrm>
        </p:grpSpPr>
        <p:grpSp>
          <p:nvGrpSpPr>
            <p:cNvPr id="223" name=""/>
            <p:cNvGrpSpPr/>
            <p:nvPr/>
          </p:nvGrpSpPr>
          <p:grpSpPr>
            <a:xfrm>
              <a:off x="4282920" y="1360440"/>
              <a:ext cx="2841840" cy="1644840"/>
              <a:chOff x="4282920" y="1360440"/>
              <a:chExt cx="2841840" cy="164484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4290840" y="1360440"/>
                <a:ext cx="2833920" cy="1644840"/>
                <a:chOff x="4290840" y="1360440"/>
                <a:chExt cx="2833920" cy="1644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90840" y="1987560"/>
                  <a:ext cx="1420920" cy="1017720"/>
                </a:xfrm>
                <a:custGeom>
                  <a:avLst/>
                  <a:gdLst/>
                  <a:ahLst/>
                  <a:rect l="l" t="t" r="r" b="b"/>
                  <a:pathLst>
                    <a:path w="3946" h="2826">
                      <a:moveTo>
                        <a:pt x="3341" y="0"/>
                      </a:moveTo>
                      <a:lnTo>
                        <a:pt x="3945" y="1351"/>
                      </a:lnTo>
                      <a:lnTo>
                        <a:pt x="635" y="2816"/>
                      </a:lnTo>
                      <a:lnTo>
                        <a:pt x="644" y="2812"/>
                      </a:lnTo>
                      <a:lnTo>
                        <a:pt x="617" y="2825"/>
                      </a:lnTo>
                      <a:lnTo>
                        <a:pt x="604" y="2825"/>
                      </a:lnTo>
                      <a:lnTo>
                        <a:pt x="586" y="2821"/>
                      </a:lnTo>
                      <a:lnTo>
                        <a:pt x="560" y="2803"/>
                      </a:lnTo>
                      <a:lnTo>
                        <a:pt x="542" y="2794"/>
                      </a:lnTo>
                      <a:lnTo>
                        <a:pt x="507" y="2768"/>
                      </a:lnTo>
                      <a:lnTo>
                        <a:pt x="489" y="2728"/>
                      </a:lnTo>
                      <a:lnTo>
                        <a:pt x="449" y="2684"/>
                      </a:lnTo>
                      <a:lnTo>
                        <a:pt x="414" y="2644"/>
                      </a:lnTo>
                      <a:lnTo>
                        <a:pt x="379" y="2600"/>
                      </a:lnTo>
                      <a:lnTo>
                        <a:pt x="348" y="2543"/>
                      </a:lnTo>
                      <a:lnTo>
                        <a:pt x="326" y="2503"/>
                      </a:lnTo>
                      <a:lnTo>
                        <a:pt x="299" y="2454"/>
                      </a:lnTo>
                      <a:lnTo>
                        <a:pt x="273" y="2410"/>
                      </a:lnTo>
                      <a:lnTo>
                        <a:pt x="255" y="2362"/>
                      </a:lnTo>
                      <a:lnTo>
                        <a:pt x="229" y="2313"/>
                      </a:lnTo>
                      <a:lnTo>
                        <a:pt x="202" y="2256"/>
                      </a:lnTo>
                      <a:lnTo>
                        <a:pt x="180" y="2211"/>
                      </a:lnTo>
                      <a:lnTo>
                        <a:pt x="163" y="2162"/>
                      </a:lnTo>
                      <a:lnTo>
                        <a:pt x="136" y="2109"/>
                      </a:lnTo>
                      <a:lnTo>
                        <a:pt x="114" y="2061"/>
                      </a:lnTo>
                      <a:lnTo>
                        <a:pt x="92" y="1990"/>
                      </a:lnTo>
                      <a:lnTo>
                        <a:pt x="70" y="1942"/>
                      </a:lnTo>
                      <a:lnTo>
                        <a:pt x="52" y="1880"/>
                      </a:lnTo>
                      <a:lnTo>
                        <a:pt x="35" y="1836"/>
                      </a:lnTo>
                      <a:lnTo>
                        <a:pt x="30" y="1765"/>
                      </a:lnTo>
                      <a:lnTo>
                        <a:pt x="22" y="1717"/>
                      </a:lnTo>
                      <a:lnTo>
                        <a:pt x="0" y="1668"/>
                      </a:lnTo>
                      <a:lnTo>
                        <a:pt x="4" y="1628"/>
                      </a:lnTo>
                      <a:lnTo>
                        <a:pt x="4" y="1589"/>
                      </a:lnTo>
                      <a:lnTo>
                        <a:pt x="8" y="1567"/>
                      </a:lnTo>
                      <a:lnTo>
                        <a:pt x="8" y="1531"/>
                      </a:lnTo>
                      <a:lnTo>
                        <a:pt x="8" y="1514"/>
                      </a:lnTo>
                      <a:lnTo>
                        <a:pt x="17" y="1492"/>
                      </a:lnTo>
                      <a:lnTo>
                        <a:pt x="30" y="1483"/>
                      </a:lnTo>
                      <a:lnTo>
                        <a:pt x="44" y="1474"/>
                      </a:lnTo>
                      <a:lnTo>
                        <a:pt x="334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97560" y="1360440"/>
                  <a:ext cx="1627200" cy="1111320"/>
                </a:xfrm>
                <a:custGeom>
                  <a:avLst/>
                  <a:gdLst/>
                  <a:ahLst/>
                  <a:rect l="l" t="t" r="r" b="b"/>
                  <a:pathLst>
                    <a:path w="4519" h="3087">
                      <a:moveTo>
                        <a:pt x="3914" y="0"/>
                      </a:moveTo>
                      <a:lnTo>
                        <a:pt x="4518" y="1350"/>
                      </a:lnTo>
                      <a:lnTo>
                        <a:pt x="635" y="3082"/>
                      </a:lnTo>
                      <a:lnTo>
                        <a:pt x="643" y="3077"/>
                      </a:lnTo>
                      <a:lnTo>
                        <a:pt x="630" y="3086"/>
                      </a:lnTo>
                      <a:lnTo>
                        <a:pt x="608" y="3073"/>
                      </a:lnTo>
                      <a:lnTo>
                        <a:pt x="591" y="3082"/>
                      </a:lnTo>
                      <a:lnTo>
                        <a:pt x="555" y="3055"/>
                      </a:lnTo>
                      <a:lnTo>
                        <a:pt x="538" y="3046"/>
                      </a:lnTo>
                      <a:lnTo>
                        <a:pt x="520" y="3020"/>
                      </a:lnTo>
                      <a:lnTo>
                        <a:pt x="485" y="2989"/>
                      </a:lnTo>
                      <a:lnTo>
                        <a:pt x="445" y="2945"/>
                      </a:lnTo>
                      <a:lnTo>
                        <a:pt x="410" y="2892"/>
                      </a:lnTo>
                      <a:lnTo>
                        <a:pt x="383" y="2847"/>
                      </a:lnTo>
                      <a:lnTo>
                        <a:pt x="348" y="2803"/>
                      </a:lnTo>
                      <a:lnTo>
                        <a:pt x="326" y="2759"/>
                      </a:lnTo>
                      <a:lnTo>
                        <a:pt x="304" y="2715"/>
                      </a:lnTo>
                      <a:lnTo>
                        <a:pt x="273" y="2666"/>
                      </a:lnTo>
                      <a:lnTo>
                        <a:pt x="247" y="2613"/>
                      </a:lnTo>
                      <a:lnTo>
                        <a:pt x="224" y="2569"/>
                      </a:lnTo>
                      <a:lnTo>
                        <a:pt x="194" y="2503"/>
                      </a:lnTo>
                      <a:lnTo>
                        <a:pt x="172" y="2463"/>
                      </a:lnTo>
                      <a:lnTo>
                        <a:pt x="154" y="2410"/>
                      </a:lnTo>
                      <a:lnTo>
                        <a:pt x="136" y="2362"/>
                      </a:lnTo>
                      <a:lnTo>
                        <a:pt x="114" y="2313"/>
                      </a:lnTo>
                      <a:lnTo>
                        <a:pt x="88" y="2251"/>
                      </a:lnTo>
                      <a:lnTo>
                        <a:pt x="74" y="2203"/>
                      </a:lnTo>
                      <a:lnTo>
                        <a:pt x="57" y="2141"/>
                      </a:lnTo>
                      <a:lnTo>
                        <a:pt x="44" y="2088"/>
                      </a:lnTo>
                      <a:lnTo>
                        <a:pt x="30" y="2022"/>
                      </a:lnTo>
                      <a:lnTo>
                        <a:pt x="17" y="1973"/>
                      </a:lnTo>
                      <a:lnTo>
                        <a:pt x="4" y="1920"/>
                      </a:lnTo>
                      <a:lnTo>
                        <a:pt x="4" y="1876"/>
                      </a:lnTo>
                      <a:lnTo>
                        <a:pt x="0" y="1841"/>
                      </a:lnTo>
                      <a:lnTo>
                        <a:pt x="4" y="1823"/>
                      </a:lnTo>
                      <a:lnTo>
                        <a:pt x="4" y="1779"/>
                      </a:lnTo>
                      <a:lnTo>
                        <a:pt x="8" y="1766"/>
                      </a:lnTo>
                      <a:lnTo>
                        <a:pt x="22" y="1740"/>
                      </a:lnTo>
                      <a:lnTo>
                        <a:pt x="30" y="1735"/>
                      </a:lnTo>
                      <a:lnTo>
                        <a:pt x="30" y="1726"/>
                      </a:lnTo>
                      <a:lnTo>
                        <a:pt x="3914" y="0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282920" y="1393920"/>
                <a:ext cx="2802240" cy="1590480"/>
                <a:chOff x="4282920" y="1393920"/>
                <a:chExt cx="2802240" cy="15904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4282920" y="1393920"/>
                  <a:ext cx="2630520" cy="1261800"/>
                  <a:chOff x="4282920" y="1393920"/>
                  <a:chExt cx="2630520" cy="1261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494320" y="1393920"/>
                    <a:ext cx="141912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1" h="2010">
                        <a:moveTo>
                          <a:pt x="3900" y="0"/>
                        </a:moveTo>
                        <a:lnTo>
                          <a:pt x="3940" y="273"/>
                        </a:lnTo>
                        <a:lnTo>
                          <a:pt x="52" y="2009"/>
                        </a:lnTo>
                        <a:lnTo>
                          <a:pt x="39" y="1943"/>
                        </a:lnTo>
                        <a:lnTo>
                          <a:pt x="13" y="1877"/>
                        </a:lnTo>
                        <a:lnTo>
                          <a:pt x="4" y="1806"/>
                        </a:lnTo>
                        <a:lnTo>
                          <a:pt x="0" y="1744"/>
                        </a:lnTo>
                        <a:lnTo>
                          <a:pt x="390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282920" y="2025720"/>
                    <a:ext cx="12178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2" h="1749">
                        <a:moveTo>
                          <a:pt x="3324" y="0"/>
                        </a:moveTo>
                        <a:lnTo>
                          <a:pt x="3324" y="61"/>
                        </a:lnTo>
                        <a:lnTo>
                          <a:pt x="3341" y="110"/>
                        </a:lnTo>
                        <a:lnTo>
                          <a:pt x="3355" y="163"/>
                        </a:lnTo>
                        <a:lnTo>
                          <a:pt x="3359" y="211"/>
                        </a:lnTo>
                        <a:lnTo>
                          <a:pt x="3381" y="264"/>
                        </a:lnTo>
                        <a:lnTo>
                          <a:pt x="57" y="1748"/>
                        </a:lnTo>
                        <a:lnTo>
                          <a:pt x="48" y="1700"/>
                        </a:lnTo>
                        <a:lnTo>
                          <a:pt x="30" y="1660"/>
                        </a:lnTo>
                        <a:lnTo>
                          <a:pt x="17" y="1603"/>
                        </a:lnTo>
                        <a:lnTo>
                          <a:pt x="0" y="1528"/>
                        </a:lnTo>
                        <a:lnTo>
                          <a:pt x="4" y="1479"/>
                        </a:lnTo>
                        <a:lnTo>
                          <a:pt x="332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4413240" y="1744560"/>
                  <a:ext cx="2671920" cy="1239840"/>
                  <a:chOff x="4413240" y="1744560"/>
                  <a:chExt cx="2671920" cy="1239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621400" y="1744560"/>
                    <a:ext cx="146376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5" h="1953">
                        <a:moveTo>
                          <a:pt x="4064" y="211"/>
                        </a:moveTo>
                        <a:lnTo>
                          <a:pt x="3901" y="0"/>
                        </a:lnTo>
                        <a:lnTo>
                          <a:pt x="0" y="1731"/>
                        </a:lnTo>
                        <a:lnTo>
                          <a:pt x="44" y="1784"/>
                        </a:lnTo>
                        <a:lnTo>
                          <a:pt x="83" y="1846"/>
                        </a:lnTo>
                        <a:lnTo>
                          <a:pt x="127" y="1912"/>
                        </a:lnTo>
                        <a:lnTo>
                          <a:pt x="176" y="1952"/>
                        </a:lnTo>
                        <a:lnTo>
                          <a:pt x="4064" y="211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413240" y="2374920"/>
                    <a:ext cx="1257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92" h="1692">
                        <a:moveTo>
                          <a:pt x="3491" y="211"/>
                        </a:moveTo>
                        <a:lnTo>
                          <a:pt x="3447" y="176"/>
                        </a:lnTo>
                        <a:lnTo>
                          <a:pt x="3416" y="127"/>
                        </a:lnTo>
                        <a:lnTo>
                          <a:pt x="3376" y="83"/>
                        </a:lnTo>
                        <a:lnTo>
                          <a:pt x="3359" y="44"/>
                        </a:lnTo>
                        <a:lnTo>
                          <a:pt x="3319" y="0"/>
                        </a:lnTo>
                        <a:lnTo>
                          <a:pt x="0" y="1479"/>
                        </a:lnTo>
                        <a:lnTo>
                          <a:pt x="35" y="1523"/>
                        </a:lnTo>
                        <a:lnTo>
                          <a:pt x="48" y="1550"/>
                        </a:lnTo>
                        <a:lnTo>
                          <a:pt x="79" y="1607"/>
                        </a:lnTo>
                        <a:lnTo>
                          <a:pt x="141" y="1660"/>
                        </a:lnTo>
                        <a:lnTo>
                          <a:pt x="172" y="1691"/>
                        </a:lnTo>
                        <a:lnTo>
                          <a:pt x="3491" y="2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" name=""/>
            <p:cNvGrpSpPr/>
            <p:nvPr/>
          </p:nvGrpSpPr>
          <p:grpSpPr>
            <a:xfrm>
              <a:off x="6904080" y="1219320"/>
              <a:ext cx="900000" cy="623880"/>
              <a:chOff x="6904080" y="1219320"/>
              <a:chExt cx="900000" cy="62388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905520" y="1219320"/>
                <a:ext cx="898560" cy="623880"/>
                <a:chOff x="6905520" y="1219320"/>
                <a:chExt cx="898560" cy="62388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6905520" y="1257480"/>
                  <a:ext cx="716040" cy="585720"/>
                  <a:chOff x="6905520" y="1257480"/>
                  <a:chExt cx="716040" cy="5857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6905520" y="1335240"/>
                    <a:ext cx="27468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1411">
                        <a:moveTo>
                          <a:pt x="176" y="0"/>
                        </a:moveTo>
                        <a:lnTo>
                          <a:pt x="17" y="57"/>
                        </a:lnTo>
                        <a:lnTo>
                          <a:pt x="17" y="70"/>
                        </a:lnTo>
                        <a:lnTo>
                          <a:pt x="4" y="92"/>
                        </a:lnTo>
                        <a:lnTo>
                          <a:pt x="0" y="127"/>
                        </a:lnTo>
                        <a:lnTo>
                          <a:pt x="0" y="163"/>
                        </a:lnTo>
                        <a:lnTo>
                          <a:pt x="13" y="229"/>
                        </a:lnTo>
                        <a:lnTo>
                          <a:pt x="26" y="282"/>
                        </a:lnTo>
                        <a:lnTo>
                          <a:pt x="39" y="353"/>
                        </a:lnTo>
                        <a:lnTo>
                          <a:pt x="61" y="429"/>
                        </a:lnTo>
                        <a:lnTo>
                          <a:pt x="79" y="481"/>
                        </a:lnTo>
                        <a:lnTo>
                          <a:pt x="92" y="548"/>
                        </a:lnTo>
                        <a:lnTo>
                          <a:pt x="128" y="614"/>
                        </a:lnTo>
                        <a:lnTo>
                          <a:pt x="154" y="693"/>
                        </a:lnTo>
                        <a:lnTo>
                          <a:pt x="172" y="751"/>
                        </a:lnTo>
                        <a:lnTo>
                          <a:pt x="203" y="818"/>
                        </a:lnTo>
                        <a:lnTo>
                          <a:pt x="251" y="902"/>
                        </a:lnTo>
                        <a:lnTo>
                          <a:pt x="278" y="972"/>
                        </a:lnTo>
                        <a:lnTo>
                          <a:pt x="327" y="1056"/>
                        </a:lnTo>
                        <a:lnTo>
                          <a:pt x="371" y="1118"/>
                        </a:lnTo>
                        <a:lnTo>
                          <a:pt x="393" y="1166"/>
                        </a:lnTo>
                        <a:lnTo>
                          <a:pt x="415" y="1216"/>
                        </a:lnTo>
                        <a:lnTo>
                          <a:pt x="446" y="1260"/>
                        </a:lnTo>
                        <a:lnTo>
                          <a:pt x="472" y="1295"/>
                        </a:lnTo>
                        <a:lnTo>
                          <a:pt x="499" y="1317"/>
                        </a:lnTo>
                        <a:lnTo>
                          <a:pt x="525" y="1353"/>
                        </a:lnTo>
                        <a:lnTo>
                          <a:pt x="561" y="1375"/>
                        </a:lnTo>
                        <a:lnTo>
                          <a:pt x="574" y="1384"/>
                        </a:lnTo>
                        <a:lnTo>
                          <a:pt x="592" y="1397"/>
                        </a:lnTo>
                        <a:lnTo>
                          <a:pt x="609" y="1410"/>
                        </a:lnTo>
                        <a:lnTo>
                          <a:pt x="618" y="1410"/>
                        </a:lnTo>
                        <a:lnTo>
                          <a:pt x="764" y="1348"/>
                        </a:lnTo>
                        <a:lnTo>
                          <a:pt x="742" y="1348"/>
                        </a:lnTo>
                        <a:lnTo>
                          <a:pt x="724" y="1335"/>
                        </a:lnTo>
                        <a:lnTo>
                          <a:pt x="698" y="1326"/>
                        </a:lnTo>
                        <a:lnTo>
                          <a:pt x="676" y="1304"/>
                        </a:lnTo>
                        <a:lnTo>
                          <a:pt x="671" y="1282"/>
                        </a:lnTo>
                        <a:lnTo>
                          <a:pt x="636" y="1264"/>
                        </a:lnTo>
                        <a:lnTo>
                          <a:pt x="618" y="1229"/>
                        </a:lnTo>
                        <a:lnTo>
                          <a:pt x="583" y="1180"/>
                        </a:lnTo>
                        <a:lnTo>
                          <a:pt x="548" y="1136"/>
                        </a:lnTo>
                        <a:lnTo>
                          <a:pt x="521" y="1091"/>
                        </a:lnTo>
                        <a:lnTo>
                          <a:pt x="481" y="1025"/>
                        </a:lnTo>
                        <a:lnTo>
                          <a:pt x="468" y="990"/>
                        </a:lnTo>
                        <a:lnTo>
                          <a:pt x="428" y="915"/>
                        </a:lnTo>
                        <a:lnTo>
                          <a:pt x="388" y="840"/>
                        </a:lnTo>
                        <a:lnTo>
                          <a:pt x="353" y="764"/>
                        </a:lnTo>
                        <a:lnTo>
                          <a:pt x="313" y="680"/>
                        </a:lnTo>
                        <a:lnTo>
                          <a:pt x="287" y="618"/>
                        </a:lnTo>
                        <a:lnTo>
                          <a:pt x="238" y="499"/>
                        </a:lnTo>
                        <a:lnTo>
                          <a:pt x="207" y="406"/>
                        </a:lnTo>
                        <a:lnTo>
                          <a:pt x="176" y="291"/>
                        </a:lnTo>
                        <a:lnTo>
                          <a:pt x="159" y="207"/>
                        </a:lnTo>
                        <a:lnTo>
                          <a:pt x="141" y="145"/>
                        </a:lnTo>
                        <a:lnTo>
                          <a:pt x="145" y="92"/>
                        </a:lnTo>
                        <a:lnTo>
                          <a:pt x="154" y="39"/>
                        </a:lnTo>
                        <a:lnTo>
                          <a:pt x="159" y="13"/>
                        </a:lnTo>
                        <a:lnTo>
                          <a:pt x="176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6962760" y="1257480"/>
                    <a:ext cx="658800" cy="560160"/>
                    <a:chOff x="6962760" y="1257480"/>
                    <a:chExt cx="658800" cy="5601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277040" y="1325520"/>
                      <a:ext cx="1555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0" h="746">
                          <a:moveTo>
                            <a:pt x="176" y="41"/>
                          </a:moveTo>
                          <a:lnTo>
                            <a:pt x="22" y="0"/>
                          </a:lnTo>
                          <a:lnTo>
                            <a:pt x="17" y="0"/>
                          </a:lnTo>
                          <a:lnTo>
                            <a:pt x="13" y="9"/>
                          </a:lnTo>
                          <a:lnTo>
                            <a:pt x="0" y="28"/>
                          </a:lnTo>
                          <a:lnTo>
                            <a:pt x="8" y="37"/>
                          </a:lnTo>
                          <a:lnTo>
                            <a:pt x="13" y="59"/>
                          </a:lnTo>
                          <a:lnTo>
                            <a:pt x="13" y="107"/>
                          </a:lnTo>
                          <a:lnTo>
                            <a:pt x="22" y="143"/>
                          </a:lnTo>
                          <a:lnTo>
                            <a:pt x="53" y="200"/>
                          </a:lnTo>
                          <a:lnTo>
                            <a:pt x="70" y="275"/>
                          </a:lnTo>
                          <a:lnTo>
                            <a:pt x="92" y="333"/>
                          </a:lnTo>
                          <a:lnTo>
                            <a:pt x="119" y="381"/>
                          </a:lnTo>
                          <a:lnTo>
                            <a:pt x="150" y="445"/>
                          </a:lnTo>
                          <a:lnTo>
                            <a:pt x="185" y="516"/>
                          </a:lnTo>
                          <a:lnTo>
                            <a:pt x="212" y="569"/>
                          </a:lnTo>
                          <a:lnTo>
                            <a:pt x="229" y="617"/>
                          </a:lnTo>
                          <a:lnTo>
                            <a:pt x="256" y="666"/>
                          </a:lnTo>
                          <a:lnTo>
                            <a:pt x="288" y="701"/>
                          </a:lnTo>
                          <a:lnTo>
                            <a:pt x="314" y="727"/>
                          </a:lnTo>
                          <a:lnTo>
                            <a:pt x="327" y="745"/>
                          </a:lnTo>
                          <a:lnTo>
                            <a:pt x="429" y="599"/>
                          </a:lnTo>
                          <a:lnTo>
                            <a:pt x="176" y="4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6962760" y="1330200"/>
                      <a:ext cx="393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3" h="1353">
                          <a:moveTo>
                            <a:pt x="752" y="52"/>
                          </a:moveTo>
                          <a:lnTo>
                            <a:pt x="39" y="0"/>
                          </a:lnTo>
                          <a:lnTo>
                            <a:pt x="13" y="26"/>
                          </a:lnTo>
                          <a:lnTo>
                            <a:pt x="0" y="70"/>
                          </a:lnTo>
                          <a:lnTo>
                            <a:pt x="4" y="114"/>
                          </a:lnTo>
                          <a:lnTo>
                            <a:pt x="8" y="167"/>
                          </a:lnTo>
                          <a:lnTo>
                            <a:pt x="8" y="194"/>
                          </a:lnTo>
                          <a:lnTo>
                            <a:pt x="17" y="247"/>
                          </a:lnTo>
                          <a:lnTo>
                            <a:pt x="30" y="300"/>
                          </a:lnTo>
                          <a:lnTo>
                            <a:pt x="44" y="366"/>
                          </a:lnTo>
                          <a:lnTo>
                            <a:pt x="61" y="412"/>
                          </a:lnTo>
                          <a:lnTo>
                            <a:pt x="79" y="461"/>
                          </a:lnTo>
                          <a:lnTo>
                            <a:pt x="101" y="531"/>
                          </a:lnTo>
                          <a:lnTo>
                            <a:pt x="136" y="606"/>
                          </a:lnTo>
                          <a:lnTo>
                            <a:pt x="181" y="712"/>
                          </a:lnTo>
                          <a:lnTo>
                            <a:pt x="203" y="765"/>
                          </a:lnTo>
                          <a:lnTo>
                            <a:pt x="235" y="838"/>
                          </a:lnTo>
                          <a:lnTo>
                            <a:pt x="270" y="887"/>
                          </a:lnTo>
                          <a:lnTo>
                            <a:pt x="296" y="944"/>
                          </a:lnTo>
                          <a:lnTo>
                            <a:pt x="327" y="1010"/>
                          </a:lnTo>
                          <a:lnTo>
                            <a:pt x="354" y="1072"/>
                          </a:lnTo>
                          <a:lnTo>
                            <a:pt x="393" y="1116"/>
                          </a:lnTo>
                          <a:lnTo>
                            <a:pt x="429" y="1179"/>
                          </a:lnTo>
                          <a:lnTo>
                            <a:pt x="473" y="1228"/>
                          </a:lnTo>
                          <a:lnTo>
                            <a:pt x="513" y="1290"/>
                          </a:lnTo>
                          <a:lnTo>
                            <a:pt x="544" y="1312"/>
                          </a:lnTo>
                          <a:lnTo>
                            <a:pt x="579" y="1330"/>
                          </a:lnTo>
                          <a:lnTo>
                            <a:pt x="597" y="1348"/>
                          </a:lnTo>
                          <a:lnTo>
                            <a:pt x="614" y="1352"/>
                          </a:lnTo>
                          <a:lnTo>
                            <a:pt x="632" y="1343"/>
                          </a:lnTo>
                          <a:lnTo>
                            <a:pt x="645" y="1339"/>
                          </a:lnTo>
                          <a:lnTo>
                            <a:pt x="1092" y="775"/>
                          </a:lnTo>
                          <a:lnTo>
                            <a:pt x="1061" y="602"/>
                          </a:lnTo>
                          <a:lnTo>
                            <a:pt x="986" y="402"/>
                          </a:lnTo>
                          <a:lnTo>
                            <a:pt x="911" y="260"/>
                          </a:lnTo>
                          <a:lnTo>
                            <a:pt x="827" y="119"/>
                          </a:lnTo>
                          <a:lnTo>
                            <a:pt x="752" y="5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237440" y="1330200"/>
                      <a:ext cx="147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2" h="776">
                          <a:moveTo>
                            <a:pt x="101" y="0"/>
                          </a:moveTo>
                          <a:lnTo>
                            <a:pt x="48" y="39"/>
                          </a:lnTo>
                          <a:lnTo>
                            <a:pt x="17" y="39"/>
                          </a:lnTo>
                          <a:lnTo>
                            <a:pt x="8" y="57"/>
                          </a:lnTo>
                          <a:lnTo>
                            <a:pt x="8" y="61"/>
                          </a:lnTo>
                          <a:lnTo>
                            <a:pt x="0" y="79"/>
                          </a:lnTo>
                          <a:lnTo>
                            <a:pt x="8" y="119"/>
                          </a:lnTo>
                          <a:lnTo>
                            <a:pt x="8" y="141"/>
                          </a:lnTo>
                          <a:lnTo>
                            <a:pt x="17" y="176"/>
                          </a:lnTo>
                          <a:lnTo>
                            <a:pt x="35" y="216"/>
                          </a:lnTo>
                          <a:lnTo>
                            <a:pt x="48" y="251"/>
                          </a:lnTo>
                          <a:lnTo>
                            <a:pt x="57" y="291"/>
                          </a:lnTo>
                          <a:lnTo>
                            <a:pt x="70" y="317"/>
                          </a:lnTo>
                          <a:lnTo>
                            <a:pt x="88" y="357"/>
                          </a:lnTo>
                          <a:lnTo>
                            <a:pt x="114" y="412"/>
                          </a:lnTo>
                          <a:lnTo>
                            <a:pt x="132" y="452"/>
                          </a:lnTo>
                          <a:lnTo>
                            <a:pt x="150" y="492"/>
                          </a:lnTo>
                          <a:lnTo>
                            <a:pt x="172" y="540"/>
                          </a:lnTo>
                          <a:lnTo>
                            <a:pt x="185" y="567"/>
                          </a:lnTo>
                          <a:lnTo>
                            <a:pt x="198" y="597"/>
                          </a:lnTo>
                          <a:lnTo>
                            <a:pt x="220" y="628"/>
                          </a:lnTo>
                          <a:lnTo>
                            <a:pt x="229" y="659"/>
                          </a:lnTo>
                          <a:lnTo>
                            <a:pt x="251" y="681"/>
                          </a:lnTo>
                          <a:lnTo>
                            <a:pt x="256" y="695"/>
                          </a:lnTo>
                          <a:lnTo>
                            <a:pt x="273" y="717"/>
                          </a:lnTo>
                          <a:lnTo>
                            <a:pt x="282" y="734"/>
                          </a:lnTo>
                          <a:lnTo>
                            <a:pt x="295" y="748"/>
                          </a:lnTo>
                          <a:lnTo>
                            <a:pt x="300" y="761"/>
                          </a:lnTo>
                          <a:lnTo>
                            <a:pt x="322" y="771"/>
                          </a:lnTo>
                          <a:lnTo>
                            <a:pt x="326" y="775"/>
                          </a:lnTo>
                          <a:lnTo>
                            <a:pt x="411" y="734"/>
                          </a:lnTo>
                          <a:lnTo>
                            <a:pt x="407" y="734"/>
                          </a:lnTo>
                          <a:lnTo>
                            <a:pt x="393" y="726"/>
                          </a:lnTo>
                          <a:lnTo>
                            <a:pt x="385" y="717"/>
                          </a:lnTo>
                          <a:lnTo>
                            <a:pt x="375" y="699"/>
                          </a:lnTo>
                          <a:lnTo>
                            <a:pt x="357" y="681"/>
                          </a:lnTo>
                          <a:lnTo>
                            <a:pt x="348" y="668"/>
                          </a:lnTo>
                          <a:lnTo>
                            <a:pt x="326" y="633"/>
                          </a:lnTo>
                          <a:lnTo>
                            <a:pt x="313" y="611"/>
                          </a:lnTo>
                          <a:lnTo>
                            <a:pt x="300" y="589"/>
                          </a:lnTo>
                          <a:lnTo>
                            <a:pt x="286" y="562"/>
                          </a:lnTo>
                          <a:lnTo>
                            <a:pt x="269" y="522"/>
                          </a:lnTo>
                          <a:lnTo>
                            <a:pt x="256" y="483"/>
                          </a:lnTo>
                          <a:lnTo>
                            <a:pt x="229" y="439"/>
                          </a:lnTo>
                          <a:lnTo>
                            <a:pt x="211" y="402"/>
                          </a:lnTo>
                          <a:lnTo>
                            <a:pt x="194" y="370"/>
                          </a:lnTo>
                          <a:lnTo>
                            <a:pt x="181" y="335"/>
                          </a:lnTo>
                          <a:lnTo>
                            <a:pt x="158" y="278"/>
                          </a:lnTo>
                          <a:lnTo>
                            <a:pt x="136" y="220"/>
                          </a:lnTo>
                          <a:lnTo>
                            <a:pt x="114" y="163"/>
                          </a:lnTo>
                          <a:lnTo>
                            <a:pt x="105" y="105"/>
                          </a:lnTo>
                          <a:lnTo>
                            <a:pt x="101" y="79"/>
                          </a:lnTo>
                          <a:lnTo>
                            <a:pt x="92" y="52"/>
                          </a:lnTo>
                          <a:lnTo>
                            <a:pt x="92" y="26"/>
                          </a:lnTo>
                          <a:lnTo>
                            <a:pt x="88" y="22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350120" y="1262160"/>
                      <a:ext cx="27144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3" h="746">
                          <a:moveTo>
                            <a:pt x="521" y="0"/>
                          </a:moveTo>
                          <a:lnTo>
                            <a:pt x="13" y="205"/>
                          </a:lnTo>
                          <a:lnTo>
                            <a:pt x="0" y="213"/>
                          </a:lnTo>
                          <a:lnTo>
                            <a:pt x="4" y="258"/>
                          </a:lnTo>
                          <a:lnTo>
                            <a:pt x="13" y="341"/>
                          </a:lnTo>
                          <a:lnTo>
                            <a:pt x="35" y="421"/>
                          </a:lnTo>
                          <a:lnTo>
                            <a:pt x="84" y="540"/>
                          </a:lnTo>
                          <a:lnTo>
                            <a:pt x="129" y="626"/>
                          </a:lnTo>
                          <a:lnTo>
                            <a:pt x="186" y="705"/>
                          </a:lnTo>
                          <a:lnTo>
                            <a:pt x="235" y="745"/>
                          </a:lnTo>
                          <a:lnTo>
                            <a:pt x="261" y="741"/>
                          </a:lnTo>
                          <a:lnTo>
                            <a:pt x="752" y="505"/>
                          </a:lnTo>
                          <a:lnTo>
                            <a:pt x="5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583400" y="1257480"/>
                      <a:ext cx="9720" cy="1933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566120" y="1219320"/>
                  <a:ext cx="237960" cy="198360"/>
                  <a:chOff x="7566120" y="1219320"/>
                  <a:chExt cx="237960" cy="1983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7581960" y="1262160"/>
                    <a:ext cx="2206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32">
                        <a:moveTo>
                          <a:pt x="613" y="208"/>
                        </a:moveTo>
                        <a:lnTo>
                          <a:pt x="404" y="0"/>
                        </a:lnTo>
                        <a:lnTo>
                          <a:pt x="0" y="182"/>
                        </a:lnTo>
                        <a:lnTo>
                          <a:pt x="111" y="431"/>
                        </a:lnTo>
                        <a:lnTo>
                          <a:pt x="613" y="20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721640" y="1219320"/>
                    <a:ext cx="824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29">
                        <a:moveTo>
                          <a:pt x="0" y="0"/>
                        </a:moveTo>
                        <a:lnTo>
                          <a:pt x="39" y="102"/>
                        </a:lnTo>
                        <a:lnTo>
                          <a:pt x="227" y="328"/>
                        </a:lnTo>
                        <a:lnTo>
                          <a:pt x="183" y="2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566120" y="1225440"/>
                    <a:ext cx="152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42">
                        <a:moveTo>
                          <a:pt x="422" y="67"/>
                        </a:moveTo>
                        <a:lnTo>
                          <a:pt x="390" y="0"/>
                        </a:lnTo>
                        <a:lnTo>
                          <a:pt x="0" y="169"/>
                        </a:lnTo>
                        <a:lnTo>
                          <a:pt x="22" y="241"/>
                        </a:lnTo>
                        <a:lnTo>
                          <a:pt x="422" y="67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6904080" y="1360440"/>
                <a:ext cx="420480" cy="457200"/>
                <a:chOff x="6904080" y="1360440"/>
                <a:chExt cx="420480" cy="457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904080" y="1374840"/>
                  <a:ext cx="68400" cy="112680"/>
                </a:xfrm>
                <a:custGeom>
                  <a:avLst/>
                  <a:gdLst/>
                  <a:ahLst/>
                  <a:rect l="l" t="t" r="r" b="b"/>
                  <a:pathLst>
                    <a:path w="188" h="311">
                      <a:moveTo>
                        <a:pt x="147" y="0"/>
                      </a:moveTo>
                      <a:lnTo>
                        <a:pt x="0" y="39"/>
                      </a:lnTo>
                      <a:lnTo>
                        <a:pt x="4" y="84"/>
                      </a:lnTo>
                      <a:lnTo>
                        <a:pt x="13" y="133"/>
                      </a:lnTo>
                      <a:lnTo>
                        <a:pt x="17" y="186"/>
                      </a:lnTo>
                      <a:lnTo>
                        <a:pt x="26" y="213"/>
                      </a:lnTo>
                      <a:lnTo>
                        <a:pt x="39" y="261"/>
                      </a:lnTo>
                      <a:lnTo>
                        <a:pt x="62" y="310"/>
                      </a:lnTo>
                      <a:lnTo>
                        <a:pt x="187" y="253"/>
                      </a:lnTo>
                      <a:lnTo>
                        <a:pt x="178" y="222"/>
                      </a:lnTo>
                      <a:lnTo>
                        <a:pt x="174" y="186"/>
                      </a:lnTo>
                      <a:lnTo>
                        <a:pt x="160" y="133"/>
                      </a:lnTo>
                      <a:lnTo>
                        <a:pt x="142" y="84"/>
                      </a:lnTo>
                      <a:lnTo>
                        <a:pt x="142" y="48"/>
                      </a:lnTo>
                      <a:lnTo>
                        <a:pt x="14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037280" y="1720800"/>
                  <a:ext cx="101880" cy="96840"/>
                </a:xfrm>
                <a:custGeom>
                  <a:avLst/>
                  <a:gdLst/>
                  <a:ahLst/>
                  <a:rect l="l" t="t" r="r" b="b"/>
                  <a:pathLst>
                    <a:path w="281" h="271">
                      <a:moveTo>
                        <a:pt x="280" y="217"/>
                      </a:moveTo>
                      <a:lnTo>
                        <a:pt x="156" y="270"/>
                      </a:lnTo>
                      <a:lnTo>
                        <a:pt x="129" y="252"/>
                      </a:lnTo>
                      <a:lnTo>
                        <a:pt x="103" y="213"/>
                      </a:lnTo>
                      <a:lnTo>
                        <a:pt x="66" y="177"/>
                      </a:lnTo>
                      <a:lnTo>
                        <a:pt x="48" y="142"/>
                      </a:lnTo>
                      <a:lnTo>
                        <a:pt x="31" y="101"/>
                      </a:lnTo>
                      <a:lnTo>
                        <a:pt x="0" y="57"/>
                      </a:lnTo>
                      <a:lnTo>
                        <a:pt x="125" y="0"/>
                      </a:lnTo>
                      <a:lnTo>
                        <a:pt x="151" y="30"/>
                      </a:lnTo>
                      <a:lnTo>
                        <a:pt x="169" y="57"/>
                      </a:lnTo>
                      <a:lnTo>
                        <a:pt x="200" y="101"/>
                      </a:lnTo>
                      <a:lnTo>
                        <a:pt x="227" y="146"/>
                      </a:lnTo>
                      <a:lnTo>
                        <a:pt x="258" y="182"/>
                      </a:lnTo>
                      <a:lnTo>
                        <a:pt x="280" y="21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091280" y="1569960"/>
                  <a:ext cx="233280" cy="223920"/>
                </a:xfrm>
                <a:custGeom>
                  <a:avLst/>
                  <a:gdLst/>
                  <a:ahLst/>
                  <a:rect l="l" t="t" r="r" b="b"/>
                  <a:pathLst>
                    <a:path w="647" h="621">
                      <a:moveTo>
                        <a:pt x="611" y="0"/>
                      </a:moveTo>
                      <a:lnTo>
                        <a:pt x="0" y="389"/>
                      </a:lnTo>
                      <a:lnTo>
                        <a:pt x="26" y="447"/>
                      </a:lnTo>
                      <a:lnTo>
                        <a:pt x="66" y="491"/>
                      </a:lnTo>
                      <a:lnTo>
                        <a:pt x="97" y="541"/>
                      </a:lnTo>
                      <a:lnTo>
                        <a:pt x="132" y="585"/>
                      </a:lnTo>
                      <a:lnTo>
                        <a:pt x="163" y="620"/>
                      </a:lnTo>
                      <a:lnTo>
                        <a:pt x="646" y="70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962760" y="1360440"/>
                  <a:ext cx="270000" cy="106560"/>
                </a:xfrm>
                <a:custGeom>
                  <a:avLst/>
                  <a:gdLst/>
                  <a:ahLst/>
                  <a:rect l="l" t="t" r="r" b="b"/>
                  <a:pathLst>
                    <a:path w="749" h="294">
                      <a:moveTo>
                        <a:pt x="717" y="0"/>
                      </a:moveTo>
                      <a:lnTo>
                        <a:pt x="8" y="26"/>
                      </a:lnTo>
                      <a:lnTo>
                        <a:pt x="0" y="70"/>
                      </a:lnTo>
                      <a:lnTo>
                        <a:pt x="13" y="97"/>
                      </a:lnTo>
                      <a:lnTo>
                        <a:pt x="22" y="124"/>
                      </a:lnTo>
                      <a:lnTo>
                        <a:pt x="22" y="165"/>
                      </a:lnTo>
                      <a:lnTo>
                        <a:pt x="30" y="200"/>
                      </a:lnTo>
                      <a:lnTo>
                        <a:pt x="44" y="231"/>
                      </a:lnTo>
                      <a:lnTo>
                        <a:pt x="44" y="271"/>
                      </a:lnTo>
                      <a:lnTo>
                        <a:pt x="53" y="293"/>
                      </a:lnTo>
                      <a:lnTo>
                        <a:pt x="748" y="101"/>
                      </a:lnTo>
                      <a:lnTo>
                        <a:pt x="717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981920" y="1282680"/>
            <a:ext cx="1046160" cy="874800"/>
            <a:chOff x="7981920" y="1282680"/>
            <a:chExt cx="1046160" cy="874800"/>
          </a:xfrm>
        </p:grpSpPr>
        <p:sp>
          <p:nvSpPr>
            <p:cNvPr id="254" name=""/>
            <p:cNvSpPr/>
            <p:nvPr/>
          </p:nvSpPr>
          <p:spPr>
            <a:xfrm>
              <a:off x="7981920" y="1282680"/>
              <a:ext cx="1046160" cy="871560"/>
            </a:xfrm>
            <a:custGeom>
              <a:avLst/>
              <a:gdLst/>
              <a:ahLst/>
              <a:rect l="l" t="t" r="r" b="b"/>
              <a:pathLst>
                <a:path w="2907" h="2422">
                  <a:moveTo>
                    <a:pt x="2305" y="0"/>
                  </a:moveTo>
                  <a:lnTo>
                    <a:pt x="1210" y="481"/>
                  </a:lnTo>
                  <a:lnTo>
                    <a:pt x="0" y="1100"/>
                  </a:lnTo>
                  <a:lnTo>
                    <a:pt x="8" y="1219"/>
                  </a:lnTo>
                  <a:lnTo>
                    <a:pt x="26" y="1356"/>
                  </a:lnTo>
                  <a:lnTo>
                    <a:pt x="79" y="1542"/>
                  </a:lnTo>
                  <a:lnTo>
                    <a:pt x="145" y="1705"/>
                  </a:lnTo>
                  <a:lnTo>
                    <a:pt x="202" y="1833"/>
                  </a:lnTo>
                  <a:lnTo>
                    <a:pt x="291" y="1988"/>
                  </a:lnTo>
                  <a:lnTo>
                    <a:pt x="367" y="2130"/>
                  </a:lnTo>
                  <a:lnTo>
                    <a:pt x="481" y="2253"/>
                  </a:lnTo>
                  <a:lnTo>
                    <a:pt x="565" y="2351"/>
                  </a:lnTo>
                  <a:lnTo>
                    <a:pt x="671" y="2421"/>
                  </a:lnTo>
                  <a:lnTo>
                    <a:pt x="1868" y="1807"/>
                  </a:lnTo>
                  <a:lnTo>
                    <a:pt x="2906" y="1179"/>
                  </a:lnTo>
                  <a:lnTo>
                    <a:pt x="23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908920" y="1311120"/>
              <a:ext cx="32040" cy="37152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81920" y="1332000"/>
              <a:ext cx="900000" cy="387360"/>
            </a:xfrm>
            <a:custGeom>
              <a:avLst/>
              <a:gdLst/>
              <a:ahLst/>
              <a:rect l="l" t="t" r="r" b="b"/>
              <a:pathLst>
                <a:path w="2500" h="1075">
                  <a:moveTo>
                    <a:pt x="2340" y="0"/>
                  </a:moveTo>
                  <a:lnTo>
                    <a:pt x="1219" y="340"/>
                  </a:lnTo>
                  <a:lnTo>
                    <a:pt x="0" y="959"/>
                  </a:lnTo>
                  <a:lnTo>
                    <a:pt x="4" y="1003"/>
                  </a:lnTo>
                  <a:lnTo>
                    <a:pt x="4" y="1039"/>
                  </a:lnTo>
                  <a:lnTo>
                    <a:pt x="4" y="1074"/>
                  </a:lnTo>
                  <a:lnTo>
                    <a:pt x="1228" y="451"/>
                  </a:lnTo>
                  <a:lnTo>
                    <a:pt x="2358" y="30"/>
                  </a:lnTo>
                  <a:lnTo>
                    <a:pt x="2367" y="97"/>
                  </a:lnTo>
                  <a:lnTo>
                    <a:pt x="2499" y="248"/>
                  </a:lnTo>
                  <a:lnTo>
                    <a:pt x="234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1640" y="1552680"/>
              <a:ext cx="434880" cy="280800"/>
            </a:xfrm>
            <a:custGeom>
              <a:avLst/>
              <a:gdLst/>
              <a:ahLst/>
              <a:rect l="l" t="t" r="r" b="b"/>
              <a:pathLst>
                <a:path w="1207" h="779">
                  <a:moveTo>
                    <a:pt x="1175" y="0"/>
                  </a:moveTo>
                  <a:lnTo>
                    <a:pt x="1184" y="92"/>
                  </a:lnTo>
                  <a:lnTo>
                    <a:pt x="1206" y="181"/>
                  </a:lnTo>
                  <a:lnTo>
                    <a:pt x="44" y="778"/>
                  </a:lnTo>
                  <a:lnTo>
                    <a:pt x="30" y="746"/>
                  </a:lnTo>
                  <a:lnTo>
                    <a:pt x="30" y="711"/>
                  </a:lnTo>
                  <a:lnTo>
                    <a:pt x="17" y="680"/>
                  </a:lnTo>
                  <a:lnTo>
                    <a:pt x="8" y="649"/>
                  </a:lnTo>
                  <a:lnTo>
                    <a:pt x="4" y="627"/>
                  </a:lnTo>
                  <a:lnTo>
                    <a:pt x="0" y="601"/>
                  </a:lnTo>
                  <a:lnTo>
                    <a:pt x="117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6560" y="1487520"/>
              <a:ext cx="823680" cy="430200"/>
            </a:xfrm>
            <a:custGeom>
              <a:avLst/>
              <a:gdLst/>
              <a:ahLst/>
              <a:rect l="l" t="t" r="r" b="b"/>
              <a:pathLst>
                <a:path w="2288" h="1194">
                  <a:moveTo>
                    <a:pt x="2287" y="0"/>
                  </a:moveTo>
                  <a:lnTo>
                    <a:pt x="1104" y="504"/>
                  </a:lnTo>
                  <a:lnTo>
                    <a:pt x="0" y="1078"/>
                  </a:lnTo>
                  <a:lnTo>
                    <a:pt x="13" y="1114"/>
                  </a:lnTo>
                  <a:lnTo>
                    <a:pt x="30" y="1149"/>
                  </a:lnTo>
                  <a:lnTo>
                    <a:pt x="44" y="1193"/>
                  </a:lnTo>
                  <a:lnTo>
                    <a:pt x="1078" y="632"/>
                  </a:lnTo>
                  <a:lnTo>
                    <a:pt x="1175" y="543"/>
                  </a:lnTo>
                  <a:lnTo>
                    <a:pt x="22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2280" y="1763640"/>
              <a:ext cx="459000" cy="293760"/>
            </a:xfrm>
            <a:custGeom>
              <a:avLst/>
              <a:gdLst/>
              <a:ahLst/>
              <a:rect l="l" t="t" r="r" b="b"/>
              <a:pathLst>
                <a:path w="1274" h="815">
                  <a:moveTo>
                    <a:pt x="1141" y="0"/>
                  </a:moveTo>
                  <a:lnTo>
                    <a:pt x="1158" y="57"/>
                  </a:lnTo>
                  <a:lnTo>
                    <a:pt x="1198" y="128"/>
                  </a:lnTo>
                  <a:lnTo>
                    <a:pt x="1238" y="190"/>
                  </a:lnTo>
                  <a:lnTo>
                    <a:pt x="1273" y="239"/>
                  </a:lnTo>
                  <a:lnTo>
                    <a:pt x="137" y="814"/>
                  </a:lnTo>
                  <a:lnTo>
                    <a:pt x="110" y="782"/>
                  </a:lnTo>
                  <a:lnTo>
                    <a:pt x="79" y="729"/>
                  </a:lnTo>
                  <a:lnTo>
                    <a:pt x="52" y="681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114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01040" y="1590840"/>
              <a:ext cx="422280" cy="293400"/>
            </a:xfrm>
            <a:custGeom>
              <a:avLst/>
              <a:gdLst/>
              <a:ahLst/>
              <a:rect l="l" t="t" r="r" b="b"/>
              <a:pathLst>
                <a:path w="1172" h="814">
                  <a:moveTo>
                    <a:pt x="1171" y="0"/>
                  </a:moveTo>
                  <a:lnTo>
                    <a:pt x="976" y="243"/>
                  </a:lnTo>
                  <a:lnTo>
                    <a:pt x="238" y="813"/>
                  </a:lnTo>
                  <a:lnTo>
                    <a:pt x="0" y="800"/>
                  </a:lnTo>
                  <a:lnTo>
                    <a:pt x="123" y="734"/>
                  </a:lnTo>
                  <a:lnTo>
                    <a:pt x="1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66080" y="1409760"/>
              <a:ext cx="158760" cy="274680"/>
            </a:xfrm>
            <a:custGeom>
              <a:avLst/>
              <a:gdLst/>
              <a:ahLst/>
              <a:rect l="l" t="t" r="r" b="b"/>
              <a:pathLst>
                <a:path w="439" h="765">
                  <a:moveTo>
                    <a:pt x="354" y="561"/>
                  </a:moveTo>
                  <a:lnTo>
                    <a:pt x="363" y="579"/>
                  </a:lnTo>
                  <a:lnTo>
                    <a:pt x="363" y="601"/>
                  </a:lnTo>
                  <a:lnTo>
                    <a:pt x="354" y="605"/>
                  </a:lnTo>
                  <a:lnTo>
                    <a:pt x="345" y="610"/>
                  </a:lnTo>
                  <a:lnTo>
                    <a:pt x="336" y="605"/>
                  </a:lnTo>
                  <a:lnTo>
                    <a:pt x="319" y="579"/>
                  </a:lnTo>
                  <a:lnTo>
                    <a:pt x="310" y="557"/>
                  </a:lnTo>
                  <a:lnTo>
                    <a:pt x="275" y="494"/>
                  </a:lnTo>
                  <a:lnTo>
                    <a:pt x="230" y="423"/>
                  </a:lnTo>
                  <a:lnTo>
                    <a:pt x="182" y="335"/>
                  </a:lnTo>
                  <a:lnTo>
                    <a:pt x="102" y="176"/>
                  </a:lnTo>
                  <a:lnTo>
                    <a:pt x="57" y="92"/>
                  </a:lnTo>
                  <a:lnTo>
                    <a:pt x="30" y="39"/>
                  </a:lnTo>
                  <a:lnTo>
                    <a:pt x="0" y="0"/>
                  </a:lnTo>
                  <a:lnTo>
                    <a:pt x="35" y="79"/>
                  </a:lnTo>
                  <a:lnTo>
                    <a:pt x="61" y="128"/>
                  </a:lnTo>
                  <a:lnTo>
                    <a:pt x="89" y="180"/>
                  </a:lnTo>
                  <a:lnTo>
                    <a:pt x="120" y="251"/>
                  </a:lnTo>
                  <a:lnTo>
                    <a:pt x="160" y="317"/>
                  </a:lnTo>
                  <a:lnTo>
                    <a:pt x="204" y="410"/>
                  </a:lnTo>
                  <a:lnTo>
                    <a:pt x="239" y="481"/>
                  </a:lnTo>
                  <a:lnTo>
                    <a:pt x="292" y="557"/>
                  </a:lnTo>
                  <a:lnTo>
                    <a:pt x="323" y="614"/>
                  </a:lnTo>
                  <a:lnTo>
                    <a:pt x="359" y="658"/>
                  </a:lnTo>
                  <a:lnTo>
                    <a:pt x="372" y="680"/>
                  </a:lnTo>
                  <a:lnTo>
                    <a:pt x="398" y="698"/>
                  </a:lnTo>
                  <a:lnTo>
                    <a:pt x="438" y="764"/>
                  </a:lnTo>
                  <a:lnTo>
                    <a:pt x="403" y="693"/>
                  </a:lnTo>
                  <a:lnTo>
                    <a:pt x="394" y="676"/>
                  </a:lnTo>
                  <a:lnTo>
                    <a:pt x="389" y="641"/>
                  </a:lnTo>
                  <a:lnTo>
                    <a:pt x="385" y="623"/>
                  </a:lnTo>
                  <a:lnTo>
                    <a:pt x="372" y="601"/>
                  </a:lnTo>
                  <a:lnTo>
                    <a:pt x="363" y="579"/>
                  </a:lnTo>
                  <a:lnTo>
                    <a:pt x="354" y="56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88200" y="1662120"/>
              <a:ext cx="819360" cy="495360"/>
            </a:xfrm>
            <a:custGeom>
              <a:avLst/>
              <a:gdLst/>
              <a:ahLst/>
              <a:rect l="l" t="t" r="r" b="b"/>
              <a:pathLst>
                <a:path w="2276" h="1374">
                  <a:moveTo>
                    <a:pt x="2275" y="35"/>
                  </a:moveTo>
                  <a:lnTo>
                    <a:pt x="1290" y="763"/>
                  </a:lnTo>
                  <a:lnTo>
                    <a:pt x="92" y="1373"/>
                  </a:lnTo>
                  <a:lnTo>
                    <a:pt x="0" y="1307"/>
                  </a:lnTo>
                  <a:lnTo>
                    <a:pt x="1272" y="658"/>
                  </a:lnTo>
                  <a:lnTo>
                    <a:pt x="2227" y="0"/>
                  </a:lnTo>
                  <a:lnTo>
                    <a:pt x="2275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Fo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5440" y="2255760"/>
            <a:ext cx="1168920" cy="54648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1313"/>
                </a:solidFill>
                <a:latin typeface="Arial"/>
              </a:rPr>
              <a:t>FP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4160" y="2316240"/>
            <a:ext cx="213804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tre en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8640" y="2316240"/>
            <a:ext cx="198108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cr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 u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78440" y="2316240"/>
            <a:ext cx="1528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util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28954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3124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1480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29718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1240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7712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297180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124080"/>
            <a:ext cx="144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22960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274920"/>
            <a:ext cx="152532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e ver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768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772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95320" y="412920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70800" y="4145040"/>
            <a:ext cx="3428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s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à l'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95320" y="489096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65760" y="4906800"/>
            <a:ext cx="3594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spe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g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5592600"/>
            <a:ext cx="522360" cy="498600"/>
          </a:xfrm>
          <a:custGeom>
            <a:avLst/>
            <a:gdLst/>
            <a:ahLst/>
            <a:rect l="l" t="t" r="r" b="b"/>
            <a:pathLst>
              <a:path w="1449" h="1383">
                <a:moveTo>
                  <a:pt x="0" y="345"/>
                </a:moveTo>
                <a:lnTo>
                  <a:pt x="723" y="345"/>
                </a:lnTo>
                <a:lnTo>
                  <a:pt x="723" y="0"/>
                </a:lnTo>
                <a:lnTo>
                  <a:pt x="1448" y="691"/>
                </a:lnTo>
                <a:lnTo>
                  <a:pt x="723" y="1382"/>
                </a:lnTo>
                <a:lnTo>
                  <a:pt x="723" y="1036"/>
                </a:lnTo>
                <a:lnTo>
                  <a:pt x="0" y="1036"/>
                </a:lnTo>
                <a:lnTo>
                  <a:pt x="0" y="345"/>
                </a:lnTo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62880" y="5668920"/>
            <a:ext cx="52484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référer au tableau de critères de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14760" y="3448080"/>
            <a:ext cx="2247840" cy="1181160"/>
          </a:xfrm>
          <a:prstGeom prst="ellipse">
            <a:avLst/>
          </a:prstGeom>
          <a:noFill/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52800" y="3143160"/>
            <a:ext cx="95220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Bloc diagram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26668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4952880"/>
            <a:ext cx="8534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30560" y="1758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46640" y="181296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30560" y="2901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2955960"/>
            <a:ext cx="9126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30560" y="412128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18480" y="4175280"/>
            <a:ext cx="11336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06880" y="5340240"/>
            <a:ext cx="1511280" cy="520920"/>
            <a:chOff x="3206880" y="5340240"/>
            <a:chExt cx="1511280" cy="520920"/>
          </a:xfrm>
        </p:grpSpPr>
        <p:sp>
          <p:nvSpPr>
            <p:cNvPr id="298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77046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286080" y="5394240"/>
            <a:ext cx="13622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3680" y="2901960"/>
            <a:ext cx="16635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920" y="2955960"/>
            <a:ext cx="167328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Capuc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5160" y="3206880"/>
            <a:ext cx="25779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0400" y="3260880"/>
            <a:ext cx="26089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intéri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45160" y="4121280"/>
            <a:ext cx="158760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85640" y="4175280"/>
            <a:ext cx="10317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En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2286000"/>
            <a:ext cx="1440" cy="60948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342900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464832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2286000"/>
            <a:ext cx="144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048120"/>
            <a:ext cx="9903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342900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64832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648320" y="3650760"/>
            <a:ext cx="990360" cy="546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10280" y="3733920"/>
            <a:ext cx="18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4267080"/>
            <a:ext cx="990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1880" y="2666880"/>
            <a:ext cx="1800" cy="22860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257800"/>
            <a:ext cx="1440" cy="2286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5840" y="523404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638680"/>
            <a:ext cx="1440" cy="22860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70120" y="56149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5334120"/>
            <a:ext cx="180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59680" y="5386320"/>
            <a:ext cx="210888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s de l'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0094480" y="3362400"/>
            <a:ext cx="18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97400" y="1533600"/>
            <a:ext cx="1219320" cy="3352680"/>
          </a:xfrm>
          <a:custGeom>
            <a:avLst/>
            <a:gdLst/>
            <a:ahLst/>
            <a:rect l="l" t="t" r="r" b="b"/>
            <a:pathLst>
              <a:path w="3388" h="9315">
                <a:moveTo>
                  <a:pt x="3387" y="0"/>
                </a:moveTo>
                <a:lnTo>
                  <a:pt x="3387" y="4445"/>
                </a:lnTo>
                <a:lnTo>
                  <a:pt x="0" y="4445"/>
                </a:lnTo>
                <a:lnTo>
                  <a:pt x="0" y="9314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902120" y="1004760"/>
            <a:ext cx="1505160" cy="447840"/>
            <a:chOff x="4902120" y="1004760"/>
            <a:chExt cx="1505160" cy="447840"/>
          </a:xfrm>
        </p:grpSpPr>
        <p:sp>
          <p:nvSpPr>
            <p:cNvPr id="327" name=""/>
            <p:cNvSpPr/>
            <p:nvPr/>
          </p:nvSpPr>
          <p:spPr>
            <a:xfrm>
              <a:off x="4902120" y="1004760"/>
              <a:ext cx="1505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24080" y="1004760"/>
              <a:ext cx="145980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ystèm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149880" y="3595680"/>
            <a:ext cx="1830600" cy="447840"/>
            <a:chOff x="6149880" y="3595680"/>
            <a:chExt cx="1830600" cy="447840"/>
          </a:xfrm>
        </p:grpSpPr>
        <p:sp>
          <p:nvSpPr>
            <p:cNvPr id="330" name=""/>
            <p:cNvSpPr/>
            <p:nvPr/>
          </p:nvSpPr>
          <p:spPr>
            <a:xfrm>
              <a:off x="6149880" y="3595680"/>
              <a:ext cx="183060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920" y="3595680"/>
              <a:ext cx="178452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appareil A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483000" y="3595680"/>
            <a:ext cx="1830240" cy="447840"/>
            <a:chOff x="3483000" y="3595680"/>
            <a:chExt cx="1830240" cy="447840"/>
          </a:xfrm>
        </p:grpSpPr>
        <p:sp>
          <p:nvSpPr>
            <p:cNvPr id="333" name=""/>
            <p:cNvSpPr/>
            <p:nvPr/>
          </p:nvSpPr>
          <p:spPr>
            <a:xfrm>
              <a:off x="3483000" y="3595680"/>
              <a:ext cx="183024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06040" y="3595680"/>
              <a:ext cx="178452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appareil A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36800" y="4967280"/>
            <a:ext cx="2000160" cy="447840"/>
            <a:chOff x="1036800" y="4967280"/>
            <a:chExt cx="2000160" cy="447840"/>
          </a:xfrm>
        </p:grpSpPr>
        <p:sp>
          <p:nvSpPr>
            <p:cNvPr id="336" name=""/>
            <p:cNvSpPr/>
            <p:nvPr/>
          </p:nvSpPr>
          <p:spPr>
            <a:xfrm>
              <a:off x="1036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5840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322800" y="4967280"/>
            <a:ext cx="2000160" cy="447840"/>
            <a:chOff x="3322800" y="4967280"/>
            <a:chExt cx="2000160" cy="447840"/>
          </a:xfrm>
        </p:grpSpPr>
        <p:sp>
          <p:nvSpPr>
            <p:cNvPr id="339" name=""/>
            <p:cNvSpPr/>
            <p:nvPr/>
          </p:nvSpPr>
          <p:spPr>
            <a:xfrm>
              <a:off x="3322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584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608800" y="4967280"/>
            <a:ext cx="2000160" cy="447840"/>
            <a:chOff x="5608800" y="4967280"/>
            <a:chExt cx="2000160" cy="447840"/>
          </a:xfrm>
        </p:grpSpPr>
        <p:sp>
          <p:nvSpPr>
            <p:cNvPr id="342" name=""/>
            <p:cNvSpPr/>
            <p:nvPr/>
          </p:nvSpPr>
          <p:spPr>
            <a:xfrm>
              <a:off x="5608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184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381400" y="2205000"/>
            <a:ext cx="1900080" cy="447840"/>
            <a:chOff x="2381400" y="2205000"/>
            <a:chExt cx="1900080" cy="447840"/>
          </a:xfrm>
        </p:grpSpPr>
        <p:sp>
          <p:nvSpPr>
            <p:cNvPr id="345" name=""/>
            <p:cNvSpPr/>
            <p:nvPr/>
          </p:nvSpPr>
          <p:spPr>
            <a:xfrm>
              <a:off x="2381400" y="2205000"/>
              <a:ext cx="190008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033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705200" y="2205000"/>
            <a:ext cx="1900440" cy="447840"/>
            <a:chOff x="4705200" y="2205000"/>
            <a:chExt cx="1900440" cy="447840"/>
          </a:xfrm>
        </p:grpSpPr>
        <p:sp>
          <p:nvSpPr>
            <p:cNvPr id="348" name=""/>
            <p:cNvSpPr/>
            <p:nvPr/>
          </p:nvSpPr>
          <p:spPr>
            <a:xfrm>
              <a:off x="4705200" y="2205000"/>
              <a:ext cx="190044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271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953400" y="2205000"/>
            <a:ext cx="1900080" cy="447840"/>
            <a:chOff x="6953400" y="2205000"/>
            <a:chExt cx="1900080" cy="447840"/>
          </a:xfrm>
        </p:grpSpPr>
        <p:sp>
          <p:nvSpPr>
            <p:cNvPr id="351" name=""/>
            <p:cNvSpPr/>
            <p:nvPr/>
          </p:nvSpPr>
          <p:spPr>
            <a:xfrm>
              <a:off x="6953400" y="2205000"/>
              <a:ext cx="190008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753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616720" y="3133800"/>
            <a:ext cx="1295280" cy="457200"/>
          </a:xfrm>
          <a:custGeom>
            <a:avLst/>
            <a:gdLst/>
            <a:ahLst/>
            <a:rect l="l" t="t" r="r" b="b"/>
            <a:pathLst>
              <a:path w="3599" h="1271">
                <a:moveTo>
                  <a:pt x="0" y="0"/>
                </a:moveTo>
                <a:lnTo>
                  <a:pt x="3598" y="0"/>
                </a:lnTo>
                <a:lnTo>
                  <a:pt x="3598" y="12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11400" y="4429080"/>
            <a:ext cx="4572000" cy="457200"/>
          </a:xfrm>
          <a:custGeom>
            <a:avLst/>
            <a:gdLst/>
            <a:ahLst/>
            <a:rect l="l" t="t" r="r" b="b"/>
            <a:pathLst>
              <a:path w="12701" h="1272">
                <a:moveTo>
                  <a:pt x="0" y="1271"/>
                </a:moveTo>
                <a:lnTo>
                  <a:pt x="0" y="0"/>
                </a:lnTo>
                <a:lnTo>
                  <a:pt x="12700" y="0"/>
                </a:lnTo>
                <a:lnTo>
                  <a:pt x="12700" y="1271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06680" y="1838160"/>
            <a:ext cx="4191120" cy="381240"/>
          </a:xfrm>
          <a:custGeom>
            <a:avLst/>
            <a:gdLst/>
            <a:ahLst/>
            <a:rect l="l" t="t" r="r" b="b"/>
            <a:pathLst>
              <a:path w="11643" h="1060">
                <a:moveTo>
                  <a:pt x="0" y="1059"/>
                </a:moveTo>
                <a:lnTo>
                  <a:pt x="0" y="0"/>
                </a:lnTo>
                <a:lnTo>
                  <a:pt x="11642" y="0"/>
                </a:lnTo>
                <a:lnTo>
                  <a:pt x="11642" y="847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06680" y="2676600"/>
            <a:ext cx="18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97800" y="275256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12000" y="404820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8680" y="2097000"/>
            <a:ext cx="1627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écou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nc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0280" y="3666960"/>
            <a:ext cx="15951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écoup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tude d'une 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5867280"/>
            <a:ext cx="1905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62120" y="2133720"/>
            <a:ext cx="6954480" cy="3809880"/>
            <a:chOff x="762120" y="2133720"/>
            <a:chExt cx="6954480" cy="380988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923760" y="2438280"/>
              <a:ext cx="66200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553080" y="2895480"/>
              <a:ext cx="990720" cy="2438640"/>
            </a:xfrm>
            <a:custGeom>
              <a:avLst/>
              <a:gdLst>
                <a:gd name="textAreaLeft" fmla="*/ 360 w 990720"/>
                <a:gd name="textAreaRight" fmla="*/ 990360 w 990720"/>
                <a:gd name="textAreaTop" fmla="*/ 360 h 2438640"/>
                <a:gd name="textAreaBottom" fmla="*/ 2438280 h 2438640"/>
              </a:gdLst>
              <a:ahLst/>
              <a:rect l="textAreaLeft" t="textAreaTop" r="textAreaRight" b="textAreaBottom"/>
              <a:pathLst>
                <a:path w="21600" h="53157">
                  <a:moveTo>
                    <a:pt x="34" y="0"/>
                  </a:moveTo>
                  <a:arcTo wR="34" hR="34" stAng="16200000" swAng="-5400000"/>
                  <a:lnTo>
                    <a:pt x="0" y="53123"/>
                  </a:lnTo>
                  <a:arcTo wR="34" hR="34" stAng="10800000" swAng="-5400000"/>
                  <a:lnTo>
                    <a:pt x="21566" y="53157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486400" y="3346200"/>
              <a:ext cx="1066680" cy="46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334120" y="3879360"/>
              <a:ext cx="1218960" cy="1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876920"/>
              <a:ext cx="4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660760" y="3352680"/>
              <a:ext cx="153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660760" y="4114800"/>
              <a:ext cx="1689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660760" y="4876920"/>
              <a:ext cx="1155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6520" y="3078000"/>
              <a:ext cx="76932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C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02040" y="3679920"/>
              <a:ext cx="818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BO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10320" y="4670280"/>
              <a:ext cx="1106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BATT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660400" y="4717800"/>
              <a:ext cx="546120" cy="8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19720" y="2133720"/>
              <a:ext cx="1904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2120" y="2133720"/>
              <a:ext cx="1828800" cy="38098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809880"/>
                <a:gd name="textAreaBottom" fmla="*/ 3809520 h 3809880"/>
              </a:gdLst>
              <a:ahLst/>
              <a:rect l="textAreaLeft" t="textAreaTop" r="textAreaRight" b="textAreaBottom"/>
              <a:pathLst>
                <a:path w="21600" h="44994">
                  <a:moveTo>
                    <a:pt x="18" y="0"/>
                  </a:moveTo>
                  <a:arcTo wR="18" hR="18" stAng="16200000" swAng="-5400000"/>
                  <a:lnTo>
                    <a:pt x="0" y="44976"/>
                  </a:lnTo>
                  <a:arcTo wR="18" hR="18" stAng="10800000" swAng="-5400000"/>
                  <a:lnTo>
                    <a:pt x="21582" y="44994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330560" y="3222720"/>
              <a:ext cx="1302840" cy="2352960"/>
              <a:chOff x="1330560" y="3222720"/>
              <a:chExt cx="1302840" cy="2352960"/>
            </a:xfrm>
          </p:grpSpPr>
          <p:sp>
            <p:nvSpPr>
              <p:cNvPr id="379" name=""/>
              <p:cNvSpPr/>
              <p:nvPr/>
            </p:nvSpPr>
            <p:spPr>
              <a:xfrm>
                <a:off x="2121480" y="398448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V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96760" y="3222720"/>
                <a:ext cx="82728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ECR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21480" y="451800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F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30560" y="5280120"/>
                <a:ext cx="130284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LANGU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