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5CF-1E25-4BCC-97F6-AA246EEF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EAA-2923-4AB1-8F98-8C88565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815-77BE-4204-A0EF-BCE78092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C11-CDA7-4D60-B869-ACB6B379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CFA-116B-4DFD-B0DE-C2666094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3BF-4D1A-4326-AF89-E81D5CF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C50-8EB3-46E4-99A6-FEA56DD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E35-6295-4BA0-B4E2-2800A9E4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BDE-94A9-48CA-9063-392F7E9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305-B3DE-48B2-838B-DD4CF30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733-A790-4BE6-897C-5537B57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F52-7F23-47F0-A758-69A13EA6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0B8B-D6A3-4704-AE08-11D29C3DE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84360" y="1836720"/>
          <a:ext cx="5973840" cy="31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836720"/>
                    <a:ext cx="597384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295280"/>
          <a:ext cx="8686800" cy="45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371600"/>
          <a:ext cx="8382240" cy="49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38224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21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éma pneu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81280" y="838080"/>
          <a:ext cx="468648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838080"/>
                    <a:ext cx="468648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04920" y="129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éma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14600" y="2362320"/>
          <a:ext cx="356544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65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5880" y="23623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838188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BUT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 FONCTIONNELLE EX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ECOUPAGE DE L'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TUDIER LES DEFAILLANCES POSSIBLES SUR LES ORGAN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V rep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ssostats rep 9 et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oupape rep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act KM tempor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GRILLE AM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ICHES D’AIDE AU DIAGNO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09:17:13Z</dcterms:created>
  <dc:creator>ISYPRO</dc:creator>
  <dc:description/>
  <dc:language>en-US</dc:language>
  <cp:lastModifiedBy>ISYPRO</cp:lastModifiedBy>
  <dcterms:modified xsi:type="dcterms:W3CDTF">2000-01-14T12:09:26Z</dcterms:modified>
  <cp:revision>1</cp:revision>
  <dc:subject/>
  <dc:title>Aucun titre de diapositive</dc:title>
</cp:coreProperties>
</file>