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4D20-0B22-42D1-9C70-94CF9430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5F1-91B5-44F8-A369-71A6C582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A8E8-C275-4D8E-AE15-32EF8587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3214-FBE3-487A-8998-5C9F950E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7B8A-00E1-4E1E-BE07-96947646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8A59-5378-42EC-B44A-38B0F49C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8BB7-E0C2-4B13-8C75-75D10E95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5A08-B912-40A1-B255-490C3A19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F67-B661-44DB-904A-9D2EED83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29F0-BACC-46DE-8440-660D565C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E8BC-EF24-46AE-8AE1-FE63F3C1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EBE9-1578-4B21-AF48-9FBE20A3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CEBC-6A6D-4D64-979F-DB741949397C}" type="datetime">
              <a:rPr b="0" lang="fr-FR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76760"/>
            <a:ext cx="19051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198B-CD78-42DF-981B-79623CADC92B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Visite10.ppt" TargetMode="External"/><Relationship Id="rId2" Type="http://schemas.openxmlformats.org/officeDocument/2006/relationships/hyperlink" Target="file:///Visite10.ppt" TargetMode="Externa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cc"/>
                </a:solidFill>
                <a:latin typeface="Tahoma"/>
              </a:rPr>
              <a:t>Prélude ERP 6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00"/>
                </a:solidFill>
                <a:latin typeface="Arial"/>
              </a:rPr>
              <a:t>Visite guidée - session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ncement et suivi de fabr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cc"/>
                </a:solidFill>
                <a:latin typeface="Tahoma"/>
              </a:rPr>
              <a:t>Le suivi de fabrication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Il s’agit d’enregistr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'avancement des opérations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4956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mbre de pièces réalis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956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ièces bonnes, reb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consommations de res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4956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eures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956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eures de main-d’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956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tières et compos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inc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4956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nnes de machine, d'outil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956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ttente de manutention, de personnel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de telle sorte que l’image informatique soit une représentation fidèle de la réalité phys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5B95-D27E-44BC-8648-46FB062EA9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21926-1ACA-423F-BD26-87DF2FF749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cc"/>
                </a:solidFill>
                <a:latin typeface="Tahoma"/>
              </a:rPr>
              <a:t>Suivi de l’avancement des pièces d’un OF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2743200"/>
            <a:ext cx="106704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t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2743200"/>
            <a:ext cx="106704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2743200"/>
            <a:ext cx="106668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t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2743200"/>
            <a:ext cx="106668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209680"/>
            <a:ext cx="27432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pération 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2209680"/>
            <a:ext cx="27432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pération 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3124080"/>
            <a:ext cx="1600200" cy="38124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30481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743200" y="3352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800" y="464832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cl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la quant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abriqu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705720" y="3352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4320" y="464832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cl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la quant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abriqu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24280" y="33523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54080" y="4191120"/>
            <a:ext cx="188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Vient en at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de l’opé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suiv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BDCA-13AA-4BBF-863D-926680B4CA3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25C2C-41CC-4989-A532-5FFC003F4D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cc"/>
                </a:solidFill>
                <a:latin typeface="Tahoma"/>
              </a:rPr>
              <a:t>Suivi de l’avancement des pièces d’un OF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quantité totale fabriquée à la dernière opération est la </a:t>
            </a: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quantité terminé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 l’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ette quantité peur être </a:t>
            </a: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transférée dans le maga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orsque la quantité entrée en magasin est égale à la quantité lancée, </a:t>
            </a: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l’OF peut être c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5958-F650-4626-B2E0-DA05DA2B42C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F7928-4CB5-4B11-AB63-5112A4EC31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cc"/>
                </a:solidFill>
                <a:latin typeface="Tahoma"/>
              </a:rPr>
              <a:t>Les statuts intermédiaires </a:t>
            </a:r>
            <a:br>
              <a:rPr sz="4400"/>
            </a:br>
            <a:r>
              <a:rPr b="0" lang="fr-FR" sz="4400" spc="-1" strike="noStrike">
                <a:solidFill>
                  <a:srgbClr val="0033cc"/>
                </a:solidFill>
                <a:latin typeface="Tahoma"/>
              </a:rPr>
              <a:t>des OF lancés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57150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ors du lancement 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statut </a:t>
            </a:r>
            <a:r>
              <a:rPr b="1" lang="fr-FR" sz="28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(lanc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57150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près la première déclaration de production 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statut </a:t>
            </a:r>
            <a:r>
              <a:rPr b="1" lang="fr-FR" sz="2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(en cou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57150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orsque toutes les quantités sont déclaré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à la dernière opération 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statut </a:t>
            </a:r>
            <a:r>
              <a:rPr b="1" lang="fr-FR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(termi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57150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ôture de l’OF 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statut </a:t>
            </a:r>
            <a:r>
              <a:rPr b="1" lang="fr-FR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(sold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r" pos="57150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9900"/>
                </a:solidFill>
                <a:latin typeface="Arial"/>
              </a:rPr>
              <a:t>Les opérations ont les mêmes stat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584-BE01-43F2-9884-F291476F341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191D7-4A34-4B37-BBFB-4393F810B9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cc"/>
                </a:solidFill>
                <a:latin typeface="Tahoma"/>
              </a:rPr>
              <a:t>La gestion d’un OF lancé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6705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Principales étap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ortie des composants de l’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aisie des quantités réalisé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aisie des temps pas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trée de l’OF en maga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ôture de l’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1600200"/>
            <a:ext cx="1904760" cy="60948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F lanc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1600200"/>
            <a:ext cx="190476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OF c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752480"/>
            <a:ext cx="1752480" cy="38124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1808-CDE4-4A6E-B978-93514457327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D3BEE-C1C0-4F8A-B85C-CE9AE712F3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304920" y="1143000"/>
          <a:ext cx="6076800" cy="45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607680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cc"/>
                </a:solidFill>
                <a:latin typeface="Tahoma"/>
              </a:rPr>
              <a:t>Sortie de composants sur OF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2590920"/>
            <a:ext cx="1981080" cy="1066680"/>
          </a:xfrm>
          <a:prstGeom prst="wedgeRoundRectCallout">
            <a:avLst>
              <a:gd name="adj1" fmla="val -79166"/>
              <a:gd name="adj2" fmla="val -133777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effect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sortie 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os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143000" y="1600200"/>
          <a:ext cx="6095880" cy="45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00200"/>
                    <a:ext cx="609588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781680" y="5105520"/>
            <a:ext cx="1905120" cy="914400"/>
          </a:xfrm>
          <a:prstGeom prst="wedgeRoundRectCallout">
            <a:avLst>
              <a:gd name="adj1" fmla="val -43333"/>
              <a:gd name="adj2" fmla="val -21875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ffectu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sor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s compos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A145-348D-4A3A-933B-A5EEBF65848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17C4A-92DA-4584-8C7E-EFB681E272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838080" y="1143000"/>
          <a:ext cx="683892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683892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cc"/>
                </a:solidFill>
                <a:latin typeface="Tahoma"/>
              </a:rPr>
              <a:t>Les composants en-cours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4572000"/>
            <a:ext cx="3733920" cy="990720"/>
          </a:xfrm>
          <a:prstGeom prst="wedgeRoundRectCallout">
            <a:avLst>
              <a:gd name="adj1" fmla="val 26106"/>
              <a:gd name="adj2" fmla="val -9375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composants sont sort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u stock réserv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t passent en en-c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1BB3-0687-450D-9DC7-9942FE8157D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D5C8E-C434-48C5-8B81-BDBABB0956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cc"/>
                </a:solidFill>
                <a:latin typeface="Tahoma"/>
              </a:rPr>
              <a:t>Les composants sont sortis </a:t>
            </a:r>
            <a:br>
              <a:rPr sz="4400"/>
            </a:br>
            <a:r>
              <a:rPr b="0" lang="fr-FR" sz="4400" spc="-1" strike="noStrike">
                <a:solidFill>
                  <a:srgbClr val="0033cc"/>
                </a:solidFill>
                <a:latin typeface="Tahoma"/>
              </a:rPr>
              <a:t>du stock réservé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80880" y="1600200"/>
          <a:ext cx="622944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622944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514600" y="1828800"/>
          <a:ext cx="6076800" cy="454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828800"/>
                    <a:ext cx="607680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BA53-4803-4C36-8D46-F6C2965126A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D685D-828F-46A9-87F9-9F2F94D4B0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cc"/>
                </a:solidFill>
                <a:latin typeface="Tahoma"/>
              </a:rPr>
              <a:t>Le lancement automatique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293760" y="4851360"/>
            <a:ext cx="8196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cc"/>
                </a:solidFill>
                <a:latin typeface="Arial"/>
              </a:rPr>
              <a:t>Lancement de tous le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dont les composants sont dispon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par date de lancement croiss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dont la date de lancement est antérieure ou égale à la date lim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057400" y="990720"/>
          <a:ext cx="510552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990720"/>
                    <a:ext cx="51055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B821-8451-40FA-A99E-1659318DA95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F7972-E940-4136-95A9-5428DBE33B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762120" y="1295280"/>
          <a:ext cx="670536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670536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cc"/>
                </a:solidFill>
                <a:latin typeface="Tahoma"/>
              </a:rPr>
              <a:t>Les déclarations de production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590920"/>
            <a:ext cx="2057400" cy="838080"/>
          </a:xfrm>
          <a:prstGeom prst="wedgeRoundRectCallout">
            <a:avLst>
              <a:gd name="adj1" fmla="val -242671"/>
              <a:gd name="adj2" fmla="val 13674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trer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uantité bo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4191120"/>
            <a:ext cx="2057400" cy="1143000"/>
          </a:xfrm>
          <a:prstGeom prst="wedgeRoundRectCallout">
            <a:avLst>
              <a:gd name="adj1" fmla="val -178550"/>
              <a:gd name="adj2" fmla="val -3597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trer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temps pass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E5A-9A8C-4872-948B-6C0882B7EFB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317FC-D23E-4B2F-BA1C-68F6E937A6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cc"/>
                </a:solidFill>
                <a:latin typeface="Tahoma"/>
              </a:rPr>
              <a:t>Le lancement d’un OF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cation de la disponibilité des compos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ansformation de l’ordre ferme en ordre lanc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éparation des documents nécessaires au suivi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ches suiv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ons d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BF05-7106-448C-BBA5-150D530DD12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02A04-D188-41CE-8281-A94A49953D25}" type="datetime1">
              <a:rPr lang="en-US"/>
              <a:t>07/31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cc"/>
                </a:solidFill>
                <a:latin typeface="Tahoma"/>
              </a:rPr>
              <a:t>Entrée de l’OF terminé en stock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28600" y="990720"/>
          <a:ext cx="6838920" cy="51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6838920" cy="51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7238880" y="1295280"/>
            <a:ext cx="1676520" cy="1295640"/>
          </a:xfrm>
          <a:prstGeom prst="wedgeRoundRectCallout">
            <a:avLst>
              <a:gd name="adj1" fmla="val -69412"/>
              <a:gd name="adj2" fmla="val 73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liq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effect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62120" y="1523880"/>
          <a:ext cx="6610320" cy="494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523880"/>
                    <a:ext cx="6610320" cy="49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7315200" y="4038480"/>
            <a:ext cx="1447920" cy="1295640"/>
          </a:xfrm>
          <a:prstGeom prst="wedgeRoundRectCallout">
            <a:avLst>
              <a:gd name="adj1" fmla="val -85634"/>
              <a:gd name="adj2" fmla="val -186027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al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19EC-FCDC-4C61-B0AC-DAE693C3328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DCC53-2773-44F8-874C-CD758E1A00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685800" y="1219320"/>
          <a:ext cx="6534000" cy="48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6534000" cy="48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cc"/>
                </a:solidFill>
                <a:latin typeface="Tahoma"/>
              </a:rPr>
              <a:t>Clôture d’un OF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2666880"/>
            <a:ext cx="1524240" cy="914400"/>
          </a:xfrm>
          <a:prstGeom prst="wedgeRoundRectCallout">
            <a:avLst>
              <a:gd name="adj1" fmla="val -61773"/>
              <a:gd name="adj2" fmla="val -62675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liq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clôtu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C7E-F20F-4A8C-A3C6-7C201F3B549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646E9-596C-46A6-9BA6-D38C76A270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cc"/>
                </a:solidFill>
                <a:latin typeface="Tahoma"/>
              </a:rPr>
              <a:t>Récapitulation des mouvements de stock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5793120" y="144792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Compos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360" y="548640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Produit fabriqu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1905120"/>
            <a:ext cx="22100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ispon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1828800"/>
            <a:ext cx="335268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lcul des beso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9" idx="1"/>
            <a:endCxn id="160" idx="6"/>
          </p:cNvCxnSpPr>
          <p:nvPr/>
        </p:nvCxnSpPr>
        <p:spPr>
          <a:xfrm flipH="1">
            <a:off x="3580920" y="2095200"/>
            <a:ext cx="20577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191120" y="2438280"/>
            <a:ext cx="2133360" cy="38124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esoins suggé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0" idx="5"/>
            <a:endCxn id="162" idx="1"/>
          </p:cNvCxnSpPr>
          <p:nvPr/>
        </p:nvCxnSpPr>
        <p:spPr>
          <a:xfrm>
            <a:off x="3090960" y="2284200"/>
            <a:ext cx="1100880" cy="345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228600" y="2895480"/>
            <a:ext cx="335268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ffermissement de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5867280"/>
            <a:ext cx="22096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ispon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2971800"/>
            <a:ext cx="2133360" cy="3808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esoins fer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4" idx="6"/>
            <a:endCxn id="166" idx="1"/>
          </p:cNvCxnSpPr>
          <p:nvPr/>
        </p:nvCxnSpPr>
        <p:spPr>
          <a:xfrm>
            <a:off x="3581280" y="3161880"/>
            <a:ext cx="6105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228600" y="3733920"/>
            <a:ext cx="33526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ncement de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3505320"/>
            <a:ext cx="22100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ispon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4191120"/>
            <a:ext cx="22100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servé fabr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9" idx="1"/>
            <a:endCxn id="168" idx="7"/>
          </p:cNvCxnSpPr>
          <p:nvPr/>
        </p:nvCxnSpPr>
        <p:spPr>
          <a:xfrm flipH="1">
            <a:off x="3090240" y="3695760"/>
            <a:ext cx="2548440" cy="116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8" idx="5"/>
            <a:endCxn id="170" idx="1"/>
          </p:cNvCxnSpPr>
          <p:nvPr/>
        </p:nvCxnSpPr>
        <p:spPr>
          <a:xfrm>
            <a:off x="3090600" y="4189320"/>
            <a:ext cx="2548440" cy="192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228600" y="4495680"/>
            <a:ext cx="335268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rtie des compos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0" idx="1"/>
            <a:endCxn id="173" idx="7"/>
          </p:cNvCxnSpPr>
          <p:nvPr/>
        </p:nvCxnSpPr>
        <p:spPr>
          <a:xfrm flipH="1">
            <a:off x="3090240" y="4381200"/>
            <a:ext cx="2548440" cy="192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4191120" y="4800600"/>
            <a:ext cx="2133360" cy="3808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esoins en c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3" idx="5"/>
            <a:endCxn id="175" idx="1"/>
          </p:cNvCxnSpPr>
          <p:nvPr/>
        </p:nvCxnSpPr>
        <p:spPr>
          <a:xfrm>
            <a:off x="3090960" y="4951440"/>
            <a:ext cx="1100880" cy="4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228600" y="5410080"/>
            <a:ext cx="33526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trée en stock du compos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5" idx="1"/>
            <a:endCxn id="177" idx="7"/>
          </p:cNvCxnSpPr>
          <p:nvPr/>
        </p:nvCxnSpPr>
        <p:spPr>
          <a:xfrm flipH="1">
            <a:off x="3090600" y="4990680"/>
            <a:ext cx="1100880" cy="531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7" idx="5"/>
            <a:endCxn id="165" idx="1"/>
          </p:cNvCxnSpPr>
          <p:nvPr/>
        </p:nvCxnSpPr>
        <p:spPr>
          <a:xfrm flipV="1">
            <a:off x="3090600" y="6057720"/>
            <a:ext cx="262476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DAC-E904-4CF9-9FF5-2E4E5E55A3C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6599C-602B-4E23-AA65-FB46DFD97E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cc"/>
                </a:solidFill>
                <a:latin typeface="Tahoma"/>
              </a:rPr>
              <a:t>Fin de la session 9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1495080" y="4267080"/>
            <a:ext cx="5942880" cy="14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Passer à la sess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Expédition des commandes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4760" y="1981080"/>
            <a:ext cx="73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Tahoma"/>
              </a:rPr>
              <a:t>Effectuer une sauvegarde sous le nom Picaso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Tahoma"/>
              </a:rPr>
              <a:t>Dupliquer le dossier sous le nom Picaso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677F-B2CB-43E5-9EF7-5AF0D292170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EFABF-2E49-44B1-B560-887E225DB5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cc"/>
                </a:solidFill>
                <a:latin typeface="Tahoma"/>
              </a:rPr>
              <a:t>Analyse de la disponibilité </a:t>
            </a:r>
            <a:br>
              <a:rPr sz="4400"/>
            </a:br>
            <a:r>
              <a:rPr b="0" lang="fr-FR" sz="4400" spc="-1" strike="noStrike">
                <a:solidFill>
                  <a:srgbClr val="0033cc"/>
                </a:solidFill>
                <a:latin typeface="Tahoma"/>
              </a:rPr>
              <a:t>des composants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053000" y="1560600"/>
            <a:ext cx="69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cc"/>
                </a:solidFill>
                <a:latin typeface="Arial"/>
              </a:rPr>
              <a:t>Accès : menu</a:t>
            </a:r>
            <a:r>
              <a:rPr b="0" lang="fr-FR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Ordonnancement</a:t>
            </a:r>
            <a:r>
              <a:rPr b="0" lang="fr-FR" sz="1800" spc="-1" strike="noStrike">
                <a:solidFill>
                  <a:srgbClr val="0033cc"/>
                </a:solidFill>
                <a:latin typeface="Arial"/>
              </a:rPr>
              <a:t>, option</a:t>
            </a:r>
            <a:r>
              <a:rPr b="0" lang="fr-FR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Analyse des manqu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600200" y="1981080"/>
          <a:ext cx="5695920" cy="425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81080"/>
                    <a:ext cx="5695920" cy="42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FE2-A0D8-434D-9B8E-5F15AD848A7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A70ED-0862-40EC-8D79-6A3403A46F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cc"/>
                </a:solidFill>
                <a:latin typeface="Tahoma"/>
              </a:rPr>
              <a:t>Le lancement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OF fermes passent au statut lancé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réation des opérations en c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mission d’une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fiche suiv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servation des composants dans le stock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ssage du statut </a:t>
            </a: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DISP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Disponible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 statut </a:t>
            </a: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REFA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Réservé fabr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quantité à traiter est placée en attente de la première opé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1371600"/>
            <a:ext cx="1905120" cy="6094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F fer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1371600"/>
            <a:ext cx="1905120" cy="60948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F lanc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1523880"/>
            <a:ext cx="1828800" cy="38124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5C40-11D6-441A-A419-95E0F0241A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90FFC-0FB9-47DE-B0C1-0762A5B0CB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933480" y="1523880"/>
          <a:ext cx="6381720" cy="477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1523880"/>
                    <a:ext cx="6381720" cy="47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cc"/>
                </a:solidFill>
                <a:latin typeface="Tahoma"/>
              </a:rPr>
              <a:t>Lancement d’un OF ferme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7543800" y="4114800"/>
            <a:ext cx="1447920" cy="685800"/>
          </a:xfrm>
          <a:prstGeom prst="wedgeRoundRectCallout">
            <a:avLst>
              <a:gd name="adj1" fmla="val -75328"/>
              <a:gd name="adj2" fmla="val -156944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n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ord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5257800"/>
            <a:ext cx="3809880" cy="457200"/>
          </a:xfrm>
          <a:prstGeom prst="wedgeRoundRectCallout">
            <a:avLst>
              <a:gd name="adj1" fmla="val 5249"/>
              <a:gd name="adj2" fmla="val -21215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isponibilité des compos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2120" y="1027080"/>
            <a:ext cx="78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Les ordres fermes sont accessibles à partir du menu Ordonn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E1BF-FD4F-4FC9-947E-62AABAE4746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2766C-BBE6-4344-8053-DA6E51E480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295280" y="1523880"/>
          <a:ext cx="6077160" cy="45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07716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cc"/>
                </a:solidFill>
                <a:latin typeface="Tahoma"/>
              </a:rPr>
              <a:t>L’ordre lancé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4724280"/>
            <a:ext cx="3504960" cy="533520"/>
          </a:xfrm>
          <a:prstGeom prst="wedgeRoundRectCallout">
            <a:avLst>
              <a:gd name="adj1" fmla="val 4893"/>
              <a:gd name="adj2" fmla="val -1279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besoins ont été réserv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1040" y="1027080"/>
            <a:ext cx="64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Les ordres lancés sont accessibles à partir du menu Su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5806-D6B9-498D-9BBA-14629D1A05C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D07B5-5111-498E-83C9-7C58517511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cc"/>
                </a:solidFill>
                <a:latin typeface="Tahoma"/>
              </a:rPr>
              <a:t>Les opérations en cours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143000" y="1219320"/>
          <a:ext cx="6458040" cy="48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645804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CFF-77D9-4960-8B0C-E5ABF3A2C11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0586D-9B80-4146-93C8-E20381A82B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cc"/>
                </a:solidFill>
                <a:latin typeface="Tahoma"/>
              </a:rPr>
              <a:t>Réservation des composants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219320"/>
            <a:ext cx="1524240" cy="10666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OF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artic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Quantité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2286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2743200"/>
            <a:ext cx="16765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Composant 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Quantité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3733920"/>
            <a:ext cx="16765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Composant 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Quantité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1600200"/>
            <a:ext cx="4876920" cy="2971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2895480"/>
            <a:ext cx="1752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-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2895480"/>
            <a:ext cx="17524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+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3581280"/>
            <a:ext cx="1752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-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3581280"/>
            <a:ext cx="17524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+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23760" y="167652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Magasin compos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80280" y="2209680"/>
            <a:ext cx="130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Disponible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(DI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35040" y="2209680"/>
            <a:ext cx="220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Réservé fabrication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(REF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27440" y="289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27440" y="3581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32004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38862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38520" y="220968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tat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68160" y="4800600"/>
            <a:ext cx="54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Le transfert entre statuts se fait dans le magas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spécifié sur la fiche article de chaque compos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4080" y="5670720"/>
            <a:ext cx="711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Les mouvements sur les composants changent de type :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ils passent du type BF (besoin ferme) au type BR (besoin réservé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E377-4536-427B-8BF0-47045B54D5C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DA5B3-2099-4B1D-9E44-0421429BE8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cc"/>
                </a:solidFill>
                <a:latin typeface="Tahoma"/>
              </a:rPr>
              <a:t>Le stock réservé pour les ordres lancés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3880" y="1676520"/>
          <a:ext cx="630576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76520"/>
                    <a:ext cx="630576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1D5B-A097-4BD9-9B27-965CAAFA444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8F4E4-D504-4666-BF23-D5C83598BC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5:40:36Z</dcterms:created>
  <dc:creator>Gérard Baglin</dc:creator>
  <dc:description/>
  <dc:language>en-US</dc:language>
  <cp:lastModifiedBy>Groupe HEC</cp:lastModifiedBy>
  <dcterms:modified xsi:type="dcterms:W3CDTF">2004-12-12T16:51:17Z</dcterms:modified>
  <cp:revision>79</cp:revision>
  <dc:subject/>
  <dc:title>Prélude Production 4</dc:title>
</cp:coreProperties>
</file>