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FAF-A9FA-4D40-835A-FC89DAED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1B3C-EE5A-412E-A33C-BE3699C0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118A-D34C-4BBF-A4E9-970CAF62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107-7FFE-458B-BC63-00AA28E3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04F-AF3D-4B96-A3BA-4DDD022C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CB4-8522-4CE5-9E69-FD432FF0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7788-CBC3-4809-B25B-312E8D2E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46B-BC28-461B-84EA-D789F3AC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6720-053F-4BA7-9D80-7199AED0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5197-D4F1-41CD-91EA-FF227C5A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0FC-E95A-4F92-ACD2-72D9C919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F39E-F2CC-49EA-9EB5-4B4F2CB0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AECD-47DB-4A0A-BCFA-47558227B483}" type="datetime">
              <a:rPr b="0" lang="fr-FR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B6AE-A826-41CE-9863-889B7D53E3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Visite04.ppt" TargetMode="External"/><Relationship Id="rId2" Type="http://schemas.openxmlformats.org/officeDocument/2006/relationships/hyperlink" Target="file:///Visite04.ppt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Prélude ERP 6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Arial"/>
              </a:rPr>
              <a:t>Visite guidée - sess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ga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Les gammes de fabricatio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gamme se com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’une en-tê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’une succession de phase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i décrivent les opérations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1DB1-4C6C-43F4-AB7E-CAEC3B06DF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A9C4F-22DA-458C-B833-DB791D2395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Création des gamme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6478200" y="1833480"/>
            <a:ext cx="263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isir son code,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n libellé 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commen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tio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alider par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peler la fenê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gestion des ph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bouton Pha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8640" y="129528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-tête de g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1752480"/>
          <a:ext cx="6095880" cy="45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609588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E111-4AE2-4F8A-9BFF-E4EB248836D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EA877-758C-42C8-AC0D-21EB98253E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Les temps opératoires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828800"/>
            <a:ext cx="228600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rég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1828800"/>
            <a:ext cx="36576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opér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1828800"/>
            <a:ext cx="2286000" cy="5335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transf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514600"/>
            <a:ext cx="19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fi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indépendant de la quantité fabriqué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2514600"/>
            <a:ext cx="266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oportionnel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à la quantité fabriqu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ut être exprimé en temps par pièce ou en ca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25146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fix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de déplacement à l’opération suiv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3314520" y="1637640"/>
            <a:ext cx="304920" cy="6019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56960 h 6019920"/>
              <a:gd name="textAreaBottom" fmla="*/ 5862960 h 601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3560" y="49528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duisent des charges de trav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r le poste de 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01160" y="5715000"/>
            <a:ext cx="67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Wingdings"/>
                <a:ea typeface="Wingdings"/>
              </a:rPr>
              <a:t></a:t>
            </a:r>
            <a:r>
              <a:rPr b="1" i="1" lang="fr-FR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1800" spc="-1" strike="noStrike">
                <a:solidFill>
                  <a:srgbClr val="009900"/>
                </a:solidFill>
                <a:latin typeface="Arial"/>
              </a:rPr>
              <a:t>Tous les temps s’expriment en heures (avec 4 décim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B40-7DD5-4198-912C-93EAEACAE2B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032C5-BE9D-495C-B699-E90C616766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828800"/>
            <a:ext cx="80010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L’expression du temps opératoir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828800"/>
            <a:ext cx="800100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3623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18288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18288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4280" y="190512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7840" y="1905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Temps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480" y="190512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Quantité du te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9718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5812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920" y="251460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par pièce en he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4560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540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.2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4280" y="312408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dence hor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364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54160" y="3138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0" y="3733920"/>
            <a:ext cx="32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par pièce en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7242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43760" y="3747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30120" y="3747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876920"/>
            <a:ext cx="33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pour une quantité fi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9600" y="4890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94040" y="4876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54100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1911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3920" y="42814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par pièce en secon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9600" y="4281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94040" y="42814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920" y="548640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dence journal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59600" y="5500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4040" y="55008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640" y="1219320"/>
            <a:ext cx="80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Les temps s’expriment en heures avec 4 décimales (dmh, décimillihe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6561-BBBB-4A61-BAFC-9E4082ED7E6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F35E3-AC29-472C-BC0A-019DA883E0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Saisie des phases de gamm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1371600"/>
            <a:ext cx="266040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is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- le numéro de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- le libellé de la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- le poste de 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9520" y="2971800"/>
            <a:ext cx="336276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- le temps de rég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5- le temps machine ...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6- ...pour la quantité indiqu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7- le temps de transf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alider par O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52578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péter pour les phases suivantes jusqu’à la fin de la gamme et revenir à la gam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1660680"/>
          <a:ext cx="541008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60680"/>
                    <a:ext cx="541008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2D2-2A01-404A-AF4A-8434C36CECA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5E72B-7CDF-4300-B76E-DB2C90B60F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04920" y="1066680"/>
          <a:ext cx="7086600" cy="52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7086600" cy="52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Visualisation de la gamm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4343400"/>
            <a:ext cx="3581640" cy="838080"/>
          </a:xfrm>
          <a:prstGeom prst="wedgeRoundRectCallout">
            <a:avLst>
              <a:gd name="adj1" fmla="val -93750"/>
              <a:gd name="adj2" fmla="val -10435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n retrouve la succes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s phases que l’on a sais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1905120"/>
            <a:ext cx="1523880" cy="1295280"/>
          </a:xfrm>
          <a:prstGeom prst="wedgeRoundRectCallout">
            <a:avLst>
              <a:gd name="adj1" fmla="val -154166"/>
              <a:gd name="adj2" fmla="val 981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umuls des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pour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semble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s ph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EC8E-0669-43A8-9B5B-971BE8DF36A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FC90F-FBFD-4234-A358-249060BBCF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L’accumulation des temps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143000" y="1981080"/>
            <a:ext cx="2590560" cy="304920"/>
            <a:chOff x="1143000" y="1981080"/>
            <a:chExt cx="2590560" cy="304920"/>
          </a:xfrm>
        </p:grpSpPr>
        <p:sp>
          <p:nvSpPr>
            <p:cNvPr id="143" name=""/>
            <p:cNvSpPr/>
            <p:nvPr/>
          </p:nvSpPr>
          <p:spPr>
            <a:xfrm>
              <a:off x="1143000" y="1981080"/>
              <a:ext cx="7063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Régl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73080" y="1981080"/>
              <a:ext cx="113040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mps opératoi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27240" y="1981080"/>
              <a:ext cx="706320" cy="304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Transfe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37880" y="19414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h. 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733920" y="2590920"/>
            <a:ext cx="2590560" cy="304560"/>
            <a:chOff x="3733920" y="2590920"/>
            <a:chExt cx="2590560" cy="304560"/>
          </a:xfrm>
        </p:grpSpPr>
        <p:sp>
          <p:nvSpPr>
            <p:cNvPr id="148" name=""/>
            <p:cNvSpPr/>
            <p:nvPr/>
          </p:nvSpPr>
          <p:spPr>
            <a:xfrm>
              <a:off x="3733920" y="2590920"/>
              <a:ext cx="7063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Régl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64000" y="2590920"/>
              <a:ext cx="113040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mps opératoi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18160" y="2590920"/>
              <a:ext cx="706320" cy="304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Transfe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324480" y="3276720"/>
            <a:ext cx="2590560" cy="304560"/>
            <a:chOff x="6324480" y="3276720"/>
            <a:chExt cx="2590560" cy="304560"/>
          </a:xfrm>
        </p:grpSpPr>
        <p:sp>
          <p:nvSpPr>
            <p:cNvPr id="152" name=""/>
            <p:cNvSpPr/>
            <p:nvPr/>
          </p:nvSpPr>
          <p:spPr>
            <a:xfrm>
              <a:off x="6324480" y="3276720"/>
              <a:ext cx="7063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Régl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54560" y="3276720"/>
              <a:ext cx="113040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mps opératoi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08720" y="3276720"/>
              <a:ext cx="706320" cy="304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Transfe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744640" y="25909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h. 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51400" y="32400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h. 0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05680" y="419112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total de fabr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un 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6600" y="1676520"/>
            <a:ext cx="19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Poste de charg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7520" y="2254320"/>
            <a:ext cx="19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Poste de charg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8080" y="2940120"/>
            <a:ext cx="19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Poste de charg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13716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1600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20574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915400" y="2743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447920" y="5410080"/>
            <a:ext cx="6324480" cy="304920"/>
            <a:chOff x="1447920" y="5410080"/>
            <a:chExt cx="6324480" cy="304920"/>
          </a:xfrm>
        </p:grpSpPr>
        <p:sp>
          <p:nvSpPr>
            <p:cNvPr id="167" name=""/>
            <p:cNvSpPr/>
            <p:nvPr/>
          </p:nvSpPr>
          <p:spPr>
            <a:xfrm>
              <a:off x="1447920" y="5410080"/>
              <a:ext cx="17247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Régl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30280" y="5410080"/>
              <a:ext cx="275940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emps opérato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47640" y="5410080"/>
              <a:ext cx="1724760" cy="304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Transfe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472760" y="5715000"/>
            <a:ext cx="173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dépendant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 taille du 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35400" y="5715000"/>
            <a:ext cx="173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dépendant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 taille du 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47960" y="5715000"/>
            <a:ext cx="173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portionnel 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 taille du 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5257800"/>
            <a:ext cx="7086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B787-3104-4B5A-A261-05A42A7AB3B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12B72-F0C3-453D-8BB4-8577BD4BB6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Rattachement des gammes</a:t>
            </a:r>
            <a:br>
              <a:rPr sz="4000"/>
            </a:b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aux articles fabriqué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aque article fabriqué doit avoir (au moins) une gamme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doit sélectionner la </a:t>
            </a:r>
            <a:r>
              <a:rPr b="0" lang="fr-FR" sz="2800" spc="-1" strike="noStrike">
                <a:solidFill>
                  <a:srgbClr val="009900"/>
                </a:solidFill>
                <a:latin typeface="Arial"/>
              </a:rPr>
              <a:t>gamme de l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usieurs articles peuvent partager la même g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134-71A2-4C54-BA81-D8D6D31CF77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48EE3-5960-46B4-B411-FA919F97ED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Lien Article - Gamm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2743200"/>
            <a:ext cx="221004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9000" y="3657600"/>
            <a:ext cx="1447920" cy="838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h. 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3962520"/>
            <a:ext cx="1447920" cy="838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h.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4267080"/>
            <a:ext cx="1447920" cy="83844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h.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4572000"/>
            <a:ext cx="1447920" cy="838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h.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1219320"/>
            <a:ext cx="2210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rticle fabriqu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4495680"/>
            <a:ext cx="685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86800" y="1522800"/>
            <a:ext cx="239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article fabriqu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st nécessa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é à une g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fabr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2438280"/>
            <a:ext cx="3200400" cy="34290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95040" y="4649400"/>
            <a:ext cx="364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phases sont numérotées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10 en 10 à la création de la gamme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ur permettre l’insertion ultérieure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nouvelles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1721-F1CF-4CE0-A974-9E7AF227A3F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1476E-A2C4-4A3B-AD45-EA4DD95F7D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Partage d’une gamm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3200400"/>
            <a:ext cx="22096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5320" y="4114800"/>
            <a:ext cx="1447560" cy="838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h. 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4419720"/>
            <a:ext cx="1447560" cy="838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h.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120" y="4724280"/>
            <a:ext cx="1447560" cy="83844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h.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5029200"/>
            <a:ext cx="1447560" cy="838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h.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600200"/>
            <a:ext cx="220968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rticle X rou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236232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572000" y="4952880"/>
            <a:ext cx="685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895480"/>
            <a:ext cx="3200400" cy="34290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1600200"/>
            <a:ext cx="220968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rticle X v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809880" y="24382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3657600"/>
            <a:ext cx="278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ême process de fabr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mais nomenclatures différen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A9ED-8E55-4AD6-9A5F-C28C3E83FC0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95F4A-A749-4847-8C26-B39FE30134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Description d’un proces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gammes de fabrication décrivent le </a:t>
            </a:r>
            <a:r>
              <a:rPr b="0" lang="fr-FR" sz="3200" spc="-1" strike="noStrike">
                <a:solidFill>
                  <a:srgbClr val="009900"/>
                </a:solidFill>
                <a:latin typeface="Arial"/>
              </a:rPr>
              <a:t>proces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’élaboration d’un produit fabriqué à partir de ses composants dir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e process comprend souvent plusieurs étapes (ou </a:t>
            </a:r>
            <a:r>
              <a:rPr b="0" lang="fr-FR" sz="3200" spc="-1" strike="noStrike">
                <a:solidFill>
                  <a:srgbClr val="009900"/>
                </a:solidFill>
                <a:latin typeface="Arial"/>
              </a:rPr>
              <a:t>phas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chaque phase, on ind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r quel moyen de production elle se déro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temps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BFA-3855-4143-8D6D-AD588E685E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41F47-EC4F-4A2F-A019-BDF5E67804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304920" y="1662120"/>
          <a:ext cx="6324480" cy="47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62120"/>
                    <a:ext cx="632448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Rattachement des gammes aux articles fabriqué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2209680"/>
            <a:ext cx="2133720" cy="762120"/>
          </a:xfrm>
          <a:prstGeom prst="wedgeRoundRectCallout">
            <a:avLst>
              <a:gd name="adj1" fmla="val -120759"/>
              <a:gd name="adj2" fmla="val 5687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- activer l’ong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am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3657600"/>
            <a:ext cx="1905120" cy="685800"/>
          </a:xfrm>
          <a:prstGeom prst="wedgeRoundRectCallout">
            <a:avLst>
              <a:gd name="adj1" fmla="val -166000"/>
              <a:gd name="adj2" fmla="val -8865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- cliquer s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jouter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6ED-B032-4F3D-B12A-74176BA5B4B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2016B-9957-4C35-9E68-2B944F6D94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04920" y="1662120"/>
          <a:ext cx="6324480" cy="47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62120"/>
                    <a:ext cx="632448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Rattachement des gammes aux articles fabriqué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7543800" y="1981080"/>
            <a:ext cx="1219320" cy="609840"/>
          </a:xfrm>
          <a:prstGeom prst="wedgeRoundRectCallout">
            <a:avLst>
              <a:gd name="adj1" fmla="val -135546"/>
              <a:gd name="adj2" fmla="val -4270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 - val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05120" y="2209680"/>
            <a:ext cx="6858000" cy="3303720"/>
            <a:chOff x="1905120" y="2209680"/>
            <a:chExt cx="6858000" cy="3303720"/>
          </a:xfrm>
        </p:grpSpPr>
        <p:graphicFrame>
          <p:nvGraphicFramePr>
            <p:cNvPr id="211" name=""/>
            <p:cNvGraphicFramePr/>
            <p:nvPr/>
          </p:nvGraphicFramePr>
          <p:xfrm>
            <a:off x="1905120" y="2209680"/>
            <a:ext cx="4549680" cy="330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2209680"/>
                      <a:ext cx="4549680" cy="33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3" name=""/>
            <p:cNvSpPr/>
            <p:nvPr/>
          </p:nvSpPr>
          <p:spPr>
            <a:xfrm>
              <a:off x="6477120" y="4267080"/>
              <a:ext cx="2286000" cy="1219320"/>
            </a:xfrm>
            <a:prstGeom prst="wedgeRoundRectCallout">
              <a:avLst>
                <a:gd name="adj1" fmla="val -96111"/>
                <a:gd name="adj2" fmla="val -165236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3 - sélectionn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la gamme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l’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88F-6772-4DA5-B7B5-6C91F652D93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27AB5-2B6F-4EB7-80C8-8E1D165AAA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52600" y="1378080"/>
          <a:ext cx="676260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378080"/>
                    <a:ext cx="67626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Rattachement des gammes aux articles fabriqué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4114800"/>
            <a:ext cx="3048120" cy="685800"/>
          </a:xfrm>
          <a:prstGeom prst="wedgeRoundRectCallout">
            <a:avLst>
              <a:gd name="adj1" fmla="val -71925"/>
              <a:gd name="adj2" fmla="val -5347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gamme sélectionn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paraît dans la li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2590920"/>
            <a:ext cx="1600200" cy="685800"/>
          </a:xfrm>
          <a:prstGeom prst="wedgeRoundRectCallout">
            <a:avLst>
              <a:gd name="adj1" fmla="val -96430"/>
              <a:gd name="adj2" fmla="val 5879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5 - cliquer s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43800" y="1752480"/>
            <a:ext cx="1219320" cy="609840"/>
          </a:xfrm>
          <a:prstGeom prst="wedgeRoundRectCallout">
            <a:avLst>
              <a:gd name="adj1" fmla="val -87759"/>
              <a:gd name="adj2" fmla="val -52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6 - val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8FD-ED31-48B8-91B8-971B22DF104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BBD7F-9635-4C0B-9904-C6D22F6693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Graphe des ressources utilisées </a:t>
            </a:r>
            <a:br>
              <a:rPr sz="4400"/>
            </a:b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par la fabrication d’un articl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221120" y="1523880"/>
            <a:ext cx="71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ccès : fenêtre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Gestion des nomenclatur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bouton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Res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905120" y="2057400"/>
          <a:ext cx="569592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057400"/>
                    <a:ext cx="569592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40E-AEB2-4134-B419-ECC7C836ECB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52FFE-C910-4C19-9723-C37D1625F8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Fin de la session 3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2311560" y="4267080"/>
            <a:ext cx="426816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Passer à la sess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Saisie des stocks initi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4760" y="1981080"/>
            <a:ext cx="73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Tahoma"/>
              </a:rPr>
              <a:t>Effectuer une sauvegarde sous le nom Picaso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Tahoma"/>
              </a:rPr>
              <a:t>Dupliquer le dossier sous le nom Picaso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60D-9491-4D46-B8B7-C4BA7D1DEA2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1CD10-40F8-4975-9089-9E7B6DCFFD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Gammes - Définitio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3657600"/>
            <a:ext cx="6248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3352680"/>
            <a:ext cx="1218960" cy="5335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h. 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3352680"/>
            <a:ext cx="1219320" cy="5335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h. 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3352680"/>
            <a:ext cx="1219320" cy="5335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h. 0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3352680"/>
            <a:ext cx="1218960" cy="5335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h. 0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72400" y="33526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duit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abriqu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981080"/>
            <a:ext cx="11430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895480"/>
            <a:ext cx="11430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3809880"/>
            <a:ext cx="1143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52320" y="2589840"/>
            <a:ext cx="70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amme de fabrication : étapes du process de fabr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8680" y="5485320"/>
            <a:ext cx="274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tières, composa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ièces fabriqu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 sous-ensem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648320"/>
            <a:ext cx="1143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 /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1981080"/>
            <a:ext cx="75960" cy="3276720"/>
          </a:xfrm>
          <a:custGeom>
            <a:avLst/>
            <a:gdLst>
              <a:gd name="textAreaLeft" fmla="*/ 0 w 75960"/>
              <a:gd name="textAreaRight" fmla="*/ 53280 w 75960"/>
              <a:gd name="textAreaTop" fmla="*/ 136440 h 3276720"/>
              <a:gd name="textAreaBottom" fmla="*/ 314028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043-3D95-4F58-8E67-C481D09897B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E3F3D-6016-4A9C-8088-E979823B41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Utilisations des gamme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alcul des charges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ivi d’avancement de la fabr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esure d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alcul des coûts de rev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4F9D-6D7C-4EC5-8EAE-98D03AD86C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9A93E-E189-4C1E-BB4B-39F1DE5CB8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Processus de création des gamme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2057400"/>
            <a:ext cx="449604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réation des postes de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3505320"/>
            <a:ext cx="335268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réation des g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27432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41911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4952880"/>
            <a:ext cx="4495680" cy="10670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attachement d’une gamm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à chaque article fabriqu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25EE-6BC9-488C-B86B-8BCC0F3C798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6F736-B6CD-4293-BAD9-AB818A6452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Les postes de charg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poste de charge, c’es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regroupement de machines ou postes de travail homogè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machine particu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lusieurs machines iden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poste de montage man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ligne d’assemb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a capacité de production est définie via le calendrier applicable au po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E642-D698-4398-8C60-81D0B09512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49DBB-9864-4EE7-9B50-B726E583E7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Les types de poste de charg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apacité finie (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orte une ou plusieurs machines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(dont on peut décrire les caractéristiq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stes de travail multiples 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e sont pas décrits individuel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indique le nombre de postes de travai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la zone « Coefficient de capacité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apacité infinie 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ste dont on ne suit pas les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25920" y="5715000"/>
            <a:ext cx="589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9900"/>
                </a:solidFill>
                <a:latin typeface="Arial"/>
              </a:rPr>
              <a:t>Le type d’un poste n’est pas modi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0F3-5202-4FC3-BB32-14D13C6941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98F91-EE7E-476E-BD80-998CB95A79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Saisie d’un poste de charg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5940360" y="1681200"/>
            <a:ext cx="3067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ais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- le code du po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 - son libel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 - son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lider par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les postes de type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aisie op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28600" y="1565280"/>
          <a:ext cx="5715000" cy="42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65280"/>
                    <a:ext cx="571500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7EB-C93E-4D23-9959-22D1863BF95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30392-FD69-416D-8E52-C71AEE0F35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Saisie des machine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6404400" y="2063880"/>
            <a:ext cx="226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isir son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son libel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alider par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1371600"/>
          <a:ext cx="592452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592452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69F1-5640-4886-9681-EEC433CB53B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587B4-7593-407C-9920-A903C56935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5:40:36Z</dcterms:created>
  <dc:creator>Gérard Baglin</dc:creator>
  <dc:description/>
  <dc:language>en-US</dc:language>
  <cp:lastModifiedBy>Groupe HEC</cp:lastModifiedBy>
  <dcterms:modified xsi:type="dcterms:W3CDTF">2005-09-22T05:42:09Z</dcterms:modified>
  <cp:revision>51</cp:revision>
  <dc:subject/>
  <dc:title>Prélude Production 4</dc:title>
</cp:coreProperties>
</file>