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A72-51BB-4A5A-A23A-3D475CFBE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gamme décrit le processus pour passer d’un niveau de la nomenclature au niveau supéri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gestion sur stock de type “mini-maxi” est très peu utilsée sauf pour les articles de faible valeur comme les consomm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 : film étirables, huile de coupe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cédure de planification se déroulera en deux phas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iveau MPS (produits fi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alidation manuelle des ordres propo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iveau MRP (tous les autres 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alidation manuelle des ordres propo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6DA-E2EF-4CD6-8CB9-377546EA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288-AE2E-47AA-9DD3-15969D1E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061-EFB4-4C7A-9BFD-7FD5B04E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46C-4F7E-42D0-9925-4FCF1026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879-83BD-4D97-A598-E96A8A8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B23-2273-4152-94B9-FDEFB69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6B1-B6DA-4BAF-80FE-3347572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7B2-E68D-429C-BF87-02B8D1DA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0F0-1C14-4F24-9BA6-A305F12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9CD-7B5D-4498-954D-6EDCD772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5CA-436A-4C28-BCC6-FED28B1A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878-5B0C-4680-90B0-414FE3C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1FCD-779D-4D6D-A698-3C21C5B491D3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43B-9350-4C9D-9EF4-3A3070FE2B8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Visite07.ppt" TargetMode="External"/><Relationship Id="rId2" Type="http://schemas.openxmlformats.org/officeDocument/2006/relationships/hyperlink" Target="file:///Visite07.ppt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Prélude ERP 6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La pla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52600" y="1776240"/>
          <a:ext cx="6229080" cy="465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776240"/>
                    <a:ext cx="6229080" cy="46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s modes de gestion des articl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1574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Pour tous les articles, activer l’onglet 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514600"/>
            <a:ext cx="2362320" cy="762120"/>
          </a:xfrm>
          <a:prstGeom prst="wedgeRoundRectCallout">
            <a:avLst>
              <a:gd name="adj1" fmla="val -152152"/>
              <a:gd name="adj2" fmla="val 6562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 - Sélectionner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e de 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429000"/>
            <a:ext cx="2362320" cy="990720"/>
          </a:xfrm>
          <a:prstGeom prst="wedgeRoundRectCallout">
            <a:avLst>
              <a:gd name="adj1" fmla="val -139851"/>
              <a:gd name="adj2" fmla="val -217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- Sélectionne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ègl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grou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572000"/>
            <a:ext cx="3429000" cy="380880"/>
          </a:xfrm>
          <a:prstGeom prst="wedgeRoundRectCallout">
            <a:avLst>
              <a:gd name="adj1" fmla="val -77685"/>
              <a:gd name="adj2" fmla="val -2075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 Indiquer le délai d’ob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FBD-63BC-4920-9E95-C560D4C047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4DFFA-D53F-4B77-8A6B-E8C6CFA9A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a représentation des processus </a:t>
            </a:r>
            <a:br>
              <a:rPr sz="4000"/>
            </a:b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de fabrication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792680" y="2209680"/>
            <a:ext cx="160488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-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920" y="2176560"/>
            <a:ext cx="990720" cy="506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t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120" y="3406680"/>
            <a:ext cx="990720" cy="50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t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765520"/>
            <a:ext cx="1284120" cy="447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8200" y="3830760"/>
            <a:ext cx="1363320" cy="512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3178080"/>
            <a:ext cx="1066680" cy="620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duit f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92680" y="3265560"/>
            <a:ext cx="160488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-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92680" y="4343400"/>
            <a:ext cx="160488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-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29560" y="3376080"/>
            <a:ext cx="914400" cy="304920"/>
            <a:chOff x="6829560" y="3376080"/>
            <a:chExt cx="914400" cy="304920"/>
          </a:xfrm>
        </p:grpSpPr>
        <p:sp>
          <p:nvSpPr>
            <p:cNvPr id="145" name=""/>
            <p:cNvSpPr/>
            <p:nvPr/>
          </p:nvSpPr>
          <p:spPr>
            <a:xfrm rot="16200000">
              <a:off x="7439040" y="33760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7134120" y="3376080"/>
              <a:ext cx="30492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6829560" y="33760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7134120" y="3071160"/>
              <a:ext cx="304920" cy="9144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914400"/>
                <a:gd name="textAreaBottom" fmla="*/ 899640 h 914400"/>
              </a:gdLst>
              <a:ahLst/>
              <a:rect l="textAreaLeft" t="textAreaTop" r="textAreaRight" b="textAreaBottom"/>
              <a:pathLst>
                <a:path w="21600" h="64724">
                  <a:moveTo>
                    <a:pt x="3600" y="0"/>
                  </a:moveTo>
                  <a:arcTo wR="3600" hR="3600" stAng="16200000" swAng="-5400000"/>
                  <a:lnTo>
                    <a:pt x="0" y="61124"/>
                  </a:lnTo>
                  <a:arcTo wR="3600" hR="3600" stAng="10800000" swAng="-5400000"/>
                  <a:lnTo>
                    <a:pt x="18000" y="64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62280" y="3390480"/>
            <a:ext cx="914400" cy="304920"/>
            <a:chOff x="3662280" y="3390480"/>
            <a:chExt cx="914400" cy="304920"/>
          </a:xfrm>
        </p:grpSpPr>
        <p:sp>
          <p:nvSpPr>
            <p:cNvPr id="150" name=""/>
            <p:cNvSpPr/>
            <p:nvPr/>
          </p:nvSpPr>
          <p:spPr>
            <a:xfrm rot="16200000">
              <a:off x="4271760" y="33904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966840" y="3390480"/>
              <a:ext cx="30492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662280" y="33904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966840" y="3085560"/>
              <a:ext cx="304920" cy="9144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914400"/>
                <a:gd name="textAreaBottom" fmla="*/ 899640 h 914400"/>
              </a:gdLst>
              <a:ahLst/>
              <a:rect l="textAreaLeft" t="textAreaTop" r="textAreaRight" b="textAreaBottom"/>
              <a:pathLst>
                <a:path w="21600" h="64724">
                  <a:moveTo>
                    <a:pt x="3600" y="0"/>
                  </a:moveTo>
                  <a:arcTo wR="3600" hR="3600" stAng="16200000" swAng="-5400000"/>
                  <a:lnTo>
                    <a:pt x="0" y="61124"/>
                  </a:lnTo>
                  <a:arcTo wR="3600" hR="3600" stAng="10800000" swAng="-5400000"/>
                  <a:lnTo>
                    <a:pt x="18000" y="64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63800" y="2868120"/>
            <a:ext cx="914400" cy="304920"/>
            <a:chOff x="1063800" y="2868120"/>
            <a:chExt cx="914400" cy="304920"/>
          </a:xfrm>
        </p:grpSpPr>
        <p:sp>
          <p:nvSpPr>
            <p:cNvPr id="155" name=""/>
            <p:cNvSpPr/>
            <p:nvPr/>
          </p:nvSpPr>
          <p:spPr>
            <a:xfrm rot="16200000">
              <a:off x="1673280" y="286812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368360" y="2868120"/>
              <a:ext cx="30492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1063800" y="286812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1368360" y="2563200"/>
              <a:ext cx="304920" cy="9144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914400"/>
                <a:gd name="textAreaBottom" fmla="*/ 899640 h 914400"/>
              </a:gdLst>
              <a:ahLst/>
              <a:rect l="textAreaLeft" t="textAreaTop" r="textAreaRight" b="textAreaBottom"/>
              <a:pathLst>
                <a:path w="21600" h="64724">
                  <a:moveTo>
                    <a:pt x="3600" y="0"/>
                  </a:moveTo>
                  <a:arcTo wR="3600" hR="3600" stAng="16200000" swAng="-5400000"/>
                  <a:lnTo>
                    <a:pt x="0" y="61124"/>
                  </a:lnTo>
                  <a:arcTo wR="3600" hR="3600" stAng="10800000" swAng="-5400000"/>
                  <a:lnTo>
                    <a:pt x="18000" y="64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624720" y="2438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94320" y="24368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720" y="349740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4760" y="355140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24560" y="4643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7400" y="29257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535200"/>
            <a:ext cx="141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4760" y="2933640"/>
            <a:ext cx="1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4760" y="40989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9920" y="355140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5120" y="26812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5120" y="2951280"/>
            <a:ext cx="326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0360" y="3040200"/>
            <a:ext cx="324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880" y="3051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303516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4960" y="5456520"/>
            <a:ext cx="126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G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400880" y="370152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0920" y="5409000"/>
            <a:ext cx="126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G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1400" y="5409000"/>
            <a:ext cx="126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G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3200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911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67E-EABF-4924-A69F-9ECC7A3EF5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A80D5-759D-4625-8B18-4D1C053F03EB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s étapes de la planification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952720" y="1676520"/>
            <a:ext cx="2990880" cy="385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757600"/>
            <a:ext cx="2990880" cy="3855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sug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080" y="20574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rticles fabriqu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2720" y="222408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lcul des besoins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29076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rm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824280"/>
            <a:ext cx="2990880" cy="38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3434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4876920"/>
            <a:ext cx="2990880" cy="385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lanc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743200"/>
            <a:ext cx="2990880" cy="385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 sug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80360" y="2057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rticles ache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3276720"/>
            <a:ext cx="2990880" cy="385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rm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3809880"/>
            <a:ext cx="2990880" cy="38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43434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ssation 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4876920"/>
            <a:ext cx="2990880" cy="385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s fourn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304560" cy="106668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3049560"/>
            <a:ext cx="304560" cy="106524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5240"/>
              <a:gd name="textAreaBottom" fmla="*/ 77256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4114800"/>
            <a:ext cx="304560" cy="106668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54054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5938920"/>
            <a:ext cx="2990880" cy="385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c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5405400"/>
            <a:ext cx="2990880" cy="385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5938920"/>
            <a:ext cx="2990880" cy="385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s sold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181480"/>
            <a:ext cx="304560" cy="106704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4116240"/>
            <a:ext cx="304560" cy="106524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5240"/>
              <a:gd name="textAreaBottom" fmla="*/ 77256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5183280"/>
            <a:ext cx="304560" cy="106524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5240"/>
              <a:gd name="textAreaBottom" fmla="*/ 77256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B0B-F58F-4A17-8BE4-6780853F91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8CADA-F313-4D00-91EA-E882E30716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s statuts successifs d’un OF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00200"/>
            <a:ext cx="190476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suggér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2819520"/>
            <a:ext cx="19051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f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038480"/>
            <a:ext cx="1904760" cy="6098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lanc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334120"/>
            <a:ext cx="190512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c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449200">
            <a:off x="1981080" y="22860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449200">
            <a:off x="3885840" y="3505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449200">
            <a:off x="5867280" y="47242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237-4646-42C8-987C-5D1BC2CD0F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74414-F0DF-403B-8A8A-142D2C661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s statuts d’OF selon les horizon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04812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590920"/>
            <a:ext cx="2514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suggé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590920"/>
            <a:ext cx="19051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fe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590920"/>
            <a:ext cx="121932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lanc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590920"/>
            <a:ext cx="1904760" cy="457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F c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5800" y="3809880"/>
            <a:ext cx="135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lim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calcu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bes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1040" y="3809880"/>
            <a:ext cx="19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lim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 ’afferm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4720" y="3809880"/>
            <a:ext cx="147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lim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07320" y="17208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u j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6640" y="31845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B05-5CD7-4CD9-B7FB-746B2F3594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445B-ECBE-46FA-ABF1-2B71526552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Un calendrier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5318280"/>
            <a:ext cx="8001000" cy="533160"/>
            <a:chOff x="533520" y="5318280"/>
            <a:chExt cx="8001000" cy="533160"/>
          </a:xfrm>
        </p:grpSpPr>
        <p:sp>
          <p:nvSpPr>
            <p:cNvPr id="230" name=""/>
            <p:cNvSpPr/>
            <p:nvPr/>
          </p:nvSpPr>
          <p:spPr>
            <a:xfrm>
              <a:off x="53352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1440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5318280"/>
              <a:ext cx="381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52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740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8280" y="5318280"/>
              <a:ext cx="38124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520" y="5318280"/>
              <a:ext cx="38088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81280" y="5318280"/>
              <a:ext cx="381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5318280"/>
              <a:ext cx="381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318280"/>
              <a:ext cx="38088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5318280"/>
              <a:ext cx="38088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67280" y="5318280"/>
              <a:ext cx="381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852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10280" y="5318280"/>
              <a:ext cx="381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318280"/>
              <a:ext cx="380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5318280"/>
              <a:ext cx="38088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53280" y="5318280"/>
              <a:ext cx="38124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calendrier standard définit les </a:t>
            </a: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jours travai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décalages de besoin sont calculés sur les jours travai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 existe un besoin sur l’article A dont le délai d’obtention est de 6 jours pour le mercredi de la semain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date de lancement sera déterminée en reculant sur le calendrier du nombre de jours du délai d’ob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4600" y="5911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1480" y="5911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8720" y="5911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95320" y="4952880"/>
            <a:ext cx="30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956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7640" y="49370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6 j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920" y="4464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Bes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5040" y="44640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La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A51-47DC-4509-A7B7-F3A53B7D5D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4E180-3743-462B-A854-1B4A3B8EED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04920" y="1066680"/>
          <a:ext cx="647676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47676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 calcul des besoins net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60958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Les articles sont traités par niveau croiss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1600200"/>
            <a:ext cx="2133360" cy="1371600"/>
          </a:xfrm>
          <a:prstGeom prst="wedgeRoundRectCallout">
            <a:avLst>
              <a:gd name="adj1" fmla="val -151486"/>
              <a:gd name="adj2" fmla="val -129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 indique une dat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limite pour éviter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générer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ordres pour des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mandes lointa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FF5-9CAD-4987-81E9-B54FFDE85B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09448-E993-4835-9651-D1EAAAAB6E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iste des OF suggéré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1219320"/>
          <a:ext cx="668664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68664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802-33E6-4010-B15C-47187CF662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81A43-BD5A-42DC-84F0-B19E3B0C33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Un OF suggéré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066680" y="990720"/>
          <a:ext cx="676296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676296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BE5-BFE1-4F31-B06A-0961318DD1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DA7C9-2944-416B-8DF5-D6062FC2EF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s programmes directeur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58360" y="6140520"/>
            <a:ext cx="65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ordres suggérés apparaissent sur les programmes direc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371600" y="1066680"/>
          <a:ext cx="670572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70572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482-AB27-40A3-89FC-1BDF3617A8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5DACF-4D78-483C-969F-594B51B38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Objectifs de la planific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norer les commandes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ser les commandes aux fourn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en utiliser les capacités d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un niveau de stock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r un programme de travail aux ate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B4C-4797-44B4-B614-2CE6E8969E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32F95-6708-448E-91A2-5C9EF4C958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 jalonnement et l’analyse des charg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acement des OF à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capacité inf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dépendamment les uns des autres et sans tenir compte du nombre de machines disponibles sur le poste d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place les opérations selon les temps déterminés à partir des gammes de fabrication sur les plages de travail (calendr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au plus tô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en partant de la date de lan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au plus tar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en partant de la date de beso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umule les charges de travail sur chaque plage hor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742-36BF-4725-83FF-CA21DD0626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1BB2E-506B-44C5-8349-9F2A4CC042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a constitution du planning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152388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partir du calendrier, détermination des plages horaires de travail pour chaque poste d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2438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27432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3733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24382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s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7440" y="34290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s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2200" y="28638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4116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6048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9440" y="28638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8040" y="2863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3FA-6F26-4C45-A3A2-3E6952D519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C799D-88F2-4A1A-A09C-54ACFBFE5C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Jalonnement d’un OF</a:t>
            </a:r>
            <a:br>
              <a:rPr sz="4000"/>
            </a:b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Exemple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te de lancement :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te de besoin :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vendredi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doit donc être terminé le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jeudi soir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ération 010 sur poste 1, durée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10 heur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mps de réglage + temps opératoire)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+ 3 heures de trans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ération 020 sur poste 2, durée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12 heur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mps de réglage + temps opératoire)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+ 3 heures de trans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31E-7F2D-4A6D-A461-6B7FADAB98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DB94C-7B0E-44E1-BC7A-D82CA6E660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 jalonnement au plus tôt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27432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733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7440" y="24382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os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7440" y="34290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os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22200" y="28638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116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6048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9440" y="28638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8040" y="2863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4267080"/>
            <a:ext cx="83844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267080"/>
            <a:ext cx="3808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8280" y="425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Op. 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2096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37080" y="16002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22096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77840" y="161604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es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23880" y="4267080"/>
            <a:ext cx="1447920" cy="762840"/>
            <a:chOff x="1523880" y="4267080"/>
            <a:chExt cx="1447920" cy="762840"/>
          </a:xfrm>
        </p:grpSpPr>
        <p:sp>
          <p:nvSpPr>
            <p:cNvPr id="334" name=""/>
            <p:cNvSpPr/>
            <p:nvPr/>
          </p:nvSpPr>
          <p:spPr>
            <a:xfrm>
              <a:off x="2743200" y="4267080"/>
              <a:ext cx="228600" cy="304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2880" y="46926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3880" y="4724280"/>
              <a:ext cx="144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97280" y="4267080"/>
            <a:ext cx="416880" cy="718560"/>
            <a:chOff x="2897280" y="4267080"/>
            <a:chExt cx="416880" cy="718560"/>
          </a:xfrm>
        </p:grpSpPr>
        <p:sp>
          <p:nvSpPr>
            <p:cNvPr id="338" name=""/>
            <p:cNvSpPr/>
            <p:nvPr/>
          </p:nvSpPr>
          <p:spPr>
            <a:xfrm>
              <a:off x="2971800" y="4267080"/>
              <a:ext cx="30492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7280" y="46483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295960" y="4876920"/>
            <a:ext cx="416880" cy="686520"/>
            <a:chOff x="5295960" y="4876920"/>
            <a:chExt cx="416880" cy="686520"/>
          </a:xfrm>
        </p:grpSpPr>
        <p:sp>
          <p:nvSpPr>
            <p:cNvPr id="341" name=""/>
            <p:cNvSpPr/>
            <p:nvPr/>
          </p:nvSpPr>
          <p:spPr>
            <a:xfrm>
              <a:off x="5334120" y="4876920"/>
              <a:ext cx="304560" cy="304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5960" y="52261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84480" y="4844880"/>
            <a:ext cx="4949640" cy="794520"/>
            <a:chOff x="384480" y="4844880"/>
            <a:chExt cx="4949640" cy="794520"/>
          </a:xfrm>
        </p:grpSpPr>
        <p:sp>
          <p:nvSpPr>
            <p:cNvPr id="344" name=""/>
            <p:cNvSpPr/>
            <p:nvPr/>
          </p:nvSpPr>
          <p:spPr>
            <a:xfrm>
              <a:off x="384480" y="4844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Op. 0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876920"/>
              <a:ext cx="304560" cy="3045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4876920"/>
              <a:ext cx="38124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2520" y="4876920"/>
              <a:ext cx="838080" cy="3045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00600" y="4876920"/>
              <a:ext cx="38088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81480" y="4876920"/>
              <a:ext cx="152640" cy="3045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76720" y="53341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2920" y="53020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2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74320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33520" y="5181480"/>
            <a:ext cx="1215360" cy="1190520"/>
            <a:chOff x="5033520" y="5181480"/>
            <a:chExt cx="1215360" cy="1190520"/>
          </a:xfrm>
        </p:grpSpPr>
        <p:sp>
          <p:nvSpPr>
            <p:cNvPr id="358" name=""/>
            <p:cNvSpPr/>
            <p:nvPr/>
          </p:nvSpPr>
          <p:spPr>
            <a:xfrm>
              <a:off x="56386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33520" y="57913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ate de f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u plus tô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638680" y="4876920"/>
            <a:ext cx="2629800" cy="1083240"/>
            <a:chOff x="5638680" y="4876920"/>
            <a:chExt cx="2629800" cy="1083240"/>
          </a:xfrm>
        </p:grpSpPr>
        <p:sp>
          <p:nvSpPr>
            <p:cNvPr id="361" name=""/>
            <p:cNvSpPr/>
            <p:nvPr/>
          </p:nvSpPr>
          <p:spPr>
            <a:xfrm>
              <a:off x="5638680" y="4876920"/>
              <a:ext cx="381240" cy="304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866920" y="51814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4360" y="5622840"/>
              <a:ext cx="119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arge : 4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9625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F55-9C2B-4C9B-B8E6-07ABA28E5C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DECC9-8317-410E-A00B-65CDDEDEB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 jalonnement au plus tard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243828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24382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2438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27432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3429000"/>
            <a:ext cx="8384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34290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3733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440" y="24382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os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7440" y="34290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os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22200" y="28638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4116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60480" y="2863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9440" y="28638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8040" y="2863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 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22096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7080" y="16128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22096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77840" y="162864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es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05120" y="4267080"/>
            <a:ext cx="1447560" cy="762840"/>
            <a:chOff x="1905120" y="4267080"/>
            <a:chExt cx="1447560" cy="762840"/>
          </a:xfrm>
        </p:grpSpPr>
        <p:sp>
          <p:nvSpPr>
            <p:cNvPr id="394" name=""/>
            <p:cNvSpPr/>
            <p:nvPr/>
          </p:nvSpPr>
          <p:spPr>
            <a:xfrm>
              <a:off x="1905120" y="4267080"/>
              <a:ext cx="457200" cy="304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4267080"/>
              <a:ext cx="38088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3200" y="4267080"/>
              <a:ext cx="609480" cy="304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4120" y="46926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5120" y="47242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84480" y="4844880"/>
            <a:ext cx="5672880" cy="794520"/>
            <a:chOff x="384480" y="4844880"/>
            <a:chExt cx="5672880" cy="794520"/>
          </a:xfrm>
        </p:grpSpPr>
        <p:sp>
          <p:nvSpPr>
            <p:cNvPr id="400" name=""/>
            <p:cNvSpPr/>
            <p:nvPr/>
          </p:nvSpPr>
          <p:spPr>
            <a:xfrm>
              <a:off x="5715000" y="4876920"/>
              <a:ext cx="304920" cy="304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4480" y="4844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Op. 0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30208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114800" y="4876920"/>
            <a:ext cx="1600200" cy="794520"/>
            <a:chOff x="4114800" y="4876920"/>
            <a:chExt cx="1600200" cy="794520"/>
          </a:xfrm>
        </p:grpSpPr>
        <p:sp>
          <p:nvSpPr>
            <p:cNvPr id="404" name=""/>
            <p:cNvSpPr/>
            <p:nvPr/>
          </p:nvSpPr>
          <p:spPr>
            <a:xfrm>
              <a:off x="4114800" y="4876920"/>
              <a:ext cx="685800" cy="3045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4876920"/>
              <a:ext cx="38088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81480" y="4876920"/>
              <a:ext cx="533520" cy="3045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14800" y="5334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50120" y="533412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2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74320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814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753560" y="4572000"/>
            <a:ext cx="1518840" cy="1066320"/>
            <a:chOff x="1753560" y="4572000"/>
            <a:chExt cx="1518840" cy="1066320"/>
          </a:xfrm>
        </p:grpSpPr>
        <p:sp>
          <p:nvSpPr>
            <p:cNvPr id="415" name=""/>
            <p:cNvSpPr/>
            <p:nvPr/>
          </p:nvSpPr>
          <p:spPr>
            <a:xfrm flipV="1">
              <a:off x="19051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53560" y="505764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Date de déb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au plus t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070280" y="4267080"/>
            <a:ext cx="1194120" cy="1785240"/>
            <a:chOff x="1070280" y="4267080"/>
            <a:chExt cx="1194120" cy="1785240"/>
          </a:xfrm>
        </p:grpSpPr>
        <p:sp>
          <p:nvSpPr>
            <p:cNvPr id="418" name=""/>
            <p:cNvSpPr/>
            <p:nvPr/>
          </p:nvSpPr>
          <p:spPr>
            <a:xfrm>
              <a:off x="1523880" y="4267080"/>
              <a:ext cx="381240" cy="304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676520" y="45716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70280" y="5715000"/>
              <a:ext cx="119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900"/>
                  </a:solidFill>
                  <a:latin typeface="Arial"/>
                </a:rPr>
                <a:t>Marge : 4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9625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68280" y="4251240"/>
            <a:ext cx="3746520" cy="734400"/>
            <a:chOff x="368280" y="4251240"/>
            <a:chExt cx="3746520" cy="734400"/>
          </a:xfrm>
        </p:grpSpPr>
        <p:sp>
          <p:nvSpPr>
            <p:cNvPr id="424" name=""/>
            <p:cNvSpPr/>
            <p:nvPr/>
          </p:nvSpPr>
          <p:spPr>
            <a:xfrm>
              <a:off x="3352680" y="4267080"/>
              <a:ext cx="22860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81280" y="4267080"/>
              <a:ext cx="38124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8280" y="42512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Op. 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19800" y="46483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62520" y="4267080"/>
              <a:ext cx="1522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330-959C-442F-B6E5-B9E6BE060E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1FDCC-6318-4CEF-8B61-188F8F683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s dates de jalonnement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143000" y="990720"/>
          <a:ext cx="676260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7626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016-9AD4-479B-BA17-DEE19F4792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72E40-0552-4412-ACF9-860BC86155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Analyse des marg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295280" y="1066680"/>
          <a:ext cx="68389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68389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F63-6ABB-4819-BE10-FABDEC6754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8F274-D791-402F-97D3-DCFAC5403A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’analyse des charg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07440" y="2286000"/>
            <a:ext cx="7464960" cy="762840"/>
            <a:chOff x="307440" y="2286000"/>
            <a:chExt cx="7464960" cy="762840"/>
          </a:xfrm>
        </p:grpSpPr>
        <p:sp>
          <p:nvSpPr>
            <p:cNvPr id="437" name=""/>
            <p:cNvSpPr/>
            <p:nvPr/>
          </p:nvSpPr>
          <p:spPr>
            <a:xfrm>
              <a:off x="1523880" y="2286000"/>
              <a:ext cx="8384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3200" y="2286000"/>
              <a:ext cx="8380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520" y="2286000"/>
              <a:ext cx="8380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480" y="2286000"/>
              <a:ext cx="8384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2286000"/>
              <a:ext cx="8380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3000" y="22860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43000" y="2590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7440" y="228600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Pos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22200" y="271152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u 8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1160" y="271152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a 8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0480" y="271152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Me 8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79440" y="27115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e 8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98040" y="27115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Ve 8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86520" y="1271520"/>
            <a:ext cx="75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umul sur chaque plage horaire des charges engendrées par l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jalonnés soit au pus tôt soit au plus t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6880" y="34290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OF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429000"/>
            <a:ext cx="45720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62320" y="3429000"/>
            <a:ext cx="3808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3429000"/>
            <a:ext cx="60948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6880" y="39466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3946680"/>
            <a:ext cx="45720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3946680"/>
            <a:ext cx="38124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3946680"/>
            <a:ext cx="83808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623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8128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3962520"/>
            <a:ext cx="3808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9625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2720" y="45403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OF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4479840"/>
            <a:ext cx="30456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4479840"/>
            <a:ext cx="3812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62520" y="4479840"/>
            <a:ext cx="83808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0600" y="4495680"/>
            <a:ext cx="3808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4495680"/>
            <a:ext cx="5335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5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3880" y="5105520"/>
            <a:ext cx="83844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160" y="51055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5105520"/>
            <a:ext cx="8380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2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5105520"/>
            <a:ext cx="8380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6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5105520"/>
            <a:ext cx="83844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7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0" y="5105520"/>
            <a:ext cx="8380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51E-5A27-4BD6-8134-A97898A6A0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C330C-6708-43C4-B059-0261D65DB4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 tableau des charg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33520" y="1219320"/>
          <a:ext cx="63817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3817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209680" y="1676520"/>
          <a:ext cx="6400800" cy="47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676520"/>
                    <a:ext cx="64008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BE1-4677-412F-85B2-06D3292924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F0BFE-36A8-439A-8589-20F1F5F7AA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Le graphique des charg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04920" y="990720"/>
          <a:ext cx="60004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60004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2819520" y="1371600"/>
          <a:ext cx="6000480" cy="44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371600"/>
                    <a:ext cx="60004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318-3CDD-47BE-BAA4-39D1E24CF4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3CC0A-DF87-48C6-A2B7-595E0087EA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a demande en produits fini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lanification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des commandes clien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mandes f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grammes de livr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des prévisions de v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tes par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de l’examen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les articles gérés sur stock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t le stock est inférieur au point de com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145-7E88-4119-B453-89C74850C2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F5D24-7285-4BE0-BA6F-07DA0F2D6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ahoma"/>
              </a:rPr>
              <a:t>Fin de la session 6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511000" y="4267080"/>
            <a:ext cx="388548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Traitement des ach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4A3-990F-4242-BB79-9A38707EAD8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D105E-034B-4360-829C-3641CF9DC5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a détermination des quantités</a:t>
            </a:r>
            <a:br>
              <a:rPr sz="3600"/>
            </a:b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à fabriquer et à commander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général :</a:t>
            </a:r>
            <a:br>
              <a:rPr sz="3200"/>
            </a:b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calcul des besoins nets (M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 princip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sur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DCB-9879-41DA-99A8-64649C814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C07F8-13E8-4AC1-A14A-CB29B200CC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 principe de la MRP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art des besoins en produits f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traite successivement les niveaux de nomenclature jusqu’aux matières achet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chaque niveau, on calcule les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besoins nets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= Besoins bruts </a:t>
            </a:r>
            <a:br>
              <a:rPr sz="2400"/>
            </a:b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– Stock disponible </a:t>
            </a:r>
            <a:br>
              <a:rPr sz="2400"/>
            </a:b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+ Objectif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regroupe éventuellement les besoins fut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décale les besoins du délai d’ob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asse alors au niveau inf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FA6-24F4-47E4-8263-D8589369BF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A47D0-D251-4712-9BAF-1477FC6DF0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65280" y="457200"/>
            <a:ext cx="2488680" cy="30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iveau 0 : Produits fi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380880"/>
            <a:ext cx="1981080" cy="609840"/>
          </a:xfrm>
          <a:prstGeom prst="roundRect">
            <a:avLst>
              <a:gd name="adj" fmla="val 124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esoins brut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mandes/prév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66680" y="838080"/>
            <a:ext cx="8081640" cy="914400"/>
            <a:chOff x="1066680" y="838080"/>
            <a:chExt cx="8081640" cy="914400"/>
          </a:xfrm>
        </p:grpSpPr>
        <p:sp>
          <p:nvSpPr>
            <p:cNvPr id="61" name=""/>
            <p:cNvSpPr/>
            <p:nvPr/>
          </p:nvSpPr>
          <p:spPr>
            <a:xfrm>
              <a:off x="3657600" y="10666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990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838080"/>
              <a:ext cx="2590920" cy="45720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ocks Produits fi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t en cours de mon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1301760"/>
              <a:ext cx="1981080" cy="450720"/>
            </a:xfrm>
            <a:prstGeom prst="roundRect">
              <a:avLst>
                <a:gd name="adj" fmla="val 124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n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n produits fi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13716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33200" y="1143000"/>
              <a:ext cx="1815120" cy="47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rdres de mon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roduits fi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63840" y="1682640"/>
            <a:ext cx="8099280" cy="747720"/>
            <a:chOff x="663840" y="1682640"/>
            <a:chExt cx="8099280" cy="747720"/>
          </a:xfrm>
        </p:grpSpPr>
        <p:sp>
          <p:nvSpPr>
            <p:cNvPr id="68" name=""/>
            <p:cNvSpPr/>
            <p:nvPr/>
          </p:nvSpPr>
          <p:spPr>
            <a:xfrm>
              <a:off x="663840" y="1752480"/>
              <a:ext cx="280440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iveau 1 : Sous-ensem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0440" y="1682640"/>
              <a:ext cx="1822680" cy="52704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Nomenclature 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roduits fi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181480" y="1828800"/>
              <a:ext cx="175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7524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1981080"/>
              <a:ext cx="1981080" cy="44928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bru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ous-ensem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066680" y="2286000"/>
            <a:ext cx="8083440" cy="830160"/>
            <a:chOff x="1066680" y="2286000"/>
            <a:chExt cx="8083440" cy="830160"/>
          </a:xfrm>
        </p:grpSpPr>
        <p:sp>
          <p:nvSpPr>
            <p:cNvPr id="74" name=""/>
            <p:cNvSpPr/>
            <p:nvPr/>
          </p:nvSpPr>
          <p:spPr>
            <a:xfrm>
              <a:off x="1066680" y="2286000"/>
              <a:ext cx="2590920" cy="53352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ocks Sous-ensem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t en cours de fabr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57600" y="25146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2438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2666880"/>
              <a:ext cx="1982520" cy="449280"/>
            </a:xfrm>
            <a:prstGeom prst="roundRect">
              <a:avLst>
                <a:gd name="adj" fmla="val 124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ne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ous-ensem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64360" y="2438280"/>
              <a:ext cx="1985760" cy="47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rdres de fabr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ous-ensem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27432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64560" y="2978280"/>
            <a:ext cx="8098560" cy="830160"/>
            <a:chOff x="664560" y="2978280"/>
            <a:chExt cx="8098560" cy="830160"/>
          </a:xfrm>
        </p:grpSpPr>
        <p:sp>
          <p:nvSpPr>
            <p:cNvPr id="81" name=""/>
            <p:cNvSpPr/>
            <p:nvPr/>
          </p:nvSpPr>
          <p:spPr>
            <a:xfrm>
              <a:off x="664560" y="3048120"/>
              <a:ext cx="313344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iveau 2 : Pièces élément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40440" y="2978280"/>
              <a:ext cx="1822680" cy="52704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Nomenclature 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ous-ensem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181120" y="320040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3124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1120" y="3359160"/>
              <a:ext cx="1981080" cy="44928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bru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ièces élément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066680" y="3733920"/>
            <a:ext cx="8083440" cy="990360"/>
            <a:chOff x="1066680" y="3733920"/>
            <a:chExt cx="8083440" cy="990360"/>
          </a:xfrm>
        </p:grpSpPr>
        <p:sp>
          <p:nvSpPr>
            <p:cNvPr id="87" name=""/>
            <p:cNvSpPr/>
            <p:nvPr/>
          </p:nvSpPr>
          <p:spPr>
            <a:xfrm>
              <a:off x="1066680" y="3733920"/>
              <a:ext cx="2590920" cy="53316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ock Pièces 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n-cours usin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3962520"/>
              <a:ext cx="15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38098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4191120"/>
              <a:ext cx="1981080" cy="533160"/>
            </a:xfrm>
            <a:prstGeom prst="roundRect">
              <a:avLst>
                <a:gd name="adj" fmla="val 124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ne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ièces élément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4360" y="4038480"/>
              <a:ext cx="1985760" cy="47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rdres de fabr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ièces élément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426708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58440" y="4572000"/>
            <a:ext cx="8098200" cy="833400"/>
            <a:chOff x="658440" y="4572000"/>
            <a:chExt cx="8098200" cy="833400"/>
          </a:xfrm>
        </p:grpSpPr>
        <p:sp>
          <p:nvSpPr>
            <p:cNvPr id="94" name=""/>
            <p:cNvSpPr/>
            <p:nvPr/>
          </p:nvSpPr>
          <p:spPr>
            <a:xfrm>
              <a:off x="7010280" y="4648320"/>
              <a:ext cx="1746360" cy="45720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Nomenclature 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ièces élémentai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181480" y="4800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81480" y="4724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440" y="4572000"/>
              <a:ext cx="304344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iveau 3 : Matières premi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4959360"/>
              <a:ext cx="1981080" cy="44604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bru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matières premiè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73160" y="5257800"/>
            <a:ext cx="8074800" cy="907920"/>
            <a:chOff x="1073160" y="5257800"/>
            <a:chExt cx="8074800" cy="907920"/>
          </a:xfrm>
        </p:grpSpPr>
        <p:sp>
          <p:nvSpPr>
            <p:cNvPr id="100" name=""/>
            <p:cNvSpPr/>
            <p:nvPr/>
          </p:nvSpPr>
          <p:spPr>
            <a:xfrm>
              <a:off x="1073160" y="5257800"/>
              <a:ext cx="2584440" cy="53352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ocks de matières premiè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t en commandes en co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7600" y="5562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1480" y="5410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120" y="5715000"/>
              <a:ext cx="1982520" cy="450720"/>
            </a:xfrm>
            <a:prstGeom prst="roundRect">
              <a:avLst>
                <a:gd name="adj" fmla="val 124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esoins nets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matières premiè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2200" y="5791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9520" y="5638680"/>
              <a:ext cx="2278440" cy="47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rdres d'ach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mandes fourniss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8EE-6B93-4E34-BF5F-8EC5C09CB2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BA858-504C-4EC6-968F-D2B38CA16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s décalages des besoins</a:t>
            </a:r>
            <a:br>
              <a:rPr sz="3600"/>
            </a:b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(articles fabriqués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98480" y="374796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41880" y="2833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38640" y="21330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 de bes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compo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7800" y="2833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40680" y="214740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 de l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compo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7800" y="3443400"/>
            <a:ext cx="31240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lai de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17800" y="3747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2160" y="447912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s de besoin des compo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73392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419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9900"/>
                </a:solidFill>
                <a:latin typeface="Arial"/>
              </a:rPr>
              <a:t>Exprimé en jours sur la fiche article du comp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9FE-B790-40C9-97D4-F7D9964992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60BE2-5277-4C91-95C7-D50B7A9473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s décalages des besoins</a:t>
            </a:r>
            <a:br>
              <a:rPr sz="3600"/>
            </a:b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(articles achetés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698480" y="374796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1880" y="2833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38640" y="21330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 de bes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mat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17800" y="2833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72000" y="214740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te de pas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7800" y="3443400"/>
            <a:ext cx="31240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lai de livr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73392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4419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9900"/>
                </a:solidFill>
                <a:latin typeface="Arial"/>
              </a:rPr>
              <a:t>Exprimé en jours sur la fiche 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64E-B360-491D-81E4-36D2022EE5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A629-067F-46CF-B537-F8EA9167C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ahoma"/>
              </a:rPr>
              <a:t>Les règles de regroupemen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Object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iter de générer de trop nombreux ordres de fabrication et d’achat à dates rapproch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c diminuer le nombre de lancements ou de commandes aux fourn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engendrent des coûts fixes (coût administratif, coût de lancement, coût de transport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Mai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d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ar on anticipe un beso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1E9-0FC7-4A32-B444-6C5612D921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50701-C28C-4669-8212-C6AF220F2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6:54:19Z</dcterms:created>
  <dc:creator>Gérard Baglin</dc:creator>
  <dc:description/>
  <dc:language>en-US</dc:language>
  <cp:lastModifiedBy>Groupe HEC</cp:lastModifiedBy>
  <dcterms:modified xsi:type="dcterms:W3CDTF">2005-09-22T05:43:22Z</dcterms:modified>
  <cp:revision>70</cp:revision>
  <dc:subject/>
  <dc:title>Prélude Production 4</dc:title>
</cp:coreProperties>
</file>