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371-7828-41F4-92DD-FAC40561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96E-EFC8-42C9-8139-916D5F7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2EA-A95C-4D2D-907D-BE2501EB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E63-303B-4640-994E-04819F3D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2CB-C1B8-4926-ABD7-AF058B04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A1E-3020-4DEA-9EEA-B34BCD8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02D-939F-4155-9D46-23526E0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BBE-3089-449B-B4FF-E1842B0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82E-E63F-4A7B-A2C2-C064543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046-EE72-4F15-AD01-A36899E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887-DABC-44A1-A0F8-E3546CF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509-F8A8-4EA8-8B0F-2831164D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768-CF45-4F1A-8CBE-C31A7AC72B08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3CDA-47D2-4F73-82C5-B912CC94F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Visite03.ppt" TargetMode="External"/><Relationship Id="rId2" Type="http://schemas.openxmlformats.org/officeDocument/2006/relationships/hyperlink" Target="file:///Visite03.ppt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Visite guidée -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nomenc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Vérification des boucles dans les nomenclatur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Objet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éviter de bloquer le calcul des 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de boucle dans une nomenclat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3124080"/>
            <a:ext cx="1524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dui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t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4114800"/>
            <a:ext cx="1600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osant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733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4800600"/>
            <a:ext cx="1600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osant 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486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715000"/>
            <a:ext cx="1524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dui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580920" y="3352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2400" y="4266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F75-96B4-4FCB-B5D1-5734CE05D1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F349-C1F8-486B-BF20-CD59E6C401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 code de plus bas nivea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840" y="245592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Niveau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840" y="358128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Nivea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840" y="443700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Niveau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438280"/>
            <a:ext cx="1371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438280"/>
            <a:ext cx="1371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3505320"/>
            <a:ext cx="1371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3505320"/>
            <a:ext cx="1371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505320"/>
            <a:ext cx="1371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3505320"/>
            <a:ext cx="1371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19720"/>
            <a:ext cx="1371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3" idx="2"/>
            <a:endCxn id="198" idx="0"/>
          </p:cNvCxnSpPr>
          <p:nvPr/>
        </p:nvCxnSpPr>
        <p:spPr>
          <a:xfrm rot="5400000">
            <a:off x="2856600" y="2781360"/>
            <a:ext cx="610560" cy="838800"/>
          </a:xfrm>
          <a:prstGeom prst="bentConnector3">
            <a:avLst>
              <a:gd name="adj1" fmla="val 4997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3" idx="2"/>
            <a:endCxn id="195" idx="0"/>
          </p:cNvCxnSpPr>
          <p:nvPr/>
        </p:nvCxnSpPr>
        <p:spPr>
          <a:xfrm flipH="1" rot="16200000">
            <a:off x="3656520" y="2819160"/>
            <a:ext cx="610560" cy="762840"/>
          </a:xfrm>
          <a:prstGeom prst="bentConnector3">
            <a:avLst>
              <a:gd name="adj1" fmla="val 4997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4" idx="2"/>
            <a:endCxn id="196" idx="0"/>
          </p:cNvCxnSpPr>
          <p:nvPr/>
        </p:nvCxnSpPr>
        <p:spPr>
          <a:xfrm rot="5400000">
            <a:off x="6437880" y="2781000"/>
            <a:ext cx="610560" cy="839160"/>
          </a:xfrm>
          <a:prstGeom prst="bentConnector3">
            <a:avLst>
              <a:gd name="adj1" fmla="val 4997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4" idx="2"/>
            <a:endCxn id="197" idx="0"/>
          </p:cNvCxnSpPr>
          <p:nvPr/>
        </p:nvCxnSpPr>
        <p:spPr>
          <a:xfrm flipH="1" rot="16200000">
            <a:off x="7238880" y="2819160"/>
            <a:ext cx="610560" cy="762480"/>
          </a:xfrm>
          <a:prstGeom prst="bentConnector3">
            <a:avLst>
              <a:gd name="adj1" fmla="val 4997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6" idx="2"/>
            <a:endCxn id="199" idx="0"/>
          </p:cNvCxnSpPr>
          <p:nvPr/>
        </p:nvCxnSpPr>
        <p:spPr>
          <a:xfrm flipV="1" rot="10800000">
            <a:off x="6323760" y="3962160"/>
            <a:ext cx="1080" cy="457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2207880" y="175176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Par convention, les produits finis sont au niveau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7280" y="5105520"/>
            <a:ext cx="30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a nomenclature de PF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composant C est au niveau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40840" y="5105520"/>
            <a:ext cx="30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a nomenclature de PF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composant C est au nivea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5760" y="592848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Le code de plus bas niveau de C 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BA3-D7C6-4F78-B5C4-09054375B5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2C590-F489-40DE-8E2D-5B93A16501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alcul des codes de plus bas nivea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cer la procédure de </a:t>
            </a:r>
            <a:br>
              <a:rPr sz="2800"/>
            </a:b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Calcul des codes de plus bas niveau</a:t>
            </a:r>
            <a:br>
              <a:rPr sz="28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menu Donn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détermine le plus bas niveau auquel se trouve un article </a:t>
            </a:r>
            <a:br>
              <a:rPr sz="2800"/>
            </a:b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dans toutes les nomencl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calcule aussi les délais cumu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8000"/>
                </a:solidFill>
                <a:latin typeface="Arial"/>
              </a:rPr>
              <a:t>Les articles fabriqués sont par convention au niveau </a:t>
            </a:r>
            <a:r>
              <a:rPr b="1" i="1" lang="fr-FR" sz="2000" spc="-1" strike="noStrike">
                <a:solidFill>
                  <a:srgbClr val="008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23E-344D-41F3-A7F1-23EC512305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595CD-83C5-41B8-911C-29205EF59A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alcul des codes de plus bas nivea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786000" y="16009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r la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calcul de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plus bas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219320"/>
          <a:ext cx="6476760" cy="47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6476760" cy="47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E18-779E-4A70-8D7D-4E6A03DB24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E9F52-F622-4D92-828D-22A95AA2C5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cycles d’obtention cumulé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8381880" y="16765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37339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560" y="236124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Délai de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18440" y="327564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Cycle cumulé de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236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53200" y="396144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Cycle cumulé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743200"/>
            <a:ext cx="35816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 ache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1981080"/>
            <a:ext cx="1828800" cy="762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briqu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447920"/>
            <a:ext cx="236196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é fabriqu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895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55D-2B3D-48CB-B201-0667B7ABDE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B73B3-BC2B-4C14-B716-26497A2E06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Graphiques des décalag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6680" y="1066680"/>
          <a:ext cx="7143840" cy="53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143840" cy="53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1DF-D440-47B0-B28F-8E3781C8E5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DAA2-DC08-4A8C-88B3-DC6DF3D09F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Fin de la session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51400" y="4267080"/>
            <a:ext cx="358524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aisie des g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ahoma"/>
              </a:rPr>
              <a:t>Effectuer une sauvegarde sous le nom Picaso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ahoma"/>
              </a:rPr>
              <a:t>Dupliquer le dossier sous le nom Picaso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1FE-4BDB-4F4B-89AC-21AD0C38C7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0C44B-6855-4B24-A6BF-471E72FC18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Nomenclatures - Défini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2666880"/>
            <a:ext cx="3581280" cy="1599840"/>
            <a:chOff x="1905120" y="2666880"/>
            <a:chExt cx="3581280" cy="1599840"/>
          </a:xfrm>
        </p:grpSpPr>
        <p:sp>
          <p:nvSpPr>
            <p:cNvPr id="45" name=""/>
            <p:cNvSpPr/>
            <p:nvPr/>
          </p:nvSpPr>
          <p:spPr>
            <a:xfrm>
              <a:off x="1905120" y="2666880"/>
              <a:ext cx="3581280" cy="757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Produit « composé 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ou « parent 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57600" y="3424680"/>
              <a:ext cx="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57200" y="4267080"/>
            <a:ext cx="15238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267080"/>
            <a:ext cx="15242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4267080"/>
            <a:ext cx="15242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8098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920" y="1339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La nomenclature décrit la composition d’un produit fabriqué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à partir de ses composants (nomenclature arbores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00" y="5187960"/>
            <a:ext cx="771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Les nomenclatures sont décrites niveau par niveau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qui correspondent à des étapes d’élaboration du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4920" y="30470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171840" y="3429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0760" y="3885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5360" y="3885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66080" y="3885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732840"/>
            <a:ext cx="19051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ique le nombre ou la quantité de composant dans un 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62904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F14-7A57-464D-A7DC-4490401308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A5AB-C1EC-4FCB-9EF2-38062F8EB3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niveaux de nomenclatur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676520"/>
            <a:ext cx="20574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it f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590920"/>
            <a:ext cx="1752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/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590920"/>
            <a:ext cx="1752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/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581280"/>
            <a:ext cx="1066680" cy="457200"/>
          </a:xfrm>
          <a:prstGeom prst="rect">
            <a:avLst/>
          </a:prstGeom>
          <a:solidFill>
            <a:srgbClr val="23c5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è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581280"/>
            <a:ext cx="1066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tiè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581280"/>
            <a:ext cx="1066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tiè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tiè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581280"/>
            <a:ext cx="1066680" cy="457200"/>
          </a:xfrm>
          <a:prstGeom prst="rect">
            <a:avLst/>
          </a:prstGeom>
          <a:solidFill>
            <a:srgbClr val="23c5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èc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19720"/>
            <a:ext cx="1066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tiè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4419720"/>
            <a:ext cx="1066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tiè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3623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2209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36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3526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048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352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3352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33526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048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3352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3352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3352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1120" y="10962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Nive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5320" y="167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5320" y="258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5320" y="358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5320" y="441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9640" y="5562000"/>
            <a:ext cx="68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Au plus bas niveau, on trouve les matières et composants ach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590560" y="49528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657240" y="411480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1055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562720" y="4114800"/>
            <a:ext cx="8380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629400" y="48765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447920"/>
            <a:ext cx="7696080" cy="19047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362320"/>
            <a:ext cx="3581280" cy="205740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438280"/>
            <a:ext cx="4419720" cy="198144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200400"/>
            <a:ext cx="1676520" cy="22096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124080"/>
            <a:ext cx="1600200" cy="221004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BA7-2905-4C72-BD65-1F79A38878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402D1-0DCE-43C7-A2B7-B93329D29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62080" y="1173240"/>
          <a:ext cx="69912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173240"/>
                    <a:ext cx="69912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réation d’une nomenclatur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066680"/>
            <a:ext cx="2133360" cy="457200"/>
          </a:xfrm>
          <a:prstGeom prst="wedgeRoundRectCallout">
            <a:avLst>
              <a:gd name="adj1" fmla="val 84004"/>
              <a:gd name="adj2" fmla="val 795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de du 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447920"/>
            <a:ext cx="2133720" cy="914400"/>
          </a:xfrm>
          <a:prstGeom prst="wedgeRoundRectCallout">
            <a:avLst>
              <a:gd name="adj1" fmla="val -23435"/>
              <a:gd name="adj2" fmla="val 13819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créer, mod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u supprimer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li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124080"/>
            <a:ext cx="1828800" cy="19051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05120"/>
              <a:gd name="textAreaBottom" fmla="*/ 1815840 h 1905120"/>
            </a:gdLst>
            <a:ahLst/>
            <a:rect l="textAreaLeft" t="textAreaTop" r="textAreaRight" b="textAreaBottom"/>
            <a:pathLst>
              <a:path w="21600" h="22501">
                <a:moveTo>
                  <a:pt x="3600" y="0"/>
                </a:moveTo>
                <a:arcTo wR="3600" hR="3600" stAng="16200000" swAng="-5400000"/>
                <a:lnTo>
                  <a:pt x="0" y="18901"/>
                </a:lnTo>
                <a:arcTo wR="3600" hR="3600" stAng="10800000" swAng="-5400000"/>
                <a:lnTo>
                  <a:pt x="18000" y="225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581280"/>
            <a:ext cx="914400" cy="12193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219320"/>
              <a:gd name="textAreaBottom" fmla="*/ 1174680 h 12193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048120"/>
            <a:ext cx="990720" cy="220968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209680"/>
              <a:gd name="textAreaBottom" fmla="*/ 2161440 h 2209680"/>
            </a:gdLst>
            <a:ahLst/>
            <a:rect l="textAreaLeft" t="textAreaTop" r="textAreaRight" b="textAreaBottom"/>
            <a:pathLst>
              <a:path w="21600" h="48167">
                <a:moveTo>
                  <a:pt x="3600" y="0"/>
                </a:moveTo>
                <a:arcTo wR="3600" hR="3600" stAng="16200000" swAng="-5400000"/>
                <a:lnTo>
                  <a:pt x="0" y="44567"/>
                </a:lnTo>
                <a:arcTo wR="3600" hR="3600" stAng="10800000" swAng="-5400000"/>
                <a:lnTo>
                  <a:pt x="18000" y="48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334120"/>
            <a:ext cx="1600200" cy="609480"/>
          </a:xfrm>
          <a:prstGeom prst="wedgeRoundRectCallout">
            <a:avLst>
              <a:gd name="adj1" fmla="val -53768"/>
              <a:gd name="adj2" fmla="val -10182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erro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486400"/>
            <a:ext cx="1600200" cy="609480"/>
          </a:xfrm>
          <a:prstGeom prst="wedgeRoundRectCallout">
            <a:avLst>
              <a:gd name="adj1" fmla="val 91069"/>
              <a:gd name="adj2" fmla="val -856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ph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5181480"/>
            <a:ext cx="1600200" cy="609840"/>
          </a:xfrm>
          <a:prstGeom prst="wedgeRoundRectCallout">
            <a:avLst>
              <a:gd name="adj1" fmla="val -56546"/>
              <a:gd name="adj2" fmla="val -12369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g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632-DAF4-49F3-8BB2-95D591045B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D149A-7E80-4E92-9AF6-048D6E7FC8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09680" y="1143000"/>
          <a:ext cx="638172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638172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 lien de nomenclatur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05120"/>
            <a:ext cx="2133360" cy="609480"/>
          </a:xfrm>
          <a:prstGeom prst="wedgeRoundRectCallout">
            <a:avLst>
              <a:gd name="adj1" fmla="val 67111"/>
              <a:gd name="adj2" fmla="val 21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méro de 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pour repérer le li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895480"/>
            <a:ext cx="2133360" cy="609840"/>
          </a:xfrm>
          <a:prstGeom prst="wedgeRoundRectCallout">
            <a:avLst>
              <a:gd name="adj1" fmla="val 64657"/>
              <a:gd name="adj2" fmla="val -963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de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733920"/>
            <a:ext cx="2133360" cy="609480"/>
          </a:xfrm>
          <a:prstGeom prst="wedgeRoundRectCallout">
            <a:avLst>
              <a:gd name="adj1" fmla="val 95611"/>
              <a:gd name="adj2" fmla="val -19453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ntité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E61-ED92-457F-B7E6-88AB52705A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C158-A8FD-4A68-B5D9-A9306E7AB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990720"/>
          <a:ext cx="407016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407016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Interrogations descendant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990720"/>
          <a:ext cx="4070520" cy="31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90720"/>
                    <a:ext cx="407052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3200400"/>
          <a:ext cx="4070160" cy="315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200400"/>
                    <a:ext cx="407016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2362320"/>
            <a:ext cx="35812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enclature direc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200400"/>
          <a:ext cx="4070520" cy="315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200400"/>
                    <a:ext cx="40705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5181480"/>
            <a:ext cx="35812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enclature cumul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5181480"/>
            <a:ext cx="358164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enclature d’ac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362320"/>
            <a:ext cx="358164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enclature arbores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C7A-DF4F-4EA6-A9EB-9C041D0A69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008AD-49D1-49CD-8078-8B931D79A9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Représentation graphique </a:t>
            </a:r>
            <a:br>
              <a:rPr sz="4000"/>
            </a:b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de la nomenclatur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95280" y="1447920"/>
          <a:ext cx="6610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610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682-E62B-44C2-953B-F494804219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FB840-4EA5-4C05-B858-6AFA9EBEAF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omposants commun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1828800"/>
            <a:ext cx="1371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1828800"/>
            <a:ext cx="1371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048120"/>
            <a:ext cx="13716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 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4267080"/>
            <a:ext cx="1600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tiè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267080"/>
            <a:ext cx="16016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posan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1240" y="319932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Sous-ensemble comm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68440" y="540936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Arial"/>
              </a:rPr>
              <a:t>La nomenclature d’un article n’est décrite qu’une seul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6CC-90C9-4A49-BFB2-B18E0435A2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804DB-31BF-4356-BDCD-C884F831C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1143000"/>
          <a:ext cx="407052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40705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692600" y="1143000"/>
          <a:ext cx="4070520" cy="31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2600" y="1143000"/>
                    <a:ext cx="40705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Interrogations ascendantes en lis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590920"/>
            <a:ext cx="312408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d’emploi 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à un nivea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514600"/>
            <a:ext cx="350532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mplois arboresc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jusqu’au plus haut nivea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66880" y="3276720"/>
          <a:ext cx="4070520" cy="31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276720"/>
                    <a:ext cx="407052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124080" y="4724280"/>
            <a:ext cx="3124440" cy="5335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d’emploi cumu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au plus haut nivea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314-8847-4205-8579-8350002440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646F1-550C-4CA8-94EA-A52252439E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8:11:41Z</dcterms:created>
  <dc:creator>Gérard Baglin</dc:creator>
  <dc:description/>
  <dc:language>en-US</dc:language>
  <cp:lastModifiedBy>Groupe HEC</cp:lastModifiedBy>
  <cp:lastPrinted>1998-04-23T12:49:58Z</cp:lastPrinted>
  <dcterms:modified xsi:type="dcterms:W3CDTF">2004-12-12T11:26:57Z</dcterms:modified>
  <cp:revision>81</cp:revision>
  <dc:subject/>
  <dc:title>Aucun titre de diapositive</dc:title>
</cp:coreProperties>
</file>