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6627-3643-484F-A7A4-D5BF6300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7B3B-B025-4D26-806C-89929007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F13D-506D-4E45-B317-F3845F34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0EAE-5E65-415A-B217-D4D5F88E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5A3-D792-4983-A40D-630599EF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CFB4-54E0-4456-AB84-EB7CD6A1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834B-1E0E-4915-BEC3-3CDB7B43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67F5-3F7C-4F35-93A1-A0B79C06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E85C-002B-451E-AC66-B4A38D66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EC94-E2DA-4E70-B076-1539F381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DF9F-03D0-4710-96C5-ABBF8D96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B174-C045-4843-B8C8-66A2D368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24EB-5885-44FB-824E-F6C31FEB7AC3}" type="datetime">
              <a:rPr b="0" lang="fr-FR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76760"/>
            <a:ext cx="19051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E19F-A9C9-4363-BC6B-2677C9F0F13B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Prélude ERP 6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00"/>
                </a:solidFill>
                <a:latin typeface="Arial"/>
              </a:rPr>
              <a:t>Visite guidée - session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pédition des commandes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990720" y="1515960"/>
          <a:ext cx="6430680" cy="48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15960"/>
                    <a:ext cx="643068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Paiement du fournisseur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990720"/>
            <a:ext cx="1905120" cy="761760"/>
          </a:xfrm>
          <a:prstGeom prst="wedgeRoundRectCallout">
            <a:avLst>
              <a:gd name="adj1" fmla="val -99583"/>
              <a:gd name="adj2" fmla="val 69791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. Cliquer sur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‘Nouveau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1905120"/>
            <a:ext cx="1904760" cy="761760"/>
          </a:xfrm>
          <a:prstGeom prst="wedgeRoundRectCallout">
            <a:avLst>
              <a:gd name="adj1" fmla="val -124000"/>
              <a:gd name="adj2" fmla="val 1208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 Appeler l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urniss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3581280"/>
            <a:ext cx="5333760" cy="6098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factures non payées sont affich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4343400"/>
            <a:ext cx="2971800" cy="762120"/>
          </a:xfrm>
          <a:prstGeom prst="wedgeRoundRectCallout">
            <a:avLst>
              <a:gd name="adj1" fmla="val -63675"/>
              <a:gd name="adj2" fmla="val 36875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 Entrer le montant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u pai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4419720"/>
            <a:ext cx="1905120" cy="380880"/>
          </a:xfrm>
          <a:prstGeom prst="wedgeRoundRectCallout">
            <a:avLst>
              <a:gd name="adj1" fmla="val -52666"/>
              <a:gd name="adj2" fmla="val 22666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5. Val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1828800"/>
            <a:ext cx="2057400" cy="1905120"/>
          </a:xfrm>
          <a:prstGeom prst="wedgeRoundRectCallout">
            <a:avLst>
              <a:gd name="adj1" fmla="val -84722"/>
              <a:gd name="adj2" fmla="val -125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4. Cliquer dans la colonne ‘Lettrage’ pour noter que la facture est pay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ED60-7E5E-4BF2-AC32-7F0DD47F72E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31A35-E90D-4D16-AFF7-57D5153C48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Le compte fournisseur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19320" y="1523880"/>
          <a:ext cx="6430680" cy="48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43068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F67B-461C-4037-B9AA-49208F5C26D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FFA23-0709-4270-A54E-7E33F51AC0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Fin de la session 10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997920" y="4267080"/>
            <a:ext cx="69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Tahoma"/>
              </a:rPr>
              <a:t>La visite guidée de l’ERP est terminé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4760" y="1981080"/>
            <a:ext cx="73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Tahoma"/>
              </a:rPr>
              <a:t>Effectuer une sauvegarde sous le nom Picaso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9FF-3858-4E2F-BEF3-D53952FA5C0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1A08E9-9F89-4AC2-9269-68700FE99E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Le carnet de commandes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992160" y="1066680"/>
            <a:ext cx="58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Accès : menu</a:t>
            </a:r>
            <a:r>
              <a:rPr b="1" lang="fr-FR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Ventes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, option</a:t>
            </a:r>
            <a:r>
              <a:rPr b="1" lang="fr-FR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Carnet de comman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219320" y="1600200"/>
          <a:ext cx="6172200" cy="46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172200" cy="46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F49-A3B6-4E99-A0A8-D83A8E09E38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B6944-EC36-4092-B781-2300A1BAA5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5800" y="1523880"/>
          <a:ext cx="63054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63054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L’expédition de commande clien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990000" y="1066680"/>
            <a:ext cx="65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Accès : menu</a:t>
            </a:r>
            <a:r>
              <a:rPr b="1" lang="fr-FR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Ventes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, option</a:t>
            </a:r>
            <a:r>
              <a:rPr b="1" lang="fr-FR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Expédition Commande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3962520"/>
            <a:ext cx="1828800" cy="1066680"/>
          </a:xfrm>
          <a:prstGeom prst="wedgeRoundRectCallout">
            <a:avLst>
              <a:gd name="adj1" fmla="val -47310"/>
              <a:gd name="adj2" fmla="val -11666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ur expéd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haque lig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comm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1600200"/>
            <a:ext cx="2819520" cy="1219320"/>
          </a:xfrm>
          <a:prstGeom prst="wedgeRoundRectCallout">
            <a:avLst>
              <a:gd name="adj1" fmla="val -23254"/>
              <a:gd name="adj2" fmla="val 6913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i toute la comm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st disponib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pédition automat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toutes les lig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A37E-7E42-468A-895F-37E75B91FB1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D0787-C8EE-4EDB-BA98-BB6529A620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33520" y="1371600"/>
          <a:ext cx="668628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668628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Expédition d’une ligne </a:t>
            </a:r>
            <a:br>
              <a:rPr sz="4400"/>
            </a:b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de commande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7315200" y="3505320"/>
            <a:ext cx="1371600" cy="761760"/>
          </a:xfrm>
          <a:prstGeom prst="wedgeRoundRectCallout">
            <a:avLst>
              <a:gd name="adj1" fmla="val -75578"/>
              <a:gd name="adj2" fmla="val -208541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ali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xpé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4191120"/>
            <a:ext cx="2361960" cy="761760"/>
          </a:xfrm>
          <a:prstGeom prst="wedgeRoundRectCallout">
            <a:avLst>
              <a:gd name="adj1" fmla="val -143481"/>
              <a:gd name="adj2" fmla="val 4791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ntrer la quantité expédi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2481-873E-4861-8577-9E4CF9CCE53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16454-1456-409A-83AF-444F458F9D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960480" y="1295280"/>
          <a:ext cx="6431040" cy="48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0480" y="1295280"/>
                    <a:ext cx="643104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Facturation des expéditions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6095880"/>
            <a:ext cx="54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Accès : menu</a:t>
            </a:r>
            <a:r>
              <a:rPr b="1" lang="fr-FR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Ventes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, option</a:t>
            </a:r>
            <a:r>
              <a:rPr b="1" lang="fr-FR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Facturation Cl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990720"/>
            <a:ext cx="1905120" cy="761760"/>
          </a:xfrm>
          <a:prstGeom prst="wedgeRoundRectCallout">
            <a:avLst>
              <a:gd name="adj1" fmla="val -95583"/>
              <a:gd name="adj2" fmla="val 3625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. Cliquer sur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‘Nouvell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1905120"/>
            <a:ext cx="1904760" cy="761760"/>
          </a:xfrm>
          <a:prstGeom prst="wedgeRoundRectCallout">
            <a:avLst>
              <a:gd name="adj1" fmla="val -117000"/>
              <a:gd name="adj2" fmla="val -27291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 Appeler l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3581280"/>
            <a:ext cx="5333760" cy="6098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réceptions non facturées sont affich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4419720"/>
            <a:ext cx="1905120" cy="380880"/>
          </a:xfrm>
          <a:prstGeom prst="wedgeRoundRectCallout">
            <a:avLst>
              <a:gd name="adj1" fmla="val -57333"/>
              <a:gd name="adj2" fmla="val 16791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 Val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0DAD-17C3-4C1F-80F6-D8BAD1CA908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111D2-B9F4-4AC7-91B6-16170397C9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Changement de date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990880" y="1994040"/>
          <a:ext cx="3160800" cy="28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0880" y="1994040"/>
                    <a:ext cx="316080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975040" y="5105520"/>
            <a:ext cx="31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n passe au 29 février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3643-4DD4-4584-8FFF-84DE55B0BFF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F2A5E-81FA-41B4-A69C-1E9C7B0E21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762120" y="1523880"/>
          <a:ext cx="6430680" cy="48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643068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Enregistrement des règlements du clien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990720"/>
            <a:ext cx="1905120" cy="761760"/>
          </a:xfrm>
          <a:prstGeom prst="wedgeRoundRectCallout">
            <a:avLst>
              <a:gd name="adj1" fmla="val -99583"/>
              <a:gd name="adj2" fmla="val 69791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. Cliquer sur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‘Nouveau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1905120"/>
            <a:ext cx="1904760" cy="761760"/>
          </a:xfrm>
          <a:prstGeom prst="wedgeRoundRectCallout">
            <a:avLst>
              <a:gd name="adj1" fmla="val -124000"/>
              <a:gd name="adj2" fmla="val 1208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 Appeler l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3581280"/>
            <a:ext cx="5333760" cy="6098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factures non réglées sont affich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4343400"/>
            <a:ext cx="2971800" cy="762120"/>
          </a:xfrm>
          <a:prstGeom prst="wedgeRoundRectCallout">
            <a:avLst>
              <a:gd name="adj1" fmla="val -73291"/>
              <a:gd name="adj2" fmla="val 36875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 Entrer le montant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u règ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4419720"/>
            <a:ext cx="1905120" cy="380880"/>
          </a:xfrm>
          <a:prstGeom prst="wedgeRoundRectCallout">
            <a:avLst>
              <a:gd name="adj1" fmla="val -52666"/>
              <a:gd name="adj2" fmla="val 22666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5. Val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1828800"/>
            <a:ext cx="2057400" cy="1905120"/>
          </a:xfrm>
          <a:prstGeom prst="wedgeRoundRectCallout">
            <a:avLst>
              <a:gd name="adj1" fmla="val -84722"/>
              <a:gd name="adj2" fmla="val -125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4. Cliquer dans la colonne ‘Lettrage’ pour noter que la facture est pay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B847-54C0-45F9-9CFD-0CD3D5873B4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63867-21C2-4109-A0C3-82BC369384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Les comptes clients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371600" y="1523880"/>
          <a:ext cx="6431040" cy="48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643104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8EBF-2114-4193-A9D1-9D2DED7F12D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4083C-2DF6-4304-96A3-5A26051469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La balance Clients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143000" y="1447920"/>
          <a:ext cx="6610320" cy="49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47920"/>
                    <a:ext cx="661032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A227-248A-4055-AA3B-C6834CF18D8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BC7C9-BBF7-47D0-9B95-68CAFD9076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5:40:36Z</dcterms:created>
  <dc:creator>Gérard Baglin</dc:creator>
  <dc:description/>
  <dc:language>en-US</dc:language>
  <cp:lastModifiedBy>Groupe HEC</cp:lastModifiedBy>
  <dcterms:modified xsi:type="dcterms:W3CDTF">2005-11-24T07:27:53Z</dcterms:modified>
  <cp:revision>55</cp:revision>
  <dc:subject/>
  <dc:title>Prélude Production 4</dc:title>
</cp:coreProperties>
</file>