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12F1-6A0A-44B3-B79E-7FA8782D6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30A5-28B4-4FE2-905A-E66DB30F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0CAC-0394-478F-9CEB-07E38D431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04F7-B57F-4553-B050-F61436F24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8F83-19A9-4682-898B-04BBA525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71CD-B130-426C-BF4E-B73D0A4D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507A-2880-4A4D-A7F7-E23C6BC3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3A86-D73A-495A-912C-0A1B66A0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8F17-3267-46B6-89ED-89F23DD7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3294-4625-4D45-92F3-28802193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D93C-4B26-41B7-850E-1DADF5D8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88F5-0A5E-432A-8E1C-7BAAC3BF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6760"/>
            <a:ext cx="19051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2542-5F00-4B86-A682-0D54529DB26B}" type="datetime">
              <a:rPr b="0" lang="fr-FR" sz="1400" spc="-1" strike="noStrike">
                <a:solidFill>
                  <a:srgbClr val="000000"/>
                </a:solidFill>
                <a:latin typeface="Tahoma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76760"/>
            <a:ext cx="19051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0625-F6A6-40B0-BFC8-ACF20E1EA6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Visite06.ppt" TargetMode="External"/><Relationship Id="rId2" Type="http://schemas.openxmlformats.org/officeDocument/2006/relationships/hyperlink" Target="file:///Visite06.ppt" TargetMode="Externa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99"/>
                </a:solidFill>
                <a:latin typeface="Tahoma"/>
              </a:rPr>
              <a:t>Prélude ERP 6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9900"/>
                </a:solidFill>
                <a:latin typeface="Arial"/>
              </a:rPr>
              <a:t>Visite guidée - session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commandes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552600" y="1263600"/>
          <a:ext cx="6914880" cy="517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2600" y="1263600"/>
                    <a:ext cx="6914880" cy="51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99"/>
                </a:solidFill>
                <a:latin typeface="Tahoma"/>
              </a:rPr>
              <a:t>Le programme directeur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2743200"/>
            <a:ext cx="2895480" cy="990720"/>
          </a:xfrm>
          <a:prstGeom prst="wedgeRoundRectCallout">
            <a:avLst>
              <a:gd name="adj1" fmla="val -122805"/>
              <a:gd name="adj2" fmla="val 5129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s lignes de comm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pparaissent dans 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ogramme direct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6868-6495-441C-A789-E738686BBEF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BF9B90-7A90-41F6-B0CB-6D84A264F92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99"/>
                </a:solidFill>
                <a:latin typeface="Tahoma"/>
              </a:rPr>
              <a:t>La validation des commandes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ant qu’une commande n’est pas validée, elle peut être modifiée ou supprim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fr-FR" sz="2800" spc="-1" strike="noStrike">
                <a:solidFill>
                  <a:srgbClr val="009900"/>
                </a:solidFill>
                <a:latin typeface="Arial"/>
              </a:rPr>
              <a:t>validatio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empêche toute modification ultérieure ; c’est un engagement vis-à-vis du client ; il reçoit une confirmation de comma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n ne doit donc valider une commande que lorsque l’on s’est assuré de sa faisabilité dans les délais demandés par le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F9FA-FA43-4739-A687-78B2BBA241B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7FE495-CBE4-4AA6-8133-69CF183942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99"/>
                </a:solidFill>
                <a:latin typeface="Tahoma"/>
              </a:rPr>
              <a:t>Fin de la session 5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429280" y="4267080"/>
            <a:ext cx="4047120" cy="14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Passer à la sess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Calcul des besoins 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4760" y="1981080"/>
            <a:ext cx="737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Tahoma"/>
              </a:rPr>
              <a:t>Effectuer une sauvegarde sous le nom Picaso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Tahoma"/>
              </a:rPr>
              <a:t>Dupliquer le dossier sous le nom Picaso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DE39-6C0D-45AD-8F6E-F9AECC95BCD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15309D-29FB-4D08-8D00-45B065370D2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99"/>
                </a:solidFill>
                <a:latin typeface="Tahoma"/>
              </a:rPr>
              <a:t>Le calendrier d’activité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finit les périodes de travail de l’us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st entré par semaine, jour par j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activité journalière est spécifiée 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heure de déb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durée (heures décimalisé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n peut définir une semaine standard que l’on reporte sur d’autres sem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jours travaillés possèdent une durée non nu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F9F5-4B23-4C48-85B3-01E6CB4577B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77FF7E-E7AC-404D-B09C-92EEBECC22C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04920" y="1066680"/>
          <a:ext cx="6229080" cy="46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6229080" cy="46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99"/>
                </a:solidFill>
                <a:latin typeface="Tahoma"/>
              </a:rPr>
              <a:t>Le calendrier d’activité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6858000" y="990720"/>
            <a:ext cx="1828800" cy="1066680"/>
          </a:xfrm>
          <a:prstGeom prst="wedgeRoundRectCallout">
            <a:avLst>
              <a:gd name="adj1" fmla="val -71962"/>
              <a:gd name="adj2" fmla="val 20087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élection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a semaine su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e calendri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ensu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0" y="5105520"/>
            <a:ext cx="1828800" cy="761760"/>
          </a:xfrm>
          <a:prstGeom prst="wedgeRoundRectCallout">
            <a:avLst>
              <a:gd name="adj1" fmla="val -75870"/>
              <a:gd name="adj2" fmla="val -317291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ise à j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 la sema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0" y="3657600"/>
            <a:ext cx="1828800" cy="838080"/>
          </a:xfrm>
          <a:prstGeom prst="wedgeRoundRectCallout">
            <a:avLst>
              <a:gd name="adj1" fmla="val -76736"/>
              <a:gd name="adj2" fmla="val -136740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eport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a sema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0" y="2133720"/>
            <a:ext cx="1828800" cy="761760"/>
          </a:xfrm>
          <a:prstGeom prst="wedgeRoundRectCallout">
            <a:avLst>
              <a:gd name="adj1" fmla="val -74652"/>
              <a:gd name="adj2" fmla="val -58750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ema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- précéden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- suiv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59240" y="5699160"/>
            <a:ext cx="575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Se reporter à l’aide en ligne pour la procédure qui perm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de reporter la semaine standard sur une longue péri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0" y="2971800"/>
            <a:ext cx="1828800" cy="533520"/>
          </a:xfrm>
          <a:prstGeom prst="wedgeRoundRectCallout">
            <a:avLst>
              <a:gd name="adj1" fmla="val -73263"/>
              <a:gd name="adj2" fmla="val -10476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eport sur 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jour suiv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8011-6FBC-4E60-AE4F-67E674B47BE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5BCD16-6429-4089-BE12-66E78A3B880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3399"/>
                </a:solidFill>
                <a:latin typeface="Tahoma"/>
              </a:rPr>
              <a:t>La saisie des commandes clients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9900"/>
                </a:solidFill>
                <a:latin typeface="Arial"/>
              </a:rPr>
              <a:t>But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: enregistrer les commandes prévisionnelles et fer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9900"/>
                </a:solidFill>
                <a:latin typeface="Arial"/>
              </a:rPr>
              <a:t>Procédu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dentifier les 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aisie des commandes (en-tête et lign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alidation des comman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2D5D-558C-4D9B-A35A-18F0B4C5C73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7F2681-20DC-4AF2-B5B3-07D129FE443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533520" y="1066680"/>
          <a:ext cx="63054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66680"/>
                    <a:ext cx="63054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3399"/>
                </a:solidFill>
                <a:latin typeface="Tahoma"/>
              </a:rPr>
              <a:t>Les clients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2196720" y="582768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6ff33"/>
                </a:solidFill>
                <a:latin typeface="Arial"/>
              </a:rPr>
              <a:t>Accès par le menu V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38480" y="4191120"/>
            <a:ext cx="2514600" cy="1066680"/>
          </a:xfrm>
          <a:prstGeom prst="wedgeRoundRectCallout">
            <a:avLst>
              <a:gd name="adj1" fmla="val -103537"/>
              <a:gd name="adj2" fmla="val -58930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aisir les condi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 pai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u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1676520"/>
            <a:ext cx="2819520" cy="1600200"/>
          </a:xfrm>
          <a:prstGeom prst="wedgeRoundRectCallout">
            <a:avLst>
              <a:gd name="adj1" fmla="val -103828"/>
              <a:gd name="adj2" fmla="val -61208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dentifier le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r son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t son n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s autres zon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ont faculta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467480" y="1447920"/>
            <a:ext cx="1219320" cy="457200"/>
          </a:xfrm>
          <a:prstGeom prst="wedgeRoundRectCallout">
            <a:avLst>
              <a:gd name="adj1" fmla="val -112240"/>
              <a:gd name="adj2" fmla="val -3715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Val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5182-79AC-4941-B768-D9F119E8712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62124A-2784-4224-BC8D-CE66EA8632D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99"/>
                </a:solidFill>
                <a:latin typeface="Tahoma"/>
              </a:rPr>
              <a:t>Structure des commandes clients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1371600"/>
            <a:ext cx="1600200" cy="4572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lient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3505320"/>
            <a:ext cx="1600200" cy="4572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lient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1371600"/>
            <a:ext cx="1600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mand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19520" y="2590920"/>
            <a:ext cx="1600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mand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19520" y="3505320"/>
            <a:ext cx="1600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mand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19520" y="4724280"/>
            <a:ext cx="1600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mande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29200" y="1371600"/>
            <a:ext cx="160020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ign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29200" y="1905120"/>
            <a:ext cx="160020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ign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2590920"/>
            <a:ext cx="160020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ign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9200" y="3505320"/>
            <a:ext cx="160020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ign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4038480"/>
            <a:ext cx="160020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ign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4724280"/>
            <a:ext cx="160020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ign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5257800"/>
            <a:ext cx="160020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ign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86600" y="1371600"/>
            <a:ext cx="1600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rt X, qté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86600" y="1905120"/>
            <a:ext cx="1600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rt Y, qté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2590920"/>
            <a:ext cx="1600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rt X, qté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86600" y="3505320"/>
            <a:ext cx="1600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rt Z, qté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86600" y="4038480"/>
            <a:ext cx="1600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rt Y, qté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86600" y="4724280"/>
            <a:ext cx="1600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rt X, qté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86600" y="5257800"/>
            <a:ext cx="1600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rt T, qté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64" idx="3"/>
            <a:endCxn id="66" idx="1"/>
          </p:cNvCxnSpPr>
          <p:nvPr/>
        </p:nvCxnSpPr>
        <p:spPr>
          <a:xfrm>
            <a:off x="2362320" y="159984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64" idx="3"/>
            <a:endCxn id="67" idx="1"/>
          </p:cNvCxnSpPr>
          <p:nvPr/>
        </p:nvCxnSpPr>
        <p:spPr>
          <a:xfrm>
            <a:off x="2362320" y="1599840"/>
            <a:ext cx="457920" cy="12200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65" idx="3"/>
            <a:endCxn id="68" idx="1"/>
          </p:cNvCxnSpPr>
          <p:nvPr/>
        </p:nvCxnSpPr>
        <p:spPr>
          <a:xfrm>
            <a:off x="2362320" y="373356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65" idx="3"/>
            <a:endCxn id="69" idx="1"/>
          </p:cNvCxnSpPr>
          <p:nvPr/>
        </p:nvCxnSpPr>
        <p:spPr>
          <a:xfrm>
            <a:off x="2362320" y="3733920"/>
            <a:ext cx="457920" cy="121968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66" idx="3"/>
            <a:endCxn id="70" idx="1"/>
          </p:cNvCxnSpPr>
          <p:nvPr/>
        </p:nvCxnSpPr>
        <p:spPr>
          <a:xfrm>
            <a:off x="4419360" y="1599840"/>
            <a:ext cx="610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66" idx="3"/>
            <a:endCxn id="71" idx="1"/>
          </p:cNvCxnSpPr>
          <p:nvPr/>
        </p:nvCxnSpPr>
        <p:spPr>
          <a:xfrm>
            <a:off x="4419360" y="1600200"/>
            <a:ext cx="610200" cy="534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67" idx="3"/>
            <a:endCxn id="72" idx="1"/>
          </p:cNvCxnSpPr>
          <p:nvPr/>
        </p:nvCxnSpPr>
        <p:spPr>
          <a:xfrm>
            <a:off x="4419360" y="2819160"/>
            <a:ext cx="610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68" idx="3"/>
            <a:endCxn id="73" idx="1"/>
          </p:cNvCxnSpPr>
          <p:nvPr/>
        </p:nvCxnSpPr>
        <p:spPr>
          <a:xfrm>
            <a:off x="4419360" y="3733560"/>
            <a:ext cx="610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68" idx="3"/>
            <a:endCxn id="74" idx="1"/>
          </p:cNvCxnSpPr>
          <p:nvPr/>
        </p:nvCxnSpPr>
        <p:spPr>
          <a:xfrm>
            <a:off x="4419360" y="3733560"/>
            <a:ext cx="610200" cy="533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5029200" y="5791320"/>
            <a:ext cx="160020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ign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86600" y="5791320"/>
            <a:ext cx="1600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rt U, qté 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69" idx="3"/>
            <a:endCxn id="75" idx="1"/>
          </p:cNvCxnSpPr>
          <p:nvPr/>
        </p:nvCxnSpPr>
        <p:spPr>
          <a:xfrm>
            <a:off x="4419360" y="4952520"/>
            <a:ext cx="610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69" idx="3"/>
            <a:endCxn id="76" idx="1"/>
          </p:cNvCxnSpPr>
          <p:nvPr/>
        </p:nvCxnSpPr>
        <p:spPr>
          <a:xfrm>
            <a:off x="4419360" y="4952880"/>
            <a:ext cx="610200" cy="534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69" idx="3"/>
            <a:endCxn id="93" idx="1"/>
          </p:cNvCxnSpPr>
          <p:nvPr/>
        </p:nvCxnSpPr>
        <p:spPr>
          <a:xfrm>
            <a:off x="4419360" y="4952880"/>
            <a:ext cx="610200" cy="1067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0" idx="3"/>
            <a:endCxn id="77" idx="1"/>
          </p:cNvCxnSpPr>
          <p:nvPr/>
        </p:nvCxnSpPr>
        <p:spPr>
          <a:xfrm>
            <a:off x="6629400" y="159984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71" idx="3"/>
            <a:endCxn id="78" idx="1"/>
          </p:cNvCxnSpPr>
          <p:nvPr/>
        </p:nvCxnSpPr>
        <p:spPr>
          <a:xfrm>
            <a:off x="6629400" y="213336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0" name=""/>
          <p:cNvCxnSpPr>
            <a:stCxn id="72" idx="3"/>
            <a:endCxn id="79" idx="1"/>
          </p:cNvCxnSpPr>
          <p:nvPr/>
        </p:nvCxnSpPr>
        <p:spPr>
          <a:xfrm>
            <a:off x="6629400" y="281916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1" name=""/>
          <p:cNvCxnSpPr>
            <a:stCxn id="73" idx="3"/>
            <a:endCxn id="80" idx="1"/>
          </p:cNvCxnSpPr>
          <p:nvPr/>
        </p:nvCxnSpPr>
        <p:spPr>
          <a:xfrm>
            <a:off x="6629400" y="373356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3"/>
            <a:endCxn id="81" idx="1"/>
          </p:cNvCxnSpPr>
          <p:nvPr/>
        </p:nvCxnSpPr>
        <p:spPr>
          <a:xfrm>
            <a:off x="6629400" y="426672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75" idx="3"/>
            <a:endCxn id="82" idx="1"/>
          </p:cNvCxnSpPr>
          <p:nvPr/>
        </p:nvCxnSpPr>
        <p:spPr>
          <a:xfrm>
            <a:off x="6629400" y="495252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76" idx="3"/>
            <a:endCxn id="83" idx="1"/>
          </p:cNvCxnSpPr>
          <p:nvPr/>
        </p:nvCxnSpPr>
        <p:spPr>
          <a:xfrm>
            <a:off x="6629400" y="548604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93" idx="3"/>
            <a:endCxn id="94" idx="1"/>
          </p:cNvCxnSpPr>
          <p:nvPr/>
        </p:nvCxnSpPr>
        <p:spPr>
          <a:xfrm>
            <a:off x="6629400" y="601956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DB5E-5222-44C0-88A2-B135C83C4AB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F16E62-0ECA-4177-83AC-5BC7BD5AE2C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552600" y="1606680"/>
          <a:ext cx="6000480" cy="44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2600" y="1606680"/>
                    <a:ext cx="6000480" cy="44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99"/>
                </a:solidFill>
                <a:latin typeface="Tahoma"/>
              </a:rPr>
              <a:t>Les en-têtes de commande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916920" y="106668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9900"/>
                </a:solidFill>
                <a:latin typeface="Arial"/>
              </a:rPr>
              <a:t>Accès par le menu V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48520" y="1066680"/>
            <a:ext cx="2666880" cy="914400"/>
          </a:xfrm>
          <a:prstGeom prst="wedgeRoundRectCallout">
            <a:avLst>
              <a:gd name="adj1" fmla="val -41129"/>
              <a:gd name="adj2" fmla="val 68925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-  Bouton ‘ Nouvelle ’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ffectation du prem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numéro dispon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2362320"/>
            <a:ext cx="2209680" cy="761760"/>
          </a:xfrm>
          <a:prstGeom prst="wedgeRoundRectCallout">
            <a:avLst>
              <a:gd name="adj1" fmla="val -59337"/>
              <a:gd name="adj2" fmla="val -8208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- Saisie du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u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3352680"/>
            <a:ext cx="2209680" cy="762120"/>
          </a:xfrm>
          <a:prstGeom prst="wedgeRoundRectCallout">
            <a:avLst>
              <a:gd name="adj1" fmla="val -17097"/>
              <a:gd name="adj2" fmla="val -100625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- Saisie de la 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 livrai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29400" y="4572000"/>
            <a:ext cx="2286000" cy="762120"/>
          </a:xfrm>
          <a:prstGeom prst="wedgeRoundRectCallout">
            <a:avLst>
              <a:gd name="adj1" fmla="val -59027"/>
              <a:gd name="adj2" fmla="val -25708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4- Saisie des lig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 la comm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87F7-5967-49A7-8C2E-8431ACE5742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E2B3B7-DCDC-4B82-91EC-37C72063E0A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228600" y="1477800"/>
          <a:ext cx="6381720" cy="477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77800"/>
                    <a:ext cx="6381720" cy="47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3399"/>
                </a:solidFill>
                <a:latin typeface="Tahoma"/>
              </a:rPr>
              <a:t>Les lignes de commande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1981080"/>
            <a:ext cx="1981080" cy="990720"/>
          </a:xfrm>
          <a:prstGeom prst="wedgeRoundRectCallout">
            <a:avLst>
              <a:gd name="adj1" fmla="val -82212"/>
              <a:gd name="adj2" fmla="val -11537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- Saisie du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 l’arti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mand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66880" y="3657600"/>
            <a:ext cx="1447920" cy="609480"/>
          </a:xfrm>
          <a:prstGeom prst="wedgeRoundRectCallout">
            <a:avLst>
              <a:gd name="adj1" fmla="val -99453"/>
              <a:gd name="adj2" fmla="val -224740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- Saisie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 quant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4320" y="1295280"/>
            <a:ext cx="1523880" cy="609840"/>
          </a:xfrm>
          <a:prstGeom prst="wedgeRoundRectCallout">
            <a:avLst>
              <a:gd name="adj1" fmla="val -99898"/>
              <a:gd name="adj2" fmla="val 78384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5- Val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0" y="4343400"/>
            <a:ext cx="212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aisir les autres lignes de la comm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u Fer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2819520"/>
            <a:ext cx="2667240" cy="914400"/>
          </a:xfrm>
          <a:prstGeom prst="wedgeRoundRectCallout">
            <a:avLst>
              <a:gd name="adj1" fmla="val -59703"/>
              <a:gd name="adj2" fmla="val -101388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-  Bouton ‘ Nouvelle ’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ffectation du prem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numéro dispon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9680" y="4648320"/>
            <a:ext cx="1600200" cy="609480"/>
          </a:xfrm>
          <a:prstGeom prst="wedgeRoundRectCallout">
            <a:avLst>
              <a:gd name="adj1" fmla="val -60814"/>
              <a:gd name="adj2" fmla="val -307550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4- Saisie 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ix de v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7E84-4F64-4693-B7DF-F42CD36C91A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74D0FC-56B1-4AE6-953F-AF664DF8892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99"/>
                </a:solidFill>
                <a:latin typeface="Tahoma"/>
              </a:rPr>
              <a:t>La commande client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52600" y="1150920"/>
          <a:ext cx="7067520" cy="528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2600" y="1150920"/>
                    <a:ext cx="7067520" cy="52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F1C8-495B-4633-92BD-A5876BBEEFD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AEB986-4981-4AA8-B6FC-E5C21A7FA53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2T15:40:36Z</dcterms:created>
  <dc:creator>Gérard Baglin</dc:creator>
  <dc:description/>
  <dc:language>en-US</dc:language>
  <cp:lastModifiedBy>Groupe HEC</cp:lastModifiedBy>
  <dcterms:modified xsi:type="dcterms:W3CDTF">2005-08-24T14:19:10Z</dcterms:modified>
  <cp:revision>54</cp:revision>
  <dc:subject/>
  <dc:title>Prélude Production 4</dc:title>
</cp:coreProperties>
</file>