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619-7AB6-468E-808C-A80AA8D8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D0E-4D7F-4289-B7E8-A8E56B86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977-FCCF-4DE7-8AAF-7BA53BDD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5AE-FCFD-4D59-BFE7-99BA71E6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E18-FA37-4285-804B-287133E4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D38-24FC-467C-BC10-90F360B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E5D-8C80-47A0-A245-BCC78763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F64-F2F4-434F-9232-F184CC48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722-8D50-47EB-8921-5E3F2545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F3D-FA18-4338-A911-0318A2D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2A1-021C-462A-B449-F376736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9D6-0B68-4983-8078-F811A41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5F26-B57B-4BA4-99F8-F751F9AC23F3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DEB3-50BD-4B90-B51A-89980141223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Visite09.ppt" TargetMode="External"/><Relationship Id="rId2" Type="http://schemas.openxmlformats.org/officeDocument/2006/relationships/hyperlink" Target="file:///Visite09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ordonn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'ordonnancement centralisé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centr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vail sur un diagramme de Gantt des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rgement au plus tôt / Chargement au plus 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dre de fabrication par ordre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ultat fonction de l'ordre de ch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vient faux si alé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2CF-2D0E-4E22-B432-6B684DB9AF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E0532-E49B-4F83-976F-F0247B5AEB68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Chargement d'un OF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05120" y="2690640"/>
            <a:ext cx="0" cy="233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502920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9440" y="3065400"/>
            <a:ext cx="141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1240" y="3657600"/>
            <a:ext cx="141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40" y="4361040"/>
            <a:ext cx="141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60160" y="220968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é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640" y="502920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56120" y="37987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7880" y="4038480"/>
            <a:ext cx="110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. 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0880" y="3352680"/>
            <a:ext cx="110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. 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6520" y="2754360"/>
            <a:ext cx="110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. 0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0160" y="3352680"/>
            <a:ext cx="110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. 0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419720"/>
            <a:ext cx="60195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419720"/>
            <a:ext cx="11430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733920"/>
            <a:ext cx="60195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733920"/>
            <a:ext cx="10666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733920"/>
            <a:ext cx="11430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124080"/>
            <a:ext cx="60195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10080" y="3124080"/>
            <a:ext cx="15858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9568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DCF-C03C-4668-919A-602D82E44E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6D102-90B5-44AB-A314-6AA40856DF0B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réparation du planning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1143000"/>
          <a:ext cx="638172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38172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E92-486C-43FD-868D-C466A7E26C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276EA-F302-4A9D-9AC2-EC6CAE1FE4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 planning des machin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990720"/>
          <a:ext cx="676260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626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097640" y="5979960"/>
            <a:ext cx="70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ccès : menu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Ordonnancement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, option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Planning des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7E5-F19E-466E-8A67-8306C4AE76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EF3AF-EF24-4BCA-BFA7-EA56C92A0C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1066680"/>
          <a:ext cx="645804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4580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’ordonnancement d’un OF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2209680"/>
            <a:ext cx="1752480" cy="762120"/>
          </a:xfrm>
          <a:prstGeom prst="wedgeRoundRectCallout">
            <a:avLst>
              <a:gd name="adj1" fmla="val -72824"/>
              <a:gd name="adj2" fmla="val 1145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donn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52600" y="1492200"/>
          <a:ext cx="6610320" cy="494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600" y="1492200"/>
                    <a:ext cx="66103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086600" y="3962520"/>
            <a:ext cx="2057400" cy="685800"/>
          </a:xfrm>
          <a:prstGeom prst="wedgeRoundRectCallout">
            <a:avLst>
              <a:gd name="adj1" fmla="val -56791"/>
              <a:gd name="adj2" fmla="val -11064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rdonn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257800"/>
            <a:ext cx="2895480" cy="609480"/>
          </a:xfrm>
          <a:prstGeom prst="wedgeRoundRectCallout">
            <a:avLst>
              <a:gd name="adj1" fmla="val 44902"/>
              <a:gd name="adj2" fmla="val -22448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sualiser la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6C3-AC09-449A-BA02-EFA9134385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17668-5D35-45AB-8F3F-C491AEF4CC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Chargement au plus tô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Princip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lace les opérations dans l'ordre de la g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lace chaque opération dès que l'on trouve une plage libre d'une durée égale ou supérieure à sa du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Caractéristiqu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vilégie l'occupation à court 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gmente les en-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 flexible (commandes urgentes, pan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8D8-EFC9-43BC-90C9-C64F8B67EB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055B3-7DA1-492A-A672-5D5B03D5CE4A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’OF ordonnancé au plus tô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1219320"/>
          <a:ext cx="6534360" cy="48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534360" cy="48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FD1-29E7-4D14-B6F2-D42A6C8883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8B9FF-F85D-4BFF-80E0-98180B7182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Chargement au plus tard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Princip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lace les opérations dans l'ordre inverse de la gamme en partant de la dernière op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lace la dernière opération à la date de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lace chaque opération dès que l'on trouve une plage libre d'une durée égale ou supérieure à sa durée en remontant dans le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Caractéristiqu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vilégie le temps libre à court 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imise les en-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'existe pas toujours d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BF9-C415-472E-BA58-F16B07C8E2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655E9-879B-4707-9D65-D2B19DCDC51E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’OF ordonnancé au plus tard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1143000"/>
          <a:ext cx="66103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6103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4C6-4125-4801-9C88-00C1943066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E92FB-B186-45E8-B31E-D15166C8ED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Chargement de tous les OF</a:t>
            </a:r>
            <a:br>
              <a:rPr sz="4400"/>
            </a:b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au plus tô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676520"/>
          <a:ext cx="638172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38172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819520" y="4343400"/>
            <a:ext cx="4343400" cy="457200"/>
          </a:xfrm>
          <a:prstGeom prst="wedgeRectCallout">
            <a:avLst>
              <a:gd name="adj1" fmla="val -4606"/>
              <a:gd name="adj2" fmla="val -1920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oix de l’ordre de traitement d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FC4-F74D-456F-8B10-E5E6BBF7E8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273B6-1E7F-4452-9E95-E170FE8D7E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00200" y="1109520"/>
          <a:ext cx="594360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09520"/>
                    <a:ext cx="594360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’affermissement des OF suggéré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52480" y="3886200"/>
            <a:ext cx="5639040" cy="609480"/>
            <a:chOff x="1752480" y="3886200"/>
            <a:chExt cx="5639040" cy="609480"/>
          </a:xfrm>
        </p:grpSpPr>
        <p:sp>
          <p:nvSpPr>
            <p:cNvPr id="47" name=""/>
            <p:cNvSpPr/>
            <p:nvPr/>
          </p:nvSpPr>
          <p:spPr>
            <a:xfrm>
              <a:off x="1752480" y="3886200"/>
              <a:ext cx="19051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OF suggér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3886200"/>
              <a:ext cx="1905120" cy="609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OF fer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33920" y="4038480"/>
              <a:ext cx="1676160" cy="38124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60680" y="559908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e tous les OF suggérés dont la date de lancement est antérieure ou égale à la date li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3AF-F567-4C6B-AA0E-3EAAB4CAB4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E176D-D7A3-4463-997B-630243178D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lanning des machin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1066680"/>
          <a:ext cx="6381720" cy="47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3817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2BD-45FF-44D2-A567-1594F218A5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D3882-68AE-426C-88C3-7B3D8439EF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lanning des OF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143000"/>
          <a:ext cx="645768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45768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403-AE43-448D-A309-E6C0F88415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C0C0F-4E50-46D9-90D2-B20E2D770E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Retards et avanc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066680"/>
          <a:ext cx="6095880" cy="45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609588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066680"/>
            <a:ext cx="6172200" cy="5367240"/>
            <a:chOff x="2133720" y="1066680"/>
            <a:chExt cx="6172200" cy="5367240"/>
          </a:xfrm>
        </p:grpSpPr>
        <p:sp>
          <p:nvSpPr>
            <p:cNvPr id="136" name=""/>
            <p:cNvSpPr/>
            <p:nvPr/>
          </p:nvSpPr>
          <p:spPr>
            <a:xfrm>
              <a:off x="2592000" y="5791320"/>
              <a:ext cx="461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L’OF 9 présente un retard de 2.75 he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L’OF 1 présente une avance de 6 he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2133720" y="1066680"/>
            <a:ext cx="6172200" cy="461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1066680"/>
                      <a:ext cx="6172200" cy="46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E46-A4F4-4488-B0DD-53A8E72B79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B226F-FCB4-456D-B630-95760E3C28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Chargement de tous les OF</a:t>
            </a:r>
            <a:br>
              <a:rPr sz="4400"/>
            </a:b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au plus tard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52480" y="1676520"/>
          <a:ext cx="615312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153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50A-C267-4386-97E7-9C71CE4E7E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94433-D175-410E-870F-4E8685CCE9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lanning des machin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1066680"/>
          <a:ext cx="645804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64580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493-2AA1-44D2-8079-E62786EE43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66F41-6C9A-4DAA-B23B-CAD166EFB6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lanning des OF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47920" y="1066680"/>
          <a:ext cx="68389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8389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979-86EC-4C88-8F9B-570AA3DDFF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FBF93-6FC3-42B7-80E6-6A85F182A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Retards et avanc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066680"/>
          <a:ext cx="645804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4580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1066680"/>
          <a:ext cx="6477120" cy="484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066680"/>
                    <a:ext cx="647712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F55-3B63-4E67-90A6-800AC0733D8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59B5F-5E08-443F-BD06-5356F18B10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Fin de la session 8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586880" y="4267080"/>
            <a:ext cx="574632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Lancement et suivi de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E88-B478-4AF8-A937-222AE1BC2B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5BAA3-AFDE-4D14-B7A3-78F3449191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OF ferm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990720"/>
          <a:ext cx="66103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6103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19320" y="5979960"/>
            <a:ext cx="66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ccès : menu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Ordonnancement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, option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Liste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des OF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F58-EC45-4D55-B6AB-8537C22183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966B0-52F4-4A3D-BA12-5A2CDD6D52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Saisie des machin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219320"/>
          <a:ext cx="577188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577188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486400" y="3886200"/>
            <a:ext cx="3200400" cy="838080"/>
          </a:xfrm>
          <a:prstGeom prst="wedgeRoundRectCallout">
            <a:avLst>
              <a:gd name="adj1" fmla="val -42310"/>
              <a:gd name="adj2" fmla="val -1490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el de la fenê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gestion des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57400" y="1676520"/>
          <a:ext cx="5924520" cy="44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676520"/>
                    <a:ext cx="59245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2D6-EBB5-460C-AAE6-084A5B9662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B7220-B40D-4A0A-B99A-8DBD555E03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ressources de l’usine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66680" y="1066680"/>
          <a:ext cx="676296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676296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336-E669-4D58-AF65-A74083B11A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134C-02D6-485D-948C-F613C69631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a fonction Ordonnancemen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Position du probl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 un horizon court (1 jour à 1 m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suppose que les équilibres charge/capacité ont été réalisés au niveau du jalonnement à capacité inf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dispose de la liste des ordres à réaliser et de la description des opérations à réaliser sur c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 d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s allou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e de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4A2-0C38-46C2-A2DE-AE4DA10208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AD28B-0515-44F1-957B-78DA43ACFBD7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Objectifs de l’ordonnancemen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tenir un planning de travail réal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stion des priorités sur les or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urnir aux ateliers des instructions sur l'ordre dans lequel les OF doivent être traités sur chaqu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E84-E6FB-43CB-80DF-6195F26642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2FE1B-98C7-4D1B-AC7D-4F1C4288F0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objectifs possibl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pecter les dates de be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obje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turer l'utilisation des capacités (en particulier, celle des postes goul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imiser la valeur des en-cours (objectif financ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ntenir de la flexibilité (objectif commer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objectifs multiples et partiellement contradic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0A1-EB63-4AB6-B6DD-2FC39056BC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574E8-734D-40BE-BB08-27A0AAB46EC7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méthodes d’ordonnancemen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donnancement pa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au plus t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au plus 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99"/>
                </a:solidFill>
                <a:latin typeface="Arial"/>
              </a:rPr>
              <a:t>Choix de l’ordre de 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donnancement par gestion de files d’a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99"/>
                </a:solidFill>
                <a:latin typeface="Arial"/>
              </a:rPr>
              <a:t>Choix d’une règl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donnancement sans OF (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kanba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C75-FBC6-4DDE-BFEB-F80E6BCE31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D5D6D-055B-4EA6-B129-88838E05ED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5-09-22T05:47:07Z</dcterms:modified>
  <cp:revision>68</cp:revision>
  <dc:subject/>
  <dc:title>Prélude Production 4</dc:title>
</cp:coreProperties>
</file>