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267-EF15-4509-A6B7-F5FDDE3E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795-58A6-490E-8CB0-61E88A9B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4FE-4B4D-4097-B4F5-2E9C41C7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927-2A07-44EF-9C44-524EA7A6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5B5-44EE-4515-8758-A067FC3C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71B-8A9F-4E48-883D-58587DC1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AED-9002-4086-A8C9-929316A0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B1E-E923-4E00-B43C-C1204EE5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B8D-B8F2-49F4-A39A-1FE1AA70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7E9-428F-45D4-8821-EBCFFC3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878-890F-49A2-A59E-2489FAC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C2C-2C24-4639-B3D0-9ABAEC5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65C0-42FF-429A-B1C7-1F0272E4B1B4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3FBB-4C29-4CF2-B6B2-EFC8E93360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hyperlink" Target="file:///PreludeSC.ppt" TargetMode="External"/><Relationship Id="rId1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andelft@hec.fr" TargetMode="External"/><Relationship Id="rId2" Type="http://schemas.openxmlformats.org/officeDocument/2006/relationships/hyperlink" Target="mailto:vandelft@hec.fr" TargetMode="External"/><Relationship Id="rId3" Type="http://schemas.openxmlformats.org/officeDocument/2006/relationships/hyperlink" Target="mailto:vandelft@hec.fr" TargetMode="External"/><Relationship Id="rId4" Type="http://schemas.openxmlformats.org/officeDocument/2006/relationships/hyperlink" Target="mailto:vandelft@hec.fr" TargetMode="External"/><Relationship Id="rId5" Type="http://schemas.openxmlformats.org/officeDocument/2006/relationships/hyperlink" Target="mailto:vandelft@hec.fr" TargetMode="External"/><Relationship Id="rId6" Type="http://schemas.openxmlformats.org/officeDocument/2006/relationships/hyperlink" Target="mailto:info@cipe.fr" TargetMode="External"/><Relationship Id="rId7" Type="http://schemas.openxmlformats.org/officeDocument/2006/relationships/hyperlink" Target="mailto:info@cipe.fr" TargetMode="External"/><Relationship Id="rId8" Type="http://schemas.openxmlformats.org/officeDocument/2006/relationships/hyperlink" Target="mailto:info@cipe.fr" TargetMode="External"/><Relationship Id="rId9" Type="http://schemas.openxmlformats.org/officeDocument/2006/relationships/hyperlink" Target="mailto:info@cipe.fr" TargetMode="External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Arial"/>
              </a:rPr>
              <a:t>Prés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883-2999-4738-A38B-AE27D3BC25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CB94E-C1B8-4CFB-870F-3FDF4EA5603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Les articles et les nomenclatures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28680" y="5638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Articles et nomencl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1295280"/>
          <a:ext cx="561996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561996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3124080" y="1295280"/>
            <a:ext cx="5855760" cy="4803120"/>
            <a:chOff x="3124080" y="1295280"/>
            <a:chExt cx="5855760" cy="4803120"/>
          </a:xfrm>
        </p:grpSpPr>
        <p:sp>
          <p:nvSpPr>
            <p:cNvPr id="87" name=""/>
            <p:cNvSpPr/>
            <p:nvPr/>
          </p:nvSpPr>
          <p:spPr>
            <a:xfrm>
              <a:off x="4580640" y="5638680"/>
              <a:ext cx="439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Ressources</a:t>
              </a:r>
              <a:r>
                <a:rPr b="0" lang="fr-FR" sz="2400" spc="-1" strike="noStrike">
                  <a:solidFill>
                    <a:srgbClr val="ccccff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et</a:t>
              </a:r>
              <a:r>
                <a:rPr b="0" lang="fr-FR" sz="2400" spc="-1" strike="noStrike">
                  <a:solidFill>
                    <a:srgbClr val="ccccff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nomenclat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3124080" y="1295280"/>
            <a:ext cx="5639040" cy="421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1295280"/>
                      <a:ext cx="5639040" cy="421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EF0-408A-43BA-ACBB-361637ABB4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1AE7D-2DE1-45E8-8302-E11201BF5240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Les gammes de fabrication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28920" y="571500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Description d’une g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1295280"/>
          <a:ext cx="57718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57718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3335040" y="1600200"/>
            <a:ext cx="5504040" cy="4955400"/>
            <a:chOff x="3335040" y="1600200"/>
            <a:chExt cx="5504040" cy="4955400"/>
          </a:xfrm>
        </p:grpSpPr>
        <p:sp>
          <p:nvSpPr>
            <p:cNvPr id="95" name=""/>
            <p:cNvSpPr/>
            <p:nvPr/>
          </p:nvSpPr>
          <p:spPr>
            <a:xfrm>
              <a:off x="3335040" y="6095880"/>
              <a:ext cx="53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Flux dans une gamme arboresc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352680" y="1600200"/>
            <a:ext cx="5486400" cy="410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1600200"/>
                      <a:ext cx="5486400" cy="41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CF1-AC81-4728-9BB4-C40CBFC479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C9158-A15C-4286-8A1E-191DE86D5A84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Une planification hiérarchisé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280" y="914400"/>
            <a:ext cx="5791320" cy="4498200"/>
            <a:chOff x="152280" y="914400"/>
            <a:chExt cx="5791320" cy="4498200"/>
          </a:xfrm>
        </p:grpSpPr>
        <p:sp>
          <p:nvSpPr>
            <p:cNvPr id="100" name=""/>
            <p:cNvSpPr/>
            <p:nvPr/>
          </p:nvSpPr>
          <p:spPr>
            <a:xfrm>
              <a:off x="457200" y="49528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es plans industriels et commerci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152280" y="914400"/>
            <a:ext cx="5315040" cy="397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914400"/>
                      <a:ext cx="5315040" cy="39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3" name=""/>
          <p:cNvGrpSpPr/>
          <p:nvPr/>
        </p:nvGrpSpPr>
        <p:grpSpPr>
          <a:xfrm>
            <a:off x="1681560" y="1066680"/>
            <a:ext cx="6148080" cy="4803120"/>
            <a:chOff x="1681560" y="1066680"/>
            <a:chExt cx="6148080" cy="4803120"/>
          </a:xfrm>
        </p:grpSpPr>
        <p:sp>
          <p:nvSpPr>
            <p:cNvPr id="104" name=""/>
            <p:cNvSpPr/>
            <p:nvPr/>
          </p:nvSpPr>
          <p:spPr>
            <a:xfrm>
              <a:off x="1681560" y="5410080"/>
              <a:ext cx="57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’analyse des charges à capacité infi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2133720" y="1066680"/>
            <a:ext cx="5695920" cy="42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1066680"/>
                      <a:ext cx="5695920" cy="42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"/>
          <p:cNvGrpSpPr/>
          <p:nvPr/>
        </p:nvGrpSpPr>
        <p:grpSpPr>
          <a:xfrm>
            <a:off x="2771640" y="1523880"/>
            <a:ext cx="6201000" cy="4879440"/>
            <a:chOff x="2771640" y="1523880"/>
            <a:chExt cx="6201000" cy="4879440"/>
          </a:xfrm>
        </p:grpSpPr>
        <p:sp>
          <p:nvSpPr>
            <p:cNvPr id="108" name=""/>
            <p:cNvSpPr/>
            <p:nvPr/>
          </p:nvSpPr>
          <p:spPr>
            <a:xfrm>
              <a:off x="2771640" y="5943600"/>
              <a:ext cx="390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e planning des mach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048120" y="1523880"/>
            <a:ext cx="5924520" cy="442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8120" y="1523880"/>
                      <a:ext cx="5924520" cy="44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07C-11AE-4A13-B175-175DA9143A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A1067-4774-4A85-B9E1-B91128EB3E16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De nombreux indicateurs </a:t>
            </a:r>
            <a:br>
              <a:rPr sz="4400"/>
            </a:b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de performanc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1371600"/>
            <a:ext cx="5857200" cy="4269600"/>
            <a:chOff x="228600" y="1371600"/>
            <a:chExt cx="5857200" cy="4269600"/>
          </a:xfrm>
        </p:grpSpPr>
        <p:sp>
          <p:nvSpPr>
            <p:cNvPr id="113" name=""/>
            <p:cNvSpPr/>
            <p:nvPr/>
          </p:nvSpPr>
          <p:spPr>
            <a:xfrm>
              <a:off x="240480" y="5181480"/>
              <a:ext cx="58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Évolution de la file d ’attente des pos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228600" y="1371600"/>
            <a:ext cx="5010120" cy="374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371600"/>
                      <a:ext cx="5010120" cy="37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6" name=""/>
          <p:cNvGrpSpPr/>
          <p:nvPr/>
        </p:nvGrpSpPr>
        <p:grpSpPr>
          <a:xfrm>
            <a:off x="1600200" y="1523880"/>
            <a:ext cx="5238720" cy="4498200"/>
            <a:chOff x="1600200" y="1523880"/>
            <a:chExt cx="5238720" cy="4498200"/>
          </a:xfrm>
        </p:grpSpPr>
        <p:sp>
          <p:nvSpPr>
            <p:cNvPr id="117" name=""/>
            <p:cNvSpPr/>
            <p:nvPr/>
          </p:nvSpPr>
          <p:spPr>
            <a:xfrm>
              <a:off x="1683720" y="5562360"/>
              <a:ext cx="513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Analyse de l’occupation des pos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1600200" y="1523880"/>
            <a:ext cx="5238720" cy="39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1523880"/>
                      <a:ext cx="5238720" cy="39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2675520" y="1676520"/>
            <a:ext cx="6371280" cy="4726800"/>
            <a:chOff x="2675520" y="1676520"/>
            <a:chExt cx="6371280" cy="4726800"/>
          </a:xfrm>
        </p:grpSpPr>
        <p:sp>
          <p:nvSpPr>
            <p:cNvPr id="121" name=""/>
            <p:cNvSpPr/>
            <p:nvPr/>
          </p:nvSpPr>
          <p:spPr>
            <a:xfrm>
              <a:off x="2675520" y="5943600"/>
              <a:ext cx="63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Évolution du besoin en fonds de rou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2971800" y="1676520"/>
            <a:ext cx="5619600" cy="420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1800" y="1676520"/>
                      <a:ext cx="5619600" cy="42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091-29B8-4609-BC3A-7593D92F78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D863B-CE59-4004-BE6F-FE04F66DDBE0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Suivi de fabrication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920" y="1219320"/>
            <a:ext cx="5162400" cy="4455360"/>
            <a:chOff x="304920" y="1219320"/>
            <a:chExt cx="5162400" cy="4455360"/>
          </a:xfrm>
        </p:grpSpPr>
        <p:sp>
          <p:nvSpPr>
            <p:cNvPr id="126" name=""/>
            <p:cNvSpPr/>
            <p:nvPr/>
          </p:nvSpPr>
          <p:spPr>
            <a:xfrm>
              <a:off x="328320" y="5214960"/>
              <a:ext cx="39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Ordre de fabrication lanc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304920" y="1219320"/>
            <a:ext cx="5162400" cy="38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219320"/>
                      <a:ext cx="5162400" cy="38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" name=""/>
          <p:cNvGrpSpPr/>
          <p:nvPr/>
        </p:nvGrpSpPr>
        <p:grpSpPr>
          <a:xfrm>
            <a:off x="3733920" y="1371600"/>
            <a:ext cx="5105160" cy="4422240"/>
            <a:chOff x="3733920" y="1371600"/>
            <a:chExt cx="5105160" cy="4422240"/>
          </a:xfrm>
        </p:grpSpPr>
        <p:sp>
          <p:nvSpPr>
            <p:cNvPr id="130" name=""/>
            <p:cNvSpPr/>
            <p:nvPr/>
          </p:nvSpPr>
          <p:spPr>
            <a:xfrm>
              <a:off x="4757760" y="5334120"/>
              <a:ext cx="39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Déclaration de p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3733920" y="1371600"/>
            <a:ext cx="5105160" cy="381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1371600"/>
                      <a:ext cx="5105160" cy="381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DD0-8758-478F-8669-9315A03903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3F889-5B3C-447C-B0E4-6D4466E8E366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Comptabilité industriell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920" y="1149480"/>
            <a:ext cx="5486400" cy="4753800"/>
            <a:chOff x="304920" y="1149480"/>
            <a:chExt cx="5486400" cy="4753800"/>
          </a:xfrm>
        </p:grpSpPr>
        <p:sp>
          <p:nvSpPr>
            <p:cNvPr id="135" name=""/>
            <p:cNvSpPr/>
            <p:nvPr/>
          </p:nvSpPr>
          <p:spPr>
            <a:xfrm>
              <a:off x="1095480" y="5443560"/>
              <a:ext cx="45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es options de calcul des coû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304920" y="1149480"/>
            <a:ext cx="5486400" cy="41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149480"/>
                      <a:ext cx="5486400" cy="41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"/>
          <p:cNvGrpSpPr/>
          <p:nvPr/>
        </p:nvGrpSpPr>
        <p:grpSpPr>
          <a:xfrm>
            <a:off x="3200400" y="1676520"/>
            <a:ext cx="5619600" cy="4803120"/>
            <a:chOff x="3200400" y="1676520"/>
            <a:chExt cx="5619600" cy="4803120"/>
          </a:xfrm>
        </p:grpSpPr>
        <p:sp>
          <p:nvSpPr>
            <p:cNvPr id="139" name=""/>
            <p:cNvSpPr/>
            <p:nvPr/>
          </p:nvSpPr>
          <p:spPr>
            <a:xfrm>
              <a:off x="4314960" y="6019920"/>
              <a:ext cx="34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Valorisation des éc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3200400" y="1676520"/>
            <a:ext cx="5619600" cy="420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676520"/>
                      <a:ext cx="5619600" cy="42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838-D89F-47BB-889C-9E78BB42AA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61AF6-2334-44CF-9D20-FA553422761F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Facturation et gestion des comptes de tiers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523880"/>
            <a:ext cx="5486400" cy="4650840"/>
            <a:chOff x="304920" y="1523880"/>
            <a:chExt cx="5486400" cy="4650840"/>
          </a:xfrm>
        </p:grpSpPr>
        <p:graphicFrame>
          <p:nvGraphicFramePr>
            <p:cNvPr id="144" name=""/>
            <p:cNvGraphicFramePr/>
            <p:nvPr/>
          </p:nvGraphicFramePr>
          <p:xfrm>
            <a:off x="304920" y="1523880"/>
            <a:ext cx="5486400" cy="410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523880"/>
                      <a:ext cx="5486400" cy="41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48160" y="5715000"/>
              <a:ext cx="21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a fact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895480" y="1676520"/>
            <a:ext cx="5848560" cy="4803120"/>
            <a:chOff x="2895480" y="1676520"/>
            <a:chExt cx="5848560" cy="4803120"/>
          </a:xfrm>
        </p:grpSpPr>
        <p:graphicFrame>
          <p:nvGraphicFramePr>
            <p:cNvPr id="148" name=""/>
            <p:cNvGraphicFramePr/>
            <p:nvPr/>
          </p:nvGraphicFramePr>
          <p:xfrm>
            <a:off x="2895480" y="1676520"/>
            <a:ext cx="5848560" cy="437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76520"/>
                      <a:ext cx="5848560" cy="43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4274280" y="6019920"/>
              <a:ext cx="419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’interrogation des comp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6CA-B407-49FD-BC6E-0F8EC45FBF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44B1A-0B43-4906-B448-13B5B9340E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18160" y="1295280"/>
            <a:ext cx="5172840" cy="4422240"/>
            <a:chOff x="218160" y="1295280"/>
            <a:chExt cx="5172840" cy="4422240"/>
          </a:xfrm>
        </p:grpSpPr>
        <p:graphicFrame>
          <p:nvGraphicFramePr>
            <p:cNvPr id="152" name=""/>
            <p:cNvGraphicFramePr/>
            <p:nvPr/>
          </p:nvGraphicFramePr>
          <p:xfrm>
            <a:off x="228600" y="1295280"/>
            <a:ext cx="5162400" cy="38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95280"/>
                      <a:ext cx="5162400" cy="38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218160" y="5257800"/>
              <a:ext cx="282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e plan comp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Comptabilité général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2560" y="1523880"/>
            <a:ext cx="6004080" cy="4803120"/>
            <a:chOff x="682560" y="1523880"/>
            <a:chExt cx="6004080" cy="480312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1523880"/>
            <a:ext cx="5695920" cy="42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1523880"/>
                      <a:ext cx="5695920" cy="42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682560" y="5867280"/>
              <a:ext cx="29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a saisie d’écrit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57400" y="1752480"/>
            <a:ext cx="5543640" cy="4650840"/>
            <a:chOff x="2057400" y="1752480"/>
            <a:chExt cx="5543640" cy="4650840"/>
          </a:xfrm>
        </p:grpSpPr>
        <p:sp>
          <p:nvSpPr>
            <p:cNvPr id="161" name=""/>
            <p:cNvSpPr/>
            <p:nvPr/>
          </p:nvSpPr>
          <p:spPr>
            <a:xfrm>
              <a:off x="3445560" y="5943600"/>
              <a:ext cx="390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’interrogation de comp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2057400" y="1752480"/>
            <a:ext cx="5543640" cy="4145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1752480"/>
                      <a:ext cx="5543640" cy="414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3295800" y="1905120"/>
            <a:ext cx="5848200" cy="4803120"/>
            <a:chOff x="3295800" y="1905120"/>
            <a:chExt cx="5848200" cy="4803120"/>
          </a:xfrm>
        </p:grpSpPr>
        <p:graphicFrame>
          <p:nvGraphicFramePr>
            <p:cNvPr id="165" name=""/>
            <p:cNvGraphicFramePr/>
            <p:nvPr/>
          </p:nvGraphicFramePr>
          <p:xfrm>
            <a:off x="3295800" y="1905120"/>
            <a:ext cx="5848200" cy="4371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95800" y="1905120"/>
                      <a:ext cx="5848200" cy="43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>
              <a:off x="5735880" y="624852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Les états comptab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A52-6E8B-4E05-898D-C7FFEB536B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B1836-0684-49D2-90A8-7450AF328B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Liens avec documents multimédia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92960" cy="35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9B4-D4D7-4F07-8710-449156818B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BEFA2-3235-4E63-BBA5-C63C844ACC0D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Les éditions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1143000"/>
          <a:ext cx="684360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68436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41D-E9B4-4B46-B833-F5FB3ACEDC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88046-F582-4B99-AF3A-8C07AE14514E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Bienvenu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30240" y="1424160"/>
          <a:ext cx="5483520" cy="40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1424160"/>
                    <a:ext cx="5483520" cy="40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F09-E64B-4063-A002-C0B76667F9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B347A-AA77-40A6-8E00-430856D2528C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L’aide en lign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52480" y="1371600"/>
          <a:ext cx="6635880" cy="49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663588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569-B231-469D-B88F-8E580C590B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E5988-3D69-43EA-81C2-B47C70699823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Prélude 6 permet de jouer en réseau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3680" y="1981080"/>
            <a:ext cx="6186600" cy="4424040"/>
            <a:chOff x="193680" y="1981080"/>
            <a:chExt cx="6186600" cy="44240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701640" y="4676760"/>
              <a:ext cx="5619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701640" y="2611440"/>
              <a:ext cx="5619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295960" y="2955960"/>
              <a:ext cx="56340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4048200" y="2038320"/>
              <a:ext cx="5619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1901880" y="1981080"/>
              <a:ext cx="56196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300320" y="2554200"/>
              <a:ext cx="3995640" cy="30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6"/>
            <a:stretch/>
          </p:blipFill>
          <p:spPr>
            <a:xfrm>
              <a:off x="5346720" y="5021280"/>
              <a:ext cx="4906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094720" y="5653080"/>
              <a:ext cx="9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680" y="5307120"/>
              <a:ext cx="15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Fournisseur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1720" y="3263760"/>
              <a:ext cx="14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Entreprise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66080" y="2611440"/>
              <a:ext cx="141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Entrepris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9760" y="2670120"/>
              <a:ext cx="1418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Entrepri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7560" y="352908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Entrepri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2898720" y="5021280"/>
              <a:ext cx="6876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412360" y="5824440"/>
              <a:ext cx="1604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Anima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Tahoma"/>
                </a:rPr>
                <a:t>Prélude Pil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0320" y="2746440"/>
              <a:ext cx="3995640" cy="30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060720" y="3645000"/>
              <a:ext cx="53820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V="1">
              <a:off x="1400040" y="4103280"/>
              <a:ext cx="1598760" cy="8017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1080" y="3300480"/>
              <a:ext cx="1647720" cy="630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00480" y="3013200"/>
              <a:ext cx="598320" cy="7459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48080" y="3070080"/>
              <a:ext cx="900000" cy="6318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498840" y="3645000"/>
              <a:ext cx="1697040" cy="2286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47800" y="4046040"/>
              <a:ext cx="1747800" cy="1089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247920" y="4332240"/>
              <a:ext cx="0" cy="5731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1800" y="3186000"/>
              <a:ext cx="4394160" cy="2867040"/>
            </a:xfrm>
            <a:custGeom>
              <a:avLst/>
              <a:gdLst>
                <a:gd name="textAreaLeft" fmla="*/ 0 w 4394160"/>
                <a:gd name="textAreaRight" fmla="*/ 4394520 w 4394160"/>
                <a:gd name="textAreaTop" fmla="*/ 0 h 2867040"/>
                <a:gd name="textAreaBottom" fmla="*/ 2867400 h 28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5" y="13366"/>
                  </a:moveTo>
                  <a:arcTo wR="-9306" hR="-9306" stAng="9839724" swAng="-9775669"/>
                  <a:lnTo>
                    <a:pt x="2" y="10599"/>
                  </a:lnTo>
                  <a:arcTo wR="10800" hR="10800" stAng="-10735944" swAng="9775669"/>
                  <a:lnTo>
                    <a:pt x="23777" y="7078"/>
                  </a:lnTo>
                  <a:lnTo>
                    <a:pt x="21414" y="11342"/>
                  </a:lnTo>
                  <a:lnTo>
                    <a:pt x="17150" y="8979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614200" y="1295280"/>
            <a:ext cx="3755880" cy="1356120"/>
          </a:xfrm>
          <a:prstGeom prst="rect">
            <a:avLst/>
          </a:prstGeom>
          <a:solidFill>
            <a:srgbClr val="00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ccff"/>
                </a:solidFill>
                <a:uFillTx/>
                <a:latin typeface="Tahoma"/>
                <a:hlinkClick r:id="rId10"/>
              </a:rPr>
              <a:t>Voir le diaporama_x000b_Prélude / 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our une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mplète du j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en ré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EF6-597F-49F4-B79F-67F7176B63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4D546-FF41-423E-96F3-65073BCEB6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Tahoma"/>
              </a:rPr>
              <a:t>En quoi Prélude ERP 6</a:t>
            </a:r>
            <a:br>
              <a:rPr sz="4000"/>
            </a:br>
            <a:r>
              <a:rPr b="0" lang="fr-FR" sz="4000" spc="-1" strike="noStrike">
                <a:solidFill>
                  <a:srgbClr val="339933"/>
                </a:solidFill>
                <a:latin typeface="Tahoma"/>
              </a:rPr>
              <a:t>diffère d’un progiciel opérationnel ?</a:t>
            </a:r>
            <a:endParaRPr b="0" lang="en-US" sz="40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Travail essentiellement mono-utilisateu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peu de protection entre utilisateu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Pas de protection des fonc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tous les utilisateurs peuvent tout utilis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Absence de nombreuses fonctions purement administrativ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Pas de support 24h/2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59C-E848-4A78-A071-BE77688300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B225-294E-4CF1-BF94-C5B23E9D4C78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01920" y="2514600"/>
            <a:ext cx="7549560" cy="51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Pour tout renseignement technique :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aglin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@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hec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5000" y="3843360"/>
            <a:ext cx="7532640" cy="51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Pour tout renseignement commercial :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info@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cipe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ahoma"/>
                <a:hlinkClick r:id="rId9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EC7-AE65-43DD-8AB8-06EE3C1958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CB9C7-4F19-4704-899D-1B87DFE7110F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Outil pédagogiqu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Permet un apprentissage individuel des ERP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Accès rapide à toutes les fonc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Nombreuses représentations graphiq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Mise en œuvre rap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Arial"/>
              </a:rPr>
              <a:t>Base de données compac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51D-E291-43F1-974D-EC330DB2BB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A6B78-5D67-4AA1-9B96-38B2C9BF0D96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A qui s’adresse Prélude Production ?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Aux élèves des lycées professionn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Aux élèves d’IU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Aux étudiants des écoles d’ingénieurs et de commerce et de l’Universit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Aux organismes de 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Aux services formation des entrepri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afin d’illustrer les concepts du management industri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afin de se préparer à l’utilisation de progiciels opérationn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3FB-61ED-46F4-8D1E-DCFAAEA285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B1EA6-A810-4C16-A951-719D319B1B5C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9933"/>
                </a:solidFill>
                <a:latin typeface="Tahoma"/>
              </a:rPr>
              <a:t>Une très grande richesse fonctionnelle</a:t>
            </a:r>
            <a:endParaRPr b="0" lang="en-US" sz="44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Gestion des données techn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Gestion des stocks et des acha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Gestion commerci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PIC, PDP, MRP, Ordonnancement détaill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Suivi de l’avanc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Gestion de la distrib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Comptabilité industriel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Facturation et gestion des comptes de t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Comptabilité génér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A31-90E9-4B4D-BA2F-EA7352DD6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90E9B-D59D-4F14-AEFC-6B8421D1C58C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Tahoma"/>
              </a:rPr>
              <a:t>L’accès aux fonctions</a:t>
            </a:r>
            <a:endParaRPr b="0" lang="en-US" sz="4000" spc="-1" strike="noStrike">
              <a:solidFill>
                <a:srgbClr val="33993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1676520"/>
          <a:ext cx="653076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53076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46A-6AE8-4B76-8361-4E9F4759A0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8F12C-1CAB-486D-9229-0CE33C302FC7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743200" y="1905120"/>
          <a:ext cx="61261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61261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Tahoma"/>
              </a:rPr>
              <a:t>Les niveaux d’utilisation du logiciel</a:t>
            </a:r>
            <a:endParaRPr b="0" lang="en-US" sz="40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974880" y="186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895480"/>
            <a:ext cx="1523880" cy="144792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81080"/>
            <a:ext cx="1752840" cy="990720"/>
          </a:xfrm>
          <a:prstGeom prst="wedgeRoundRectCallout">
            <a:avLst>
              <a:gd name="adj1" fmla="val 112319"/>
              <a:gd name="adj2" fmla="val 7964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Les b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 l’E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733920"/>
            <a:ext cx="1752480" cy="990360"/>
          </a:xfrm>
          <a:prstGeom prst="wedgeRoundRectCallout">
            <a:avLst>
              <a:gd name="adj1" fmla="val 106976"/>
              <a:gd name="adj2" fmla="val -66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approfon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105520"/>
            <a:ext cx="3048120" cy="990360"/>
          </a:xfrm>
          <a:prstGeom prst="wedgeRoundRectCallout">
            <a:avLst>
              <a:gd name="adj1" fmla="val 27342"/>
              <a:gd name="adj2" fmla="val -16442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ormation à l’uti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 logiciels opératio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334120"/>
            <a:ext cx="3810240" cy="990360"/>
          </a:xfrm>
          <a:prstGeom prst="wedgeRoundRectCallout">
            <a:avLst>
              <a:gd name="adj1" fmla="val -36208"/>
              <a:gd name="adj2" fmla="val -13365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onctions complémen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elon les thèmes de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8760" y="1371600"/>
            <a:ext cx="75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Pour adapter le logiciel à chaque type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8C2-40A6-462D-B89D-29106B63EB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0D915-7BD2-422C-BFB0-3B8A8515B44C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1219320"/>
          <a:ext cx="5315040" cy="39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5315040" cy="39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Tahoma"/>
              </a:rPr>
              <a:t>Les niveaux d’utilisation du logiciel</a:t>
            </a:r>
            <a:endParaRPr b="0" lang="en-US" sz="40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116400" y="12193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…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du plus simp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200" y="590076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…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au plus compliqué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752480"/>
          <a:ext cx="5619600" cy="420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561960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505320" y="2362320"/>
          <a:ext cx="5257800" cy="393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362320"/>
                    <a:ext cx="525780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302-DF4C-4F5A-B80C-5987FF1D5C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D6560-D16F-42EE-A2F1-F44DC8CFCCB2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057400" y="1828800"/>
          <a:ext cx="601992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60199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Tahoma"/>
              </a:rPr>
              <a:t>Une ergonomie soignée</a:t>
            </a:r>
            <a:endParaRPr b="0" lang="en-US" sz="40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219320"/>
            <a:ext cx="3048120" cy="761760"/>
          </a:xfrm>
          <a:prstGeom prst="wedgeRoundRectCallout">
            <a:avLst>
              <a:gd name="adj1" fmla="val 42657"/>
              <a:gd name="adj2" fmla="val 697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aisie du code recherch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’il existe, il est affich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666880"/>
            <a:ext cx="2590920" cy="838440"/>
          </a:xfrm>
          <a:prstGeom prst="wedgeRoundRectCallout">
            <a:avLst>
              <a:gd name="adj1" fmla="val 38421"/>
              <a:gd name="adj2" fmla="val -9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ibellés roug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Rappel auto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u dernier code utili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066680"/>
            <a:ext cx="1904760" cy="914400"/>
          </a:xfrm>
          <a:prstGeom prst="wedgeRoundRectCallout">
            <a:avLst>
              <a:gd name="adj1" fmla="val -137750"/>
              <a:gd name="adj2" fmla="val 7621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ffiche la li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e recher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e la zone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66680"/>
            <a:ext cx="1447560" cy="685800"/>
          </a:xfrm>
          <a:prstGeom prst="wedgeRoundRectCallout">
            <a:avLst>
              <a:gd name="adj1" fmla="val -19847"/>
              <a:gd name="adj2" fmla="val 1145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récé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181480"/>
            <a:ext cx="3505320" cy="685800"/>
          </a:xfrm>
          <a:prstGeom prst="wedgeRoundRectCallout">
            <a:avLst>
              <a:gd name="adj1" fmla="val 19657"/>
              <a:gd name="adj2" fmla="val -17268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assage d’une zone à l’autre 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s flèches vers le bas o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vers le ha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9E3-76E9-4845-AF8E-7C2F5FAD25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7DA8E-5E86-4FE8-9F69-B22F89897A6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2T11:50:57Z</dcterms:created>
  <dc:creator>Gérard Baglin</dc:creator>
  <dc:description/>
  <dc:language>en-US</dc:language>
  <cp:lastModifiedBy>Groupe HEC</cp:lastModifiedBy>
  <dcterms:modified xsi:type="dcterms:W3CDTF">2005-11-04T17:45:33Z</dcterms:modified>
  <cp:revision>65</cp:revision>
  <dc:subject/>
  <dc:title>Prélude Production 5</dc:title>
</cp:coreProperties>
</file>