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BC8C9-611F-4944-9ADC-1A29CD0C2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36505-E81B-4544-983A-5B105A465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68E3A-8F67-4290-A36D-7AC36294E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4FCB1-3B75-432B-BDD6-5EE6AB832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58547-8BF1-4D3E-9893-5D6D45F7E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C36F2-D9C1-4E91-9894-88A9E935C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3566F-A5A8-4F35-945E-7A85CD4FD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737FC-FAF9-4E0C-B015-CC3BC7791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B91CB-D3A2-4239-A37C-A66878974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C8346-7138-48D9-9305-1361AB239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9B73A-C4D7-48DA-97A5-9D99625D1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16556-7699-4920-81F9-D0E734E35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476760"/>
            <a:ext cx="1905120" cy="2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63FFD-3B09-40A1-B242-237703731EF0}" type="datetime">
              <a:rPr b="0" lang="fr-FR" sz="1400" spc="-1" strike="noStrike">
                <a:solidFill>
                  <a:srgbClr val="000000"/>
                </a:solidFill>
                <a:latin typeface="Tahoma"/>
              </a:rPr>
              <a:t>31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76760"/>
            <a:ext cx="2895840" cy="2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476760"/>
            <a:ext cx="1905120" cy="2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AD70A-DE1D-47DC-9D37-71EA82A3875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file:///Visite08.ppt" TargetMode="External"/><Relationship Id="rId2" Type="http://schemas.openxmlformats.org/officeDocument/2006/relationships/hyperlink" Target="file:///Visite08.ppt" TargetMode="External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3399"/>
                </a:solidFill>
                <a:latin typeface="Tahoma"/>
              </a:rPr>
              <a:t>Prélude ERP 6</a:t>
            </a:r>
            <a:endParaRPr b="0" lang="en-US" sz="44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9900"/>
                </a:solidFill>
                <a:latin typeface="Arial"/>
              </a:rPr>
              <a:t>Visite guidée - session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Le traitement des acha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3399"/>
                </a:solidFill>
                <a:latin typeface="Tahoma"/>
              </a:rPr>
              <a:t>Les lignes de commande</a:t>
            </a:r>
            <a:endParaRPr b="0" lang="en-US" sz="40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1830240" y="5751360"/>
            <a:ext cx="531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9900"/>
                </a:solidFill>
                <a:latin typeface="Arial"/>
              </a:rPr>
              <a:t>Répéter la procédure pour les 3 ordres d ’ach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1523880" y="990720"/>
          <a:ext cx="6172200" cy="461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990720"/>
                    <a:ext cx="6172200" cy="461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Gérard Baglin, 1998-200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5FE36-A9CD-4901-B4E2-CEE85004237D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990279-A354-4716-952C-22E886875D8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3399"/>
                </a:solidFill>
                <a:latin typeface="Tahoma"/>
              </a:rPr>
              <a:t>La validation des commandes</a:t>
            </a:r>
            <a:endParaRPr b="0" lang="en-US" sz="44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Tant qu’une commande n’est pas validée, elle peut être modifiée ou supprimé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0" lang="fr-FR" sz="2800" spc="-1" strike="noStrike">
                <a:solidFill>
                  <a:srgbClr val="009900"/>
                </a:solidFill>
                <a:latin typeface="Arial"/>
              </a:rPr>
              <a:t>validation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empêche toute modification ultérieure ; c’est un engagement vis-à-vis du client ; il reçoit une confirmation de comman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On ne doit donc valider une commande uniquement si l’on s’est assuré de sa faisabilité dans les délais demand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Gérard Baglin, 1998-200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22767-6395-47E9-8473-B754A928EE38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856E06-5ADE-4A68-9D9C-56ACC78D012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7" name=""/>
          <p:cNvGraphicFramePr/>
          <p:nvPr/>
        </p:nvGraphicFramePr>
        <p:xfrm>
          <a:off x="838080" y="990720"/>
          <a:ext cx="6610320" cy="49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990720"/>
                    <a:ext cx="6610320" cy="49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3399"/>
                </a:solidFill>
                <a:latin typeface="Tahoma"/>
              </a:rPr>
              <a:t>Validation de la commande</a:t>
            </a:r>
            <a:endParaRPr b="0" lang="en-US" sz="44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324480" y="4495680"/>
            <a:ext cx="2667240" cy="762120"/>
          </a:xfrm>
          <a:prstGeom prst="wedgeRoundRectCallout">
            <a:avLst>
              <a:gd name="adj1" fmla="val -23212"/>
              <a:gd name="adj2" fmla="val -356041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Valider la comman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Gérard Baglin, 1998-200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E4CF4-E45C-4849-8D42-93107D1D5B34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DD755A-2DD4-47BB-8D5C-4181D5F8E6F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1" name=""/>
          <p:cNvGraphicFramePr/>
          <p:nvPr/>
        </p:nvGraphicFramePr>
        <p:xfrm>
          <a:off x="762120" y="1066680"/>
          <a:ext cx="6529320" cy="474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066680"/>
                    <a:ext cx="6529320" cy="474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3399"/>
                </a:solidFill>
                <a:latin typeface="Tahoma"/>
              </a:rPr>
              <a:t>Réception des commandes</a:t>
            </a:r>
            <a:endParaRPr b="0" lang="en-US" sz="44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44" name=""/>
          <p:cNvSpPr/>
          <p:nvPr/>
        </p:nvSpPr>
        <p:spPr>
          <a:xfrm>
            <a:off x="7238880" y="1523880"/>
            <a:ext cx="1600200" cy="838440"/>
          </a:xfrm>
          <a:prstGeom prst="wedgeRoundRectCallout">
            <a:avLst>
              <a:gd name="adj1" fmla="val -120138"/>
              <a:gd name="adj2" fmla="val -13069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Changer la </a:t>
            </a:r>
            <a:br>
              <a:rPr sz="1800"/>
            </a:b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date coura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2895480" y="1752480"/>
          <a:ext cx="3160800" cy="2868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95480" y="1752480"/>
                    <a:ext cx="3160800" cy="286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Gérard Baglin, 1998-200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6DFC3-69EB-47EF-9AFD-835DFC90D160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058ACC-B03F-4BDF-A600-6CF62F8B75C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7" name=""/>
          <p:cNvGraphicFramePr/>
          <p:nvPr/>
        </p:nvGraphicFramePr>
        <p:xfrm>
          <a:off x="552600" y="1663560"/>
          <a:ext cx="6381720" cy="477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2600" y="1663560"/>
                    <a:ext cx="6381720" cy="477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3399"/>
                </a:solidFill>
                <a:latin typeface="Tahoma"/>
              </a:rPr>
              <a:t>Réception des commandes</a:t>
            </a:r>
            <a:endParaRPr b="0" lang="en-US" sz="44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50" name=""/>
          <p:cNvSpPr/>
          <p:nvPr/>
        </p:nvSpPr>
        <p:spPr>
          <a:xfrm>
            <a:off x="595080" y="1027080"/>
            <a:ext cx="736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9900"/>
                </a:solidFill>
                <a:latin typeface="Arial"/>
              </a:rPr>
              <a:t>Accès : menu Achats, option Réception Commandes fournisseu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095880" y="1523880"/>
            <a:ext cx="2819520" cy="1295640"/>
          </a:xfrm>
          <a:prstGeom prst="wedgeRoundRectCallout">
            <a:avLst>
              <a:gd name="adj1" fmla="val -36541"/>
              <a:gd name="adj2" fmla="val 72060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Cliquer sur ‘ Toutes 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pour réceptionn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automatiquement</a:t>
            </a:r>
            <a:br>
              <a:rPr sz="1800"/>
            </a:b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toutes les lig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095880" y="4343400"/>
            <a:ext cx="2819520" cy="990720"/>
          </a:xfrm>
          <a:prstGeom prst="wedgeRoundRectCallout">
            <a:avLst>
              <a:gd name="adj1" fmla="val -37333"/>
              <a:gd name="adj2" fmla="val -142148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Cliquer sur ‘ Lignes 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pour réceptionn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es lignes de comman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Gérard Baglin, 1998-200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462F1-4245-4714-BF92-3BEEDDDA6CC2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0DA580-73B7-4593-A802-039451996B5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3" name=""/>
          <p:cNvGraphicFramePr/>
          <p:nvPr/>
        </p:nvGraphicFramePr>
        <p:xfrm>
          <a:off x="457200" y="1676520"/>
          <a:ext cx="6381720" cy="477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76520"/>
                    <a:ext cx="6381720" cy="47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3399"/>
                </a:solidFill>
                <a:latin typeface="Tahoma"/>
              </a:rPr>
              <a:t>Réception des lignes</a:t>
            </a:r>
            <a:endParaRPr b="0" lang="en-US" sz="44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7238880" y="2514600"/>
            <a:ext cx="1447920" cy="838080"/>
          </a:xfrm>
          <a:prstGeom prst="wedgeRoundRectCallout">
            <a:avLst>
              <a:gd name="adj1" fmla="val -114694"/>
              <a:gd name="adj2" fmla="val -50379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Vali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a réce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Gérard Baglin, 1998-200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913C9-E7B7-4609-9610-DEC00EBC4D52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A3AFDA-7922-49D4-8A54-2C7A4D64FFD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3399"/>
                </a:solidFill>
                <a:latin typeface="Tahoma"/>
              </a:rPr>
              <a:t>État des stocks</a:t>
            </a:r>
            <a:endParaRPr b="0" lang="en-US" sz="4400" spc="-1" strike="noStrike">
              <a:solidFill>
                <a:srgbClr val="003399"/>
              </a:solidFill>
              <a:latin typeface="Tahoma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304920" y="1058760"/>
          <a:ext cx="6457680" cy="482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058760"/>
                    <a:ext cx="6457680" cy="482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"/>
          <p:cNvSpPr/>
          <p:nvPr/>
        </p:nvSpPr>
        <p:spPr>
          <a:xfrm>
            <a:off x="5715000" y="4640400"/>
            <a:ext cx="3200400" cy="685800"/>
          </a:xfrm>
          <a:prstGeom prst="wedgeRoundRectCallout">
            <a:avLst>
              <a:gd name="adj1" fmla="val -26486"/>
              <a:gd name="adj2" fmla="val -338194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Cliquer sur ‘ Mouvements 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1219320" y="1135080"/>
            <a:ext cx="6534000" cy="4884840"/>
            <a:chOff x="1219320" y="1135080"/>
            <a:chExt cx="6534000" cy="4884840"/>
          </a:xfrm>
        </p:grpSpPr>
        <p:graphicFrame>
          <p:nvGraphicFramePr>
            <p:cNvPr id="162" name=""/>
            <p:cNvGraphicFramePr/>
            <p:nvPr/>
          </p:nvGraphicFramePr>
          <p:xfrm>
            <a:off x="1219320" y="1135080"/>
            <a:ext cx="6534000" cy="48848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6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219320" y="1135080"/>
                      <a:ext cx="6534000" cy="4884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64" name=""/>
            <p:cNvSpPr/>
            <p:nvPr/>
          </p:nvSpPr>
          <p:spPr>
            <a:xfrm>
              <a:off x="4114800" y="3954600"/>
              <a:ext cx="2895480" cy="914400"/>
            </a:xfrm>
            <a:prstGeom prst="wedgeRoundRectCallout">
              <a:avLst>
                <a:gd name="adj1" fmla="val -119407"/>
                <a:gd name="adj2" fmla="val -249305"/>
                <a:gd name="adj3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"/>
                </a:rPr>
                <a:t>Code mouvement EC 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"/>
                </a:rPr>
                <a:t>entrée sur comman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562720" y="2049480"/>
            <a:ext cx="2590560" cy="685800"/>
          </a:xfrm>
          <a:prstGeom prst="wedgeRoundRectCallout">
            <a:avLst>
              <a:gd name="adj1" fmla="val -43319"/>
              <a:gd name="adj2" fmla="val -124074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Cliquer sur ‘ Détails 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2205000" y="1916280"/>
          <a:ext cx="4732200" cy="361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05000" y="1916280"/>
                    <a:ext cx="47322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Gérard Baglin, 1998-200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66F8C-F040-4337-8874-F4CA90A2EFB0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DB5DE8-3F04-4C89-A098-C6A2C7731BA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8" name=""/>
          <p:cNvGraphicFramePr/>
          <p:nvPr/>
        </p:nvGraphicFramePr>
        <p:xfrm>
          <a:off x="1112760" y="1523880"/>
          <a:ext cx="6431040" cy="480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2760" y="1523880"/>
                    <a:ext cx="6431040" cy="480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3399"/>
                </a:solidFill>
                <a:latin typeface="Tahoma"/>
              </a:rPr>
              <a:t>Facturation Fournisseur</a:t>
            </a:r>
            <a:endParaRPr b="0" lang="en-US" sz="44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724280" y="990720"/>
            <a:ext cx="1905120" cy="761760"/>
          </a:xfrm>
          <a:prstGeom prst="wedgeRoundRectCallout">
            <a:avLst>
              <a:gd name="adj1" fmla="val -99583"/>
              <a:gd name="adj2" fmla="val 69791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1. Cliquer sur</a:t>
            </a:r>
            <a:br>
              <a:rPr sz="1800"/>
            </a:b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‘Nouvelle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962520" y="1905120"/>
            <a:ext cx="1904760" cy="761760"/>
          </a:xfrm>
          <a:prstGeom prst="wedgeRoundRectCallout">
            <a:avLst>
              <a:gd name="adj1" fmla="val -124000"/>
              <a:gd name="adj2" fmla="val 12083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2. Appeler le</a:t>
            </a:r>
            <a:br>
              <a:rPr sz="1800"/>
            </a:b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fournisseu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47920" y="3581280"/>
            <a:ext cx="5333760" cy="60984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es réceptions non facturées sont affiché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352680" y="4419720"/>
            <a:ext cx="2971800" cy="761760"/>
          </a:xfrm>
          <a:prstGeom prst="wedgeRoundRectCallout">
            <a:avLst>
              <a:gd name="adj1" fmla="val -64638"/>
              <a:gd name="adj2" fmla="val 36041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3. Entrer le n° de facture du fournisseu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010280" y="4419720"/>
            <a:ext cx="1905120" cy="380880"/>
          </a:xfrm>
          <a:prstGeom prst="wedgeRoundRectCallout">
            <a:avLst>
              <a:gd name="adj1" fmla="val -52666"/>
              <a:gd name="adj2" fmla="val 226666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4. Vali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Gérard Baglin, 1998-200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30523-11FD-4D89-940D-1681117D2E55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619174-44F9-408C-8B6B-4AA46C9D7F4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3399"/>
                </a:solidFill>
                <a:latin typeface="Tahoma"/>
              </a:rPr>
              <a:t>Le compte fournisseur</a:t>
            </a:r>
            <a:endParaRPr b="0" lang="en-US" sz="4400" spc="-1" strike="noStrike">
              <a:solidFill>
                <a:srgbClr val="003399"/>
              </a:solidFill>
              <a:latin typeface="Tahoma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1295280" y="1295280"/>
          <a:ext cx="6431040" cy="480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1295280"/>
                    <a:ext cx="6431040" cy="480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Gérard Baglin, 1998-200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EA6D3-72BC-4872-9684-EBA47CBC0080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D6D9AB-6439-4B93-8637-129D7B1ADCE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3399"/>
                </a:solidFill>
                <a:latin typeface="Tahoma"/>
              </a:rPr>
              <a:t>Fin de la session 7</a:t>
            </a:r>
            <a:endParaRPr b="0" lang="en-US" sz="44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80" name=""/>
          <p:cNvSpPr/>
          <p:nvPr/>
        </p:nvSpPr>
        <p:spPr>
          <a:xfrm>
            <a:off x="2661120" y="4267080"/>
            <a:ext cx="3585240" cy="148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 u="sng">
                <a:solidFill>
                  <a:srgbClr val="ccccff"/>
                </a:solidFill>
                <a:uFillTx/>
                <a:latin typeface="Tahoma"/>
                <a:hlinkClick r:id="rId1"/>
              </a:rPr>
              <a:t>Passer à la session 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 u="sng">
                <a:solidFill>
                  <a:srgbClr val="ccccff"/>
                </a:solidFill>
                <a:uFillTx/>
                <a:latin typeface="Tahoma"/>
                <a:hlinkClick r:id="rId2"/>
              </a:rPr>
              <a:t>Ordonnanc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914400" y="1828800"/>
            <a:ext cx="747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9900"/>
                </a:solidFill>
                <a:latin typeface="Tahoma"/>
              </a:rPr>
              <a:t>Effectuer une sauvegarde sous le nom Picaso0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9900"/>
                </a:solidFill>
                <a:latin typeface="Tahoma"/>
              </a:rPr>
              <a:t>Dupliquer le dossier sous le nom Picaso0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Gérard Baglin, 1998-200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2E61C-E22B-4726-A378-24C2598A7CA4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C69E04-3A97-4BEA-B52A-21C14BCA2F7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3399"/>
                </a:solidFill>
                <a:latin typeface="Tahoma"/>
              </a:rPr>
              <a:t>Le processus de traitement des achats</a:t>
            </a:r>
            <a:endParaRPr b="0" lang="en-US" sz="44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4" name=""/>
          <p:cNvSpPr/>
          <p:nvPr/>
        </p:nvSpPr>
        <p:spPr>
          <a:xfrm>
            <a:off x="743040" y="1828800"/>
            <a:ext cx="2990880" cy="385920"/>
          </a:xfrm>
          <a:prstGeom prst="roundRect">
            <a:avLst>
              <a:gd name="adj" fmla="val 16667"/>
            </a:avLst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Calcul des besoins ne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43040" y="2362320"/>
            <a:ext cx="2990880" cy="385560"/>
          </a:xfrm>
          <a:prstGeom prst="rect">
            <a:avLst/>
          </a:prstGeom>
          <a:solidFill>
            <a:srgbClr val="00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OA suggéré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66920" y="2967120"/>
            <a:ext cx="2990880" cy="38556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Affermiss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266920" y="3500280"/>
            <a:ext cx="2990880" cy="385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OA ferm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943440" y="4114800"/>
            <a:ext cx="2990880" cy="38592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Passation de comman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3440" y="4648320"/>
            <a:ext cx="2990880" cy="38556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Commandes fournisseu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238720" y="5257800"/>
            <a:ext cx="2990880" cy="38592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Réce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238720" y="5791320"/>
            <a:ext cx="2990880" cy="38556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Commandes soldé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5400000">
            <a:off x="1295280" y="3181320"/>
            <a:ext cx="1218960" cy="495360"/>
          </a:xfrm>
          <a:custGeom>
            <a:avLst/>
            <a:gdLst>
              <a:gd name="textAreaLeft" fmla="*/ 406440 w 1218960"/>
              <a:gd name="textAreaRight" fmla="*/ 1044000 w 1218960"/>
              <a:gd name="textAreaTop" fmla="*/ 285480 h 495360"/>
              <a:gd name="textAreaBottom" fmla="*/ 424440 h 4953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5400000">
            <a:off x="2971800" y="4324320"/>
            <a:ext cx="1218960" cy="495360"/>
          </a:xfrm>
          <a:custGeom>
            <a:avLst/>
            <a:gdLst>
              <a:gd name="textAreaLeft" fmla="*/ 406440 w 1218960"/>
              <a:gd name="textAreaRight" fmla="*/ 1044000 w 1218960"/>
              <a:gd name="textAreaTop" fmla="*/ 285480 h 495360"/>
              <a:gd name="textAreaBottom" fmla="*/ 424440 h 4953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5400000">
            <a:off x="4267440" y="5467320"/>
            <a:ext cx="1218960" cy="495360"/>
          </a:xfrm>
          <a:custGeom>
            <a:avLst/>
            <a:gdLst>
              <a:gd name="textAreaLeft" fmla="*/ 406440 w 1218960"/>
              <a:gd name="textAreaRight" fmla="*/ 1044000 w 1218960"/>
              <a:gd name="textAreaTop" fmla="*/ 285480 h 495360"/>
              <a:gd name="textAreaBottom" fmla="*/ 424440 h 4953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Gérard Baglin, 1998-200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F2ADC-AFB0-4BC7-9C3F-0CF600D3CF97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6CF0AD-9574-4930-81BA-46A7306B853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304920" y="1143000"/>
          <a:ext cx="6305400" cy="471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143000"/>
                    <a:ext cx="6305400" cy="471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3399"/>
                </a:solidFill>
                <a:latin typeface="Tahoma"/>
              </a:rPr>
              <a:t>Les ordres d’achat suggérés</a:t>
            </a:r>
            <a:endParaRPr b="0" lang="en-US" sz="4400" spc="-1" strike="noStrike">
              <a:solidFill>
                <a:srgbClr val="003399"/>
              </a:solidFill>
              <a:latin typeface="Tahoma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2057400" y="1523880"/>
          <a:ext cx="6229440" cy="4657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057400" y="1523880"/>
                    <a:ext cx="6229440" cy="465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"/>
          <p:cNvSpPr/>
          <p:nvPr/>
        </p:nvSpPr>
        <p:spPr>
          <a:xfrm>
            <a:off x="4267080" y="4495680"/>
            <a:ext cx="3276720" cy="838440"/>
          </a:xfrm>
          <a:prstGeom prst="wedgeRoundRectCallout">
            <a:avLst>
              <a:gd name="adj1" fmla="val 55912"/>
              <a:gd name="adj2" fmla="val -237500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’OA suggéré peut êtr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transformé individuell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en OA fer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Gérard Baglin, 1998-200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E31B4-1C6E-442F-95DB-A2C7600DD266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259451-34F1-4C5C-814B-A343FB58E90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3399"/>
                </a:solidFill>
                <a:latin typeface="Tahoma"/>
              </a:rPr>
              <a:t>L’affermissement des OA</a:t>
            </a:r>
            <a:endParaRPr b="0" lang="en-US" sz="44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62" name=""/>
          <p:cNvSpPr/>
          <p:nvPr/>
        </p:nvSpPr>
        <p:spPr>
          <a:xfrm>
            <a:off x="915120" y="5181480"/>
            <a:ext cx="7790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Transformation automatique des tous les </a:t>
            </a:r>
            <a:r>
              <a:rPr b="1" lang="fr-FR" sz="1800" spc="-1" strike="noStrike">
                <a:solidFill>
                  <a:srgbClr val="009900"/>
                </a:solidFill>
                <a:latin typeface="Arial"/>
              </a:rPr>
              <a:t>OA suggérés</a:t>
            </a:r>
            <a:br>
              <a:rPr sz="1800"/>
            </a:b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(dont la date de commande est antérieure ou égale à la date spécifié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en </a:t>
            </a:r>
            <a:r>
              <a:rPr b="1" lang="fr-FR" sz="1800" spc="-1" strike="noStrike">
                <a:solidFill>
                  <a:srgbClr val="009900"/>
                </a:solidFill>
                <a:latin typeface="Arial"/>
              </a:rPr>
              <a:t>OA ferm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1676520" y="1066680"/>
          <a:ext cx="5486400" cy="410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1066680"/>
                    <a:ext cx="5486400" cy="410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Gérard Baglin, 1998-200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24E6A-1DD7-4106-9D77-C61145E77DB6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5720C0-809C-49A7-87B4-71BA476EB47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380880" y="1143000"/>
          <a:ext cx="6229440" cy="4657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143000"/>
                    <a:ext cx="6229440" cy="465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3399"/>
                </a:solidFill>
                <a:latin typeface="Tahoma"/>
              </a:rPr>
              <a:t>Les OA fermes</a:t>
            </a:r>
            <a:endParaRPr b="0" lang="en-US" sz="4400" spc="-1" strike="noStrike">
              <a:solidFill>
                <a:srgbClr val="003399"/>
              </a:solidFill>
              <a:latin typeface="Tahoma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2209680" y="1523880"/>
          <a:ext cx="6229440" cy="4657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09680" y="1523880"/>
                    <a:ext cx="6229440" cy="465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" name=""/>
          <p:cNvSpPr/>
          <p:nvPr/>
        </p:nvSpPr>
        <p:spPr>
          <a:xfrm>
            <a:off x="3505320" y="4572000"/>
            <a:ext cx="2286000" cy="1143000"/>
          </a:xfrm>
          <a:prstGeom prst="wedgeRoundRectCallout">
            <a:avLst>
              <a:gd name="adj1" fmla="val 129166"/>
              <a:gd name="adj2" fmla="val -260000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On peut cré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direct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des ordres d’ach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ferm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Gérard Baglin, 1998-200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2B982-DF53-4FA8-A0A6-B015FDA9D4BD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64120D-11EC-4E3D-B77D-BBCC42828E9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3399"/>
                </a:solidFill>
                <a:latin typeface="Tahoma"/>
              </a:rPr>
              <a:t>La saisie des commandes fournisseurs</a:t>
            </a:r>
            <a:endParaRPr b="0" lang="en-US" sz="40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381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Les commandes fournisseurs peuvent être crées so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par transformation des OA fermes en comman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par saisie directe (hors planific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Création des command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saisie de l’en-tê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saisie des lignes ou intégration des OA fer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Validation des comman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Gérard Baglin, 1998-200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91C65-E887-4618-8B7C-54A6CFB8307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BD73AD-099C-42F5-8206-853D00C549D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3399"/>
                </a:solidFill>
                <a:latin typeface="Tahoma"/>
              </a:rPr>
              <a:t>Structure des commandes fournisseurs</a:t>
            </a:r>
            <a:endParaRPr b="0" lang="en-US" sz="40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62120" y="1371600"/>
            <a:ext cx="1600200" cy="45720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Fournisseur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62120" y="3505320"/>
            <a:ext cx="1600200" cy="45720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Fournisseur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819520" y="1371600"/>
            <a:ext cx="16002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Command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590920"/>
            <a:ext cx="16002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Command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3505320"/>
            <a:ext cx="16002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Commande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819520" y="4724280"/>
            <a:ext cx="16002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Commande 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029200" y="1371600"/>
            <a:ext cx="1600200" cy="457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ign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029200" y="1905120"/>
            <a:ext cx="1600200" cy="457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ign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029200" y="2590920"/>
            <a:ext cx="1600200" cy="457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ign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029200" y="3505320"/>
            <a:ext cx="1600200" cy="457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ign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029200" y="4038480"/>
            <a:ext cx="1600200" cy="457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ign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029200" y="4724280"/>
            <a:ext cx="1600200" cy="457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ign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029200" y="5257800"/>
            <a:ext cx="1600200" cy="457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ign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086600" y="1371600"/>
            <a:ext cx="1600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Art X, qté 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086600" y="1905120"/>
            <a:ext cx="1600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Art Y, qté 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086600" y="2590920"/>
            <a:ext cx="1600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Art X, qté 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086600" y="3505320"/>
            <a:ext cx="1600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Art Z, qté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086600" y="4038480"/>
            <a:ext cx="1600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Art Y, qté 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086600" y="4724280"/>
            <a:ext cx="1600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Art X, qté 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086600" y="5257800"/>
            <a:ext cx="1600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Art T, qté 1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4" name=""/>
          <p:cNvCxnSpPr>
            <a:stCxn id="74" idx="3"/>
            <a:endCxn id="76" idx="1"/>
          </p:cNvCxnSpPr>
          <p:nvPr/>
        </p:nvCxnSpPr>
        <p:spPr>
          <a:xfrm>
            <a:off x="2362320" y="1599840"/>
            <a:ext cx="45792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5" name=""/>
          <p:cNvCxnSpPr>
            <a:stCxn id="74" idx="3"/>
            <a:endCxn id="77" idx="1"/>
          </p:cNvCxnSpPr>
          <p:nvPr/>
        </p:nvCxnSpPr>
        <p:spPr>
          <a:xfrm>
            <a:off x="2362320" y="1599840"/>
            <a:ext cx="457920" cy="1220040"/>
          </a:xfrm>
          <a:prstGeom prst="bentConnector3">
            <a:avLst>
              <a:gd name="adj1" fmla="val 499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75" idx="3"/>
            <a:endCxn id="78" idx="1"/>
          </p:cNvCxnSpPr>
          <p:nvPr/>
        </p:nvCxnSpPr>
        <p:spPr>
          <a:xfrm>
            <a:off x="2362320" y="3733560"/>
            <a:ext cx="45792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7" name=""/>
          <p:cNvCxnSpPr>
            <a:stCxn id="75" idx="3"/>
            <a:endCxn id="79" idx="1"/>
          </p:cNvCxnSpPr>
          <p:nvPr/>
        </p:nvCxnSpPr>
        <p:spPr>
          <a:xfrm>
            <a:off x="2362320" y="3733920"/>
            <a:ext cx="457920" cy="1219680"/>
          </a:xfrm>
          <a:prstGeom prst="bentConnector3">
            <a:avLst>
              <a:gd name="adj1" fmla="val 499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8" name=""/>
          <p:cNvCxnSpPr>
            <a:stCxn id="76" idx="3"/>
            <a:endCxn id="80" idx="1"/>
          </p:cNvCxnSpPr>
          <p:nvPr/>
        </p:nvCxnSpPr>
        <p:spPr>
          <a:xfrm>
            <a:off x="4419360" y="1599840"/>
            <a:ext cx="6102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9" name=""/>
          <p:cNvCxnSpPr>
            <a:stCxn id="76" idx="3"/>
            <a:endCxn id="81" idx="1"/>
          </p:cNvCxnSpPr>
          <p:nvPr/>
        </p:nvCxnSpPr>
        <p:spPr>
          <a:xfrm>
            <a:off x="4419360" y="1600200"/>
            <a:ext cx="610200" cy="5342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77" idx="3"/>
            <a:endCxn id="82" idx="1"/>
          </p:cNvCxnSpPr>
          <p:nvPr/>
        </p:nvCxnSpPr>
        <p:spPr>
          <a:xfrm>
            <a:off x="4419360" y="2819160"/>
            <a:ext cx="6102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78" idx="3"/>
            <a:endCxn id="83" idx="1"/>
          </p:cNvCxnSpPr>
          <p:nvPr/>
        </p:nvCxnSpPr>
        <p:spPr>
          <a:xfrm>
            <a:off x="4419360" y="3733560"/>
            <a:ext cx="6102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78" idx="3"/>
            <a:endCxn id="84" idx="1"/>
          </p:cNvCxnSpPr>
          <p:nvPr/>
        </p:nvCxnSpPr>
        <p:spPr>
          <a:xfrm>
            <a:off x="4419360" y="3733560"/>
            <a:ext cx="610200" cy="5338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"/>
          <p:cNvSpPr/>
          <p:nvPr/>
        </p:nvSpPr>
        <p:spPr>
          <a:xfrm>
            <a:off x="5029200" y="5791320"/>
            <a:ext cx="1600200" cy="457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igne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086600" y="5791320"/>
            <a:ext cx="1600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Art U, qté 2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5" name=""/>
          <p:cNvCxnSpPr>
            <a:stCxn id="79" idx="3"/>
            <a:endCxn id="85" idx="1"/>
          </p:cNvCxnSpPr>
          <p:nvPr/>
        </p:nvCxnSpPr>
        <p:spPr>
          <a:xfrm>
            <a:off x="4419360" y="4952520"/>
            <a:ext cx="6102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"/>
          <p:cNvCxnSpPr>
            <a:stCxn id="79" idx="3"/>
            <a:endCxn id="86" idx="1"/>
          </p:cNvCxnSpPr>
          <p:nvPr/>
        </p:nvCxnSpPr>
        <p:spPr>
          <a:xfrm>
            <a:off x="4419360" y="4952880"/>
            <a:ext cx="610200" cy="5342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79" idx="3"/>
            <a:endCxn id="103" idx="1"/>
          </p:cNvCxnSpPr>
          <p:nvPr/>
        </p:nvCxnSpPr>
        <p:spPr>
          <a:xfrm>
            <a:off x="4419360" y="4952880"/>
            <a:ext cx="610200" cy="10677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80" idx="3"/>
            <a:endCxn id="87" idx="1"/>
          </p:cNvCxnSpPr>
          <p:nvPr/>
        </p:nvCxnSpPr>
        <p:spPr>
          <a:xfrm>
            <a:off x="6629400" y="1599840"/>
            <a:ext cx="45792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9" name=""/>
          <p:cNvCxnSpPr>
            <a:stCxn id="81" idx="3"/>
            <a:endCxn id="88" idx="1"/>
          </p:cNvCxnSpPr>
          <p:nvPr/>
        </p:nvCxnSpPr>
        <p:spPr>
          <a:xfrm>
            <a:off x="6629400" y="2133360"/>
            <a:ext cx="45792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0" name=""/>
          <p:cNvCxnSpPr>
            <a:stCxn id="82" idx="3"/>
            <a:endCxn id="89" idx="1"/>
          </p:cNvCxnSpPr>
          <p:nvPr/>
        </p:nvCxnSpPr>
        <p:spPr>
          <a:xfrm>
            <a:off x="6629400" y="2819160"/>
            <a:ext cx="45792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1" name=""/>
          <p:cNvCxnSpPr>
            <a:stCxn id="83" idx="3"/>
            <a:endCxn id="90" idx="1"/>
          </p:cNvCxnSpPr>
          <p:nvPr/>
        </p:nvCxnSpPr>
        <p:spPr>
          <a:xfrm>
            <a:off x="6629400" y="3733560"/>
            <a:ext cx="45792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2" name=""/>
          <p:cNvCxnSpPr>
            <a:stCxn id="84" idx="3"/>
            <a:endCxn id="91" idx="1"/>
          </p:cNvCxnSpPr>
          <p:nvPr/>
        </p:nvCxnSpPr>
        <p:spPr>
          <a:xfrm>
            <a:off x="6629400" y="4266720"/>
            <a:ext cx="45792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3" name=""/>
          <p:cNvCxnSpPr>
            <a:stCxn id="85" idx="3"/>
            <a:endCxn id="92" idx="1"/>
          </p:cNvCxnSpPr>
          <p:nvPr/>
        </p:nvCxnSpPr>
        <p:spPr>
          <a:xfrm>
            <a:off x="6629400" y="4952520"/>
            <a:ext cx="45792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4" name=""/>
          <p:cNvCxnSpPr>
            <a:stCxn id="86" idx="3"/>
            <a:endCxn id="93" idx="1"/>
          </p:cNvCxnSpPr>
          <p:nvPr/>
        </p:nvCxnSpPr>
        <p:spPr>
          <a:xfrm>
            <a:off x="6629400" y="5486040"/>
            <a:ext cx="45792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5" name=""/>
          <p:cNvCxnSpPr>
            <a:stCxn id="103" idx="3"/>
            <a:endCxn id="104" idx="1"/>
          </p:cNvCxnSpPr>
          <p:nvPr/>
        </p:nvCxnSpPr>
        <p:spPr>
          <a:xfrm>
            <a:off x="6629400" y="6019560"/>
            <a:ext cx="45792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Gérard Baglin, 1998-200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678EC-C97D-4678-85AE-3FAEA087A4B3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DF4F4A-769D-4831-9486-5C54F51F85F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6" name=""/>
          <p:cNvGraphicFramePr/>
          <p:nvPr/>
        </p:nvGraphicFramePr>
        <p:xfrm>
          <a:off x="552600" y="1606680"/>
          <a:ext cx="6457680" cy="482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2600" y="1606680"/>
                    <a:ext cx="6457680" cy="482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3399"/>
                </a:solidFill>
                <a:latin typeface="Tahoma"/>
              </a:rPr>
              <a:t>Les en-têtes de commande</a:t>
            </a:r>
            <a:endParaRPr b="0" lang="en-US" sz="44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19" name=""/>
          <p:cNvSpPr/>
          <p:nvPr/>
        </p:nvSpPr>
        <p:spPr>
          <a:xfrm>
            <a:off x="536400" y="1066680"/>
            <a:ext cx="302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9900"/>
                </a:solidFill>
                <a:latin typeface="Arial"/>
              </a:rPr>
              <a:t>Accès par le menu Acha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477120" y="1143000"/>
            <a:ext cx="2666880" cy="914400"/>
          </a:xfrm>
          <a:prstGeom prst="wedgeRoundRectCallout">
            <a:avLst>
              <a:gd name="adj1" fmla="val -31787"/>
              <a:gd name="adj2" fmla="val 64064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1- Affectation </a:t>
            </a:r>
            <a:br>
              <a:rPr sz="1800"/>
            </a:b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du premier numéro </a:t>
            </a:r>
            <a:br>
              <a:rPr sz="1800"/>
            </a:b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disponi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2438280"/>
            <a:ext cx="2210040" cy="762120"/>
          </a:xfrm>
          <a:prstGeom prst="wedgeRoundRectCallout">
            <a:avLst>
              <a:gd name="adj1" fmla="val -71194"/>
              <a:gd name="adj2" fmla="val -65208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2- Saisie du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du fournisseu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523880" y="3352680"/>
            <a:ext cx="2210040" cy="762120"/>
          </a:xfrm>
          <a:prstGeom prst="wedgeRoundRectCallout">
            <a:avLst>
              <a:gd name="adj1" fmla="val -18175"/>
              <a:gd name="adj2" fmla="val -81666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3- Saisie de la d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de livrais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705720" y="4495680"/>
            <a:ext cx="2286000" cy="762120"/>
          </a:xfrm>
          <a:prstGeom prst="wedgeRoundRectCallout">
            <a:avLst>
              <a:gd name="adj1" fmla="val -42013"/>
              <a:gd name="adj2" fmla="val -232083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4- Saisie des lig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de la comman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Gérard Baglin, 1998-200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CC9A5-D796-4616-A62F-AA3EC2C520A3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1CC03D-2346-4BDD-A0D2-B71BBB1C3DA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3399"/>
                </a:solidFill>
                <a:latin typeface="Tahoma"/>
              </a:rPr>
              <a:t>Les lignes de commande</a:t>
            </a:r>
            <a:endParaRPr b="0" lang="en-US" sz="4000" spc="-1" strike="noStrike">
              <a:solidFill>
                <a:srgbClr val="003399"/>
              </a:solidFill>
              <a:latin typeface="Tahoma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380880" y="1666800"/>
          <a:ext cx="6229440" cy="4657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666800"/>
                    <a:ext cx="6229440" cy="465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" name=""/>
          <p:cNvSpPr/>
          <p:nvPr/>
        </p:nvSpPr>
        <p:spPr>
          <a:xfrm>
            <a:off x="6400800" y="4343400"/>
            <a:ext cx="2286000" cy="1066680"/>
          </a:xfrm>
          <a:prstGeom prst="wedgeRoundRectCallout">
            <a:avLst>
              <a:gd name="adj1" fmla="val -57708"/>
              <a:gd name="adj2" fmla="val -158629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Appel des ord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d’achat ferm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pour le fournisseu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1752480" y="1371600"/>
          <a:ext cx="5388120" cy="3913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52480" y="1371600"/>
                    <a:ext cx="5388120" cy="391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" name=""/>
          <p:cNvSpPr/>
          <p:nvPr/>
        </p:nvSpPr>
        <p:spPr>
          <a:xfrm>
            <a:off x="6337440" y="2178000"/>
            <a:ext cx="2590560" cy="990720"/>
          </a:xfrm>
          <a:prstGeom prst="wedgeRoundRectCallout">
            <a:avLst>
              <a:gd name="adj1" fmla="val -54532"/>
              <a:gd name="adj2" fmla="val -87018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Valider pour transfér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 ’OA dans la lig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de comman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Gérard Baglin, 1998-200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D3163-D9F1-4035-8014-775E6440EB71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6999AF-6A64-4630-96D6-95C7E65EA2F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02T15:40:36Z</dcterms:created>
  <dc:creator>Gérard Baglin</dc:creator>
  <dc:description/>
  <dc:language>en-US</dc:language>
  <cp:lastModifiedBy>Groupe HEC</cp:lastModifiedBy>
  <dcterms:modified xsi:type="dcterms:W3CDTF">2005-11-24T07:08:40Z</dcterms:modified>
  <cp:revision>64</cp:revision>
  <dc:subject/>
  <dc:title>Prélude Production 4</dc:title>
</cp:coreProperties>
</file>