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427-3F9F-4938-A399-4B1F7C74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6D4-32F6-47E0-A091-91E8617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12D-2EB6-4C95-8309-AF420ED6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02C-EDF4-4B4E-A807-1B951BC3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131-6523-4B5F-B5C2-3CA883E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BCA-E55A-45A2-BC10-5707D300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D12-B730-4B7F-9FA1-D5A4795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97C-9ADC-428D-B3E2-27D4877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868-DB2E-4A85-A44C-798EE02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421-9AA1-4F6A-B718-B24607E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6D3-22B3-41A1-8A9A-564FB8E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A7C-81AB-4FFD-BDB2-CA1375A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329-262E-490E-BA67-0E0856417C8F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78FE-5CF0-47F7-A27C-6F59F04904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Visite05.ppt" TargetMode="External"/><Relationship Id="rId2" Type="http://schemas.openxmlformats.org/officeDocument/2006/relationships/hyperlink" Target="file:///Visite05.ppt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Visite guidée - sess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tocks initi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 suivi des stock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s les articles stockés sont conservés dans des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agasin est u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eu phys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sto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 modification d’une quantité d’un article dans un magasin se réalise par un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mouvement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32A-22C0-4EE4-B6E8-7021972A85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CB0BD-6E8E-4454-B63C-FAC801265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s statuts de stock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un magasin, les articles peuvent avoir plusieurs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statu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ont deux principaux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DISP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REFA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réservés pour la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08B-2B26-4757-A8DB-3B205F47B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CE703-DCDE-4FEF-BF23-EC5B3E5DA8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Nombreux types de mouvements de stock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 de l’inv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rée sur commande fourniss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D : sortie du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 : entrée en réservation pour la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R : sortie de ré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D : entrée en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 : sortie sur command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1D8-A049-4A94-8AB2-B845C649AC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0C53E-65DC-4E76-BBDB-F3A2FCBA9B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Saisie des stocks initiaux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296000" y="99072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: menu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Stock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option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Inve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66680" y="1447920"/>
          <a:ext cx="615312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6153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2AF-7FF5-4E66-9FB2-09B3644DF4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8036-EEAB-42C1-8B0F-36E42D6D6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Interrogation des stocks dans les magasin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1523880"/>
          <a:ext cx="6248160" cy="46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624816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10A-BF25-491D-91AF-10D3CB232E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5299B-C2DD-4491-B6B4-1A7A4D1970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Interrogation des stocks par articl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990720"/>
          <a:ext cx="69912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69912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9E0-41DD-4500-BD0C-78B414DC41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599F-4F02-4DBE-B346-5E68E860D5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in de la session 4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888200" y="4267080"/>
            <a:ext cx="51246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aisie des commandes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029-15BD-402A-B229-2571128615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D0C2E-C3F3-4614-8ACE-3259D4AB5A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11-23T20:05:32Z</dcterms:modified>
  <cp:revision>43</cp:revision>
  <dc:subject/>
  <dc:title>Prélude Production 4</dc:title>
</cp:coreProperties>
</file>