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BB4-5911-4377-BEB9-04DE9B69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9E4-8CA2-4103-BC77-DD0C7092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925-987F-4101-9573-CB3DD909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9EF-251B-49B9-BFD1-1D4CF329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F78-3F20-432B-BD4E-AAEB1E27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446-ABDF-4FC8-9B85-E44E319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C4C-1314-49D0-8E79-52C792F7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6D1-CCD0-4B4F-A13E-140F4FCD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C91-3FC2-42F7-B20A-3CCCC393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9B2-0427-4E76-B465-9A854769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DD6-DA63-49BA-83D4-A739A47A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E92-DC5B-4B99-9749-DF40315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135-18D0-4DC1-84F9-231B49CA7D4D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EEF9-5343-4F30-B6AD-A6B048D7C0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Visite02.ppt" TargetMode="External"/><Relationship Id="rId2" Type="http://schemas.openxmlformats.org/officeDocument/2006/relationships/hyperlink" Target="file:///Visite02.ppt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Arial"/>
              </a:rPr>
              <a:t>Visite guidée - sess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09480" y="1600200"/>
          <a:ext cx="647712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47712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a saisie du fournisseu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1430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9933"/>
                </a:solidFill>
                <a:latin typeface="Tahoma"/>
              </a:rPr>
              <a:t>Accès : Menu </a:t>
            </a: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Achats</a:t>
            </a:r>
            <a:r>
              <a:rPr b="0" lang="fr-FR" sz="2000" spc="-1" strike="noStrike">
                <a:solidFill>
                  <a:srgbClr val="339933"/>
                </a:solidFill>
                <a:latin typeface="Tahoma"/>
              </a:rPr>
              <a:t>, Option </a:t>
            </a: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Fournis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952880"/>
            <a:ext cx="3733560" cy="762120"/>
          </a:xfrm>
          <a:prstGeom prst="wedgeRoundRectCallout">
            <a:avLst>
              <a:gd name="adj1" fmla="val -73555"/>
              <a:gd name="adj2" fmla="val -9645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Sélectionner la condition de paiement ‘CP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743200"/>
            <a:ext cx="3505320" cy="1371600"/>
          </a:xfrm>
          <a:prstGeom prst="wedgeRoundRectCallout">
            <a:avLst>
              <a:gd name="adj1" fmla="val -105615"/>
              <a:gd name="adj2" fmla="val -978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Saisir son co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 son n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les autres zone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nt facultati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1600200"/>
            <a:ext cx="1295280" cy="457200"/>
          </a:xfrm>
          <a:prstGeom prst="wedgeRoundRectCallout">
            <a:avLst>
              <a:gd name="adj1" fmla="val -88601"/>
              <a:gd name="adj2" fmla="val 3159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466-8124-4C22-8349-A862B8B1D6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DCCAE-5A86-440D-8E6D-69409268D3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es types d’articl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ux types d’articles selon leu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rticles </a:t>
            </a: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fabriqu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s auront une </a:t>
            </a:r>
            <a:r>
              <a:rPr b="1" i="1" lang="fr-FR" sz="2400" spc="-1" strike="noStrike">
                <a:solidFill>
                  <a:srgbClr val="339933"/>
                </a:solidFill>
                <a:latin typeface="Arial"/>
              </a:rPr>
              <a:t>gamme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rticle </a:t>
            </a: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ach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s devront avoir un </a:t>
            </a:r>
            <a:r>
              <a:rPr b="1" i="1" lang="fr-FR" sz="2400" spc="-1" strike="noStrike">
                <a:solidFill>
                  <a:srgbClr val="339933"/>
                </a:solidFill>
                <a:latin typeface="Arial"/>
              </a:rPr>
              <a:t>fournisseur</a:t>
            </a:r>
            <a:br>
              <a:rPr sz="2400"/>
            </a:br>
            <a:r>
              <a:rPr b="1" i="1" lang="fr-FR" sz="24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réer un article, il faut préciser son type </a:t>
            </a:r>
            <a:br>
              <a:rPr sz="3200"/>
            </a:b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(qui n’est pas modifiable ultérieur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6D5-6C64-4DC5-A839-2D733E2D8C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8EA6C-C4BC-4AC8-874C-823F3BF265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447920" y="990720"/>
          <a:ext cx="7296120" cy="54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90720"/>
                    <a:ext cx="7296120" cy="54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Créer les artic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990720"/>
            <a:ext cx="2057400" cy="685800"/>
          </a:xfrm>
          <a:prstGeom prst="wedgeRoundRectCallout">
            <a:avLst>
              <a:gd name="adj1" fmla="val -66203"/>
              <a:gd name="adj2" fmla="val 1388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1- Sélectio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e type de l’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143000"/>
            <a:ext cx="1752840" cy="914400"/>
          </a:xfrm>
          <a:prstGeom prst="wedgeRoundRectCallout">
            <a:avLst>
              <a:gd name="adj1" fmla="val 80254"/>
              <a:gd name="adj2" fmla="val -1631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2- Entrer l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e l’article 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on libell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209680"/>
            <a:ext cx="1752840" cy="990720"/>
          </a:xfrm>
          <a:prstGeom prst="wedgeRoundRectCallout">
            <a:avLst>
              <a:gd name="adj1" fmla="val 60416"/>
              <a:gd name="adj2" fmla="val -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3- Entr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e code Unité 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e code Maga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505320"/>
            <a:ext cx="1676520" cy="990360"/>
          </a:xfrm>
          <a:prstGeom prst="wedgeRoundRectCallout">
            <a:avLst>
              <a:gd name="adj1" fmla="val 80018"/>
              <a:gd name="adj2" fmla="val -8557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4- Au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facult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886200"/>
            <a:ext cx="1600200" cy="762120"/>
          </a:xfrm>
          <a:prstGeom prst="wedgeRoundRectCallout">
            <a:avLst>
              <a:gd name="adj1" fmla="val -43055"/>
              <a:gd name="adj2" fmla="val -232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6- Cliquer s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’ong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aramè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05520"/>
            <a:ext cx="2895480" cy="533160"/>
          </a:xfrm>
          <a:prstGeom prst="wedgeRoundRectCallout">
            <a:avLst>
              <a:gd name="adj1" fmla="val -50217"/>
              <a:gd name="adj2" fmla="val -919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5- Saisir le prix de v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811-E69A-4376-931A-D5A6B6C991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8A290-D870-49FB-84AC-1D83531DD9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Mode de gestion </a:t>
            </a:r>
            <a:br>
              <a:rPr sz="4400"/>
            </a:b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et délai d’obtention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800" spc="-1" strike="noStrike">
                <a:solidFill>
                  <a:srgbClr val="339933"/>
                </a:solidFill>
                <a:latin typeface="Arial"/>
              </a:rPr>
              <a:t>mode de ges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la </a:t>
            </a:r>
            <a:r>
              <a:rPr b="0" lang="fr-FR" sz="2800" spc="-1" strike="noStrike">
                <a:solidFill>
                  <a:srgbClr val="339933"/>
                </a:solidFill>
                <a:latin typeface="Arial"/>
              </a:rPr>
              <a:t>règle de regroupeme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éfinissent la façon dont l’article sera planif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800" spc="-1" strike="noStrike">
                <a:solidFill>
                  <a:srgbClr val="339933"/>
                </a:solidFill>
                <a:latin typeface="Arial"/>
              </a:rPr>
              <a:t>délai d’obten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ndique le nombre de jours normalement nécessaires pour obtenir l’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près du fournisseur (articles ache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l’atelier (articles fabriqu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658-3E83-4FB2-93E8-A76D9FB575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6DFC6-5D17-48AC-87ED-F71A0E444A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85800" y="1143000"/>
          <a:ext cx="6781680" cy="50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678168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Créer les artic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676520"/>
            <a:ext cx="2210040" cy="838080"/>
          </a:xfrm>
          <a:prstGeom prst="wedgeRoundRectCallout">
            <a:avLst>
              <a:gd name="adj1" fmla="val -21120"/>
              <a:gd name="adj2" fmla="val 10738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7- Sélectio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e mode de 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ans la liste déro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038480"/>
            <a:ext cx="2590920" cy="609840"/>
          </a:xfrm>
          <a:prstGeom prst="wedgeRoundRectCallout">
            <a:avLst>
              <a:gd name="adj1" fmla="val -6925"/>
              <a:gd name="adj2" fmla="val -14739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8- Sélectio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a règle de regrou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1905120" cy="609480"/>
          </a:xfrm>
          <a:prstGeom prst="wedgeRoundRectCallout">
            <a:avLst>
              <a:gd name="adj1" fmla="val -47833"/>
              <a:gd name="adj2" fmla="val -17525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9- Ent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e délai d’ob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2590920"/>
            <a:ext cx="1143000" cy="609480"/>
          </a:xfrm>
          <a:prstGeom prst="wedgeRoundRectCallout">
            <a:avLst>
              <a:gd name="adj1" fmla="val -65277"/>
              <a:gd name="adj2" fmla="val -21718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Val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EBC-38F7-4C50-A6F3-6890DAD3E4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C74ED-BADE-44AB-81FE-CF74B7E24B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52600" y="1719360"/>
          <a:ext cx="63054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719360"/>
                    <a:ext cx="63054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Affectation des fournisseur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1828800"/>
            <a:ext cx="1523880" cy="914400"/>
          </a:xfrm>
          <a:prstGeom prst="wedgeRoundRectCallout">
            <a:avLst>
              <a:gd name="adj1" fmla="val 16356"/>
              <a:gd name="adj2" fmla="val 7239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1- Sélectionner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’ong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Fourniss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886200"/>
            <a:ext cx="1828800" cy="838080"/>
          </a:xfrm>
          <a:prstGeom prst="wedgeRoundRectCallout">
            <a:avLst>
              <a:gd name="adj1" fmla="val -22916"/>
              <a:gd name="adj2" fmla="val -9109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2- Cliquer s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e bou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Ajouter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4200" y="114300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33"/>
                </a:solidFill>
                <a:latin typeface="Tahoma"/>
              </a:rPr>
              <a:t>Pour les articles ache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575-D793-4C0E-9995-423188A4E6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B433C-90ED-4849-BD2C-C8D62294BA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371600"/>
          <a:ext cx="68389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68389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Affectation des fournisseur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1676520"/>
            <a:ext cx="1905120" cy="1143000"/>
          </a:xfrm>
          <a:prstGeom prst="wedgeRoundRectCallout">
            <a:avLst>
              <a:gd name="adj1" fmla="val -132916"/>
              <a:gd name="adj2" fmla="val -861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1 - Saisir l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u fourniss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(ou le sélectionn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ans la list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recherch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4419720"/>
            <a:ext cx="1676520" cy="761760"/>
          </a:xfrm>
          <a:prstGeom prst="wedgeRoundRectCallout">
            <a:avLst>
              <a:gd name="adj1" fmla="val -110986"/>
              <a:gd name="adj2" fmla="val -7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3 - Saisir le déla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e livr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429000"/>
            <a:ext cx="1143000" cy="609480"/>
          </a:xfrm>
          <a:prstGeom prst="wedgeRoundRectCallout">
            <a:avLst>
              <a:gd name="adj1" fmla="val -27361"/>
              <a:gd name="adj2" fmla="val -25520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Val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200400"/>
            <a:ext cx="1676160" cy="762120"/>
          </a:xfrm>
          <a:prstGeom prst="wedgeRoundRectCallout">
            <a:avLst>
              <a:gd name="adj1" fmla="val -113824"/>
              <a:gd name="adj2" fmla="val -58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2 - Saisir le pri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’a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99D-671B-422D-AEA4-866039B090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E1746-7F0C-42DD-B85E-3157D9F407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52600" y="1208160"/>
          <a:ext cx="6991200" cy="52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208160"/>
                    <a:ext cx="699120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Affectation des fournisseur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4419720"/>
            <a:ext cx="2286000" cy="533160"/>
          </a:xfrm>
          <a:prstGeom prst="wedgeRoundRectCallout">
            <a:avLst>
              <a:gd name="adj1" fmla="val -24097"/>
              <a:gd name="adj2" fmla="val -1261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1 - Le fourniss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apparaît dans la li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2362320"/>
            <a:ext cx="1600200" cy="609480"/>
          </a:xfrm>
          <a:prstGeom prst="wedgeRoundRectCallout">
            <a:avLst>
              <a:gd name="adj1" fmla="val -25495"/>
              <a:gd name="adj2" fmla="val 8125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2 - Cliquer s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électio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733920"/>
            <a:ext cx="2286000" cy="685800"/>
          </a:xfrm>
          <a:prstGeom prst="wedgeRoundRectCallout">
            <a:avLst>
              <a:gd name="adj1" fmla="val -50902"/>
              <a:gd name="adj2" fmla="val -8032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3 - Il est le fourniss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rivilégié de l’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2438280"/>
            <a:ext cx="1143000" cy="609840"/>
          </a:xfrm>
          <a:prstGeom prst="wedgeRoundRectCallout">
            <a:avLst>
              <a:gd name="adj1" fmla="val -81527"/>
              <a:gd name="adj2" fmla="val -15468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Val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1E5-154A-463A-BDF9-C23460E624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841A5-23BB-46EF-8172-CA7B073E0C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Fournisseurs multipl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article acheté peut être approvisionné auprès de </a:t>
            </a:r>
            <a:r>
              <a:rPr b="0" lang="fr-FR" sz="2800" spc="-1" strike="noStrike">
                <a:solidFill>
                  <a:srgbClr val="339933"/>
                </a:solidFill>
                <a:latin typeface="Arial"/>
              </a:rPr>
              <a:t>plusieurs fourn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enregistre dans la fiche article tous les fournisseurs potentiel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et leurs délai de livrai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sélectionne un </a:t>
            </a:r>
            <a:r>
              <a:rPr b="0" lang="fr-FR" sz="2800" spc="-1" strike="noStrike">
                <a:solidFill>
                  <a:srgbClr val="339933"/>
                </a:solidFill>
                <a:latin typeface="Arial"/>
              </a:rPr>
              <a:t>fournisseur privilégié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sur lequel seront émises les suggestions d’ach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50B-8526-413B-A827-86868C7C163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EC0B1-0AAD-43A1-8554-B13FD0DBFE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Liste des artic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1219320"/>
          <a:ext cx="6914880" cy="51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9148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D98-9DB4-40EC-B391-9C59A5703C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A07AE-3425-4DDA-9ED0-899E9274AF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Défini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articles représentent toutes matières dont on veut gérer les flux et les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peuvent être </a:t>
            </a:r>
            <a:r>
              <a:rPr b="0" lang="fr-FR" sz="3200" spc="-1" strike="noStrike">
                <a:solidFill>
                  <a:srgbClr val="339933"/>
                </a:solidFill>
                <a:latin typeface="Arial"/>
              </a:rPr>
              <a:t>acheté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3200" spc="-1" strike="noStrike">
                <a:solidFill>
                  <a:srgbClr val="339933"/>
                </a:solidFill>
                <a:latin typeface="Arial"/>
              </a:rPr>
              <a:t>fabriqu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182-56DB-45F5-B15D-D280119F8F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B5C53-2B5D-4BF3-B03A-C99ABB5D31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Fin de la session 1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237040" y="4267080"/>
            <a:ext cx="441432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Saisie des nomencl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4760" y="19810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Tahoma"/>
              </a:rPr>
              <a:t>Effectuer une sauvegarde sous le nom Picaso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Tahoma"/>
              </a:rPr>
              <a:t>Dupliquer le dossier sous le nom Picaso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6AB-73F8-4C61-BCBF-7B7BFFCC00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34094-55BF-417F-B6CF-B74457C599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Tahoma"/>
              </a:rPr>
              <a:t>Procédure de création des artic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nseigner les tables de cod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tables </a:t>
            </a:r>
            <a:r>
              <a:rPr b="0" lang="fr-FR" sz="2400" spc="-1" strike="noStrike">
                <a:solidFill>
                  <a:srgbClr val="339933"/>
                </a:solidFill>
                <a:latin typeface="Arial"/>
              </a:rPr>
              <a:t>Unités de mesu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400" spc="-1" strike="noStrike">
                <a:solidFill>
                  <a:srgbClr val="339933"/>
                </a:solidFill>
                <a:latin typeface="Arial"/>
              </a:rPr>
              <a:t>Magasins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nt déjà renseig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éer le fourniss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trer les caractéristiques des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les articles achetés, affecter le fourniss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8EF-0AF2-4918-AF8B-93AD18AC96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7EE58-DB9E-4CB9-B60F-F6D37E4CF9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es tables de codification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06668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9933"/>
                </a:solidFill>
                <a:latin typeface="Tahoma"/>
              </a:rPr>
              <a:t>Accès : Menu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Données</a:t>
            </a:r>
            <a:r>
              <a:rPr b="0" lang="fr-FR" sz="2400" spc="-1" strike="noStrike">
                <a:solidFill>
                  <a:srgbClr val="339933"/>
                </a:solidFill>
                <a:latin typeface="Tahoma"/>
              </a:rPr>
              <a:t>, Option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9933"/>
                </a:solidFill>
                <a:latin typeface="Tahoma"/>
              </a:rPr>
              <a:t>Sélectionner l’onglet de la table à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00200" y="2133720"/>
          <a:ext cx="561960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6196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586-219B-45FB-8F39-9713254DFC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EB704-EE6F-434B-9E9E-E4B18EB846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Renseigner les tabl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comptabilité Tiers (clients et fournisseurs) requiert des informations complémentaires contenues dans quatre tabl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ble des taux de 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ble des catégories d’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ble des conditions de pai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ble des modes de règ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F39-A4D8-47A3-8BE5-F3927AFF3E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361D4-ED37-4784-A603-21B54A7EAD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Table des taux de TVA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52600" y="1320840"/>
          <a:ext cx="68389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320840"/>
                    <a:ext cx="68389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876920" y="2590920"/>
            <a:ext cx="2971800" cy="990360"/>
          </a:xfrm>
          <a:prstGeom prst="wedgeRoundRectCallout">
            <a:avLst>
              <a:gd name="adj1" fmla="val -84828"/>
              <a:gd name="adj2" fmla="val -2419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Entrer un code TVA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‘1’ par exe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is un libel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4343400"/>
            <a:ext cx="3124080" cy="762120"/>
          </a:xfrm>
          <a:prstGeom prst="wedgeRoundRectCallout">
            <a:avLst>
              <a:gd name="adj1" fmla="val -82620"/>
              <a:gd name="adj2" fmla="val -167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Entrer le taux de TVA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’19.6’ par exe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1600200"/>
            <a:ext cx="1295280" cy="457200"/>
          </a:xfrm>
          <a:prstGeom prst="wedgeRoundRectCallout">
            <a:avLst>
              <a:gd name="adj1" fmla="val -74263"/>
              <a:gd name="adj2" fmla="val -59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022-B740-470F-A472-C12DAB05D9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B4128-A4CC-4F50-BA2A-03DA7500D1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52600" y="1434960"/>
          <a:ext cx="668628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434960"/>
                    <a:ext cx="668628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Table des catégories d’articl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590920"/>
            <a:ext cx="2971800" cy="990360"/>
          </a:xfrm>
          <a:prstGeom prst="wedgeRoundRectCallout">
            <a:avLst>
              <a:gd name="adj1" fmla="val -84828"/>
              <a:gd name="adj2" fmla="val -2419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Entrer le code ‘*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is le libel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tégorie par défau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343400"/>
            <a:ext cx="3733920" cy="762120"/>
          </a:xfrm>
          <a:prstGeom prst="wedgeRoundRectCallout">
            <a:avLst>
              <a:gd name="adj1" fmla="val -60967"/>
              <a:gd name="adj2" fmla="val -167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Entrer le code TVA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ble à tous les 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1600200"/>
            <a:ext cx="1295280" cy="457200"/>
          </a:xfrm>
          <a:prstGeom prst="wedgeRoundRectCallout">
            <a:avLst>
              <a:gd name="adj1" fmla="val -74263"/>
              <a:gd name="adj2" fmla="val -59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500-DA6B-4282-B84B-01D575BCF6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4BC8A-1FE4-4751-818C-2944744558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2600" y="1492200"/>
          <a:ext cx="66103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492200"/>
                    <a:ext cx="66103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Table des conditions de paiemen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743200"/>
            <a:ext cx="3353040" cy="762120"/>
          </a:xfrm>
          <a:prstGeom prst="wedgeRoundRectCallout">
            <a:avLst>
              <a:gd name="adj1" fmla="val -80870"/>
              <a:gd name="adj2" fmla="val -1645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Entrer le code ‘CP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is le libellé ‘Comptan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343400"/>
            <a:ext cx="3733920" cy="990720"/>
          </a:xfrm>
          <a:prstGeom prst="wedgeRoundRectCallout">
            <a:avLst>
              <a:gd name="adj1" fmla="val -60967"/>
              <a:gd name="adj2" fmla="val -1407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Sélectio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l’option Comp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l’option Auc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1600200"/>
            <a:ext cx="1295280" cy="457200"/>
          </a:xfrm>
          <a:prstGeom prst="wedgeRoundRectCallout">
            <a:avLst>
              <a:gd name="adj1" fmla="val -74263"/>
              <a:gd name="adj2" fmla="val -59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736-BA90-419C-AB56-B87D205591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403CF-C96C-476B-A0B2-1CF47D882D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2600" y="1434960"/>
          <a:ext cx="668628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434960"/>
                    <a:ext cx="668628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Table des modes de règlemen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743200"/>
            <a:ext cx="3353040" cy="762120"/>
          </a:xfrm>
          <a:prstGeom prst="wedgeRoundRectCallout">
            <a:avLst>
              <a:gd name="adj1" fmla="val -80870"/>
              <a:gd name="adj2" fmla="val -1645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Entrer le code ‘CHK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is le libellé ‘Chèqu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600200"/>
            <a:ext cx="1295280" cy="457200"/>
          </a:xfrm>
          <a:prstGeom prst="wedgeRoundRectCallout">
            <a:avLst>
              <a:gd name="adj1" fmla="val -74263"/>
              <a:gd name="adj2" fmla="val -59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Va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B18-D9B6-4518-90C9-5125784899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D0392-F189-4F2E-8907-95A64F4287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2T15:23:47Z</dcterms:created>
  <dc:creator>Gérard Baglin</dc:creator>
  <dc:description/>
  <dc:language>en-US</dc:language>
  <cp:lastModifiedBy>Groupe HEC</cp:lastModifiedBy>
  <dcterms:modified xsi:type="dcterms:W3CDTF">2005-08-24T14:17:37Z</dcterms:modified>
  <cp:revision>43</cp:revision>
  <dc:subject/>
  <dc:title>Prélude Production 4</dc:title>
</cp:coreProperties>
</file>