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75C-CDDD-4F70-B4D4-E0262742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D2E-0D54-4E98-987E-1D35D272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542-B517-44A2-B20C-DA12C299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3E2-5F26-483A-BD99-91A29CD3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6CB-2712-407C-BC9F-77CC1675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922-152D-4449-B569-3D52D993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265-F1F1-43F7-806F-F06FA9F8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BEA-0CE4-42A1-9B2F-77EEC4D2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EE2-3955-47B5-97BB-9E188F74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8C0-5660-47EA-8055-881FA154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933-74AD-42A5-9D96-A2A3F4A3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F38-AC3B-476D-948A-7FCB8862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C018-A67E-4541-BE77-03079901874D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6760"/>
            <a:ext cx="19051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0175-4F57-4A9A-9BAA-3F6FB37A53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Visite01.ppt" TargetMode="External"/><Relationship Id="rId2" Type="http://schemas.openxmlformats.org/officeDocument/2006/relationships/hyperlink" Target="file:///Visite01.ppt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Prélude ERP 6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Arial"/>
              </a:rPr>
              <a:t>Visite guidée - sessio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mar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Appel du logiciel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iquer sur l’icône Prélude 6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si elle est présente sur le bur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ppeler Prélude à partir du menu Démar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chercher le programme Prelude.EXE dans le répertoire Prelude</a:t>
            </a:r>
            <a:br>
              <a:rPr sz="28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la position exacte sera précisée par l’animat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écran d’accueil s’aff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E9F-56F7-4F0E-B6D5-C4AEC9D603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C7F53-86FA-479E-85F6-3A92B9A480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830240" y="1424160"/>
          <a:ext cx="5483520" cy="40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0240" y="1424160"/>
                    <a:ext cx="5483520" cy="40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Bienvenu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5334120"/>
            <a:ext cx="1295280" cy="761760"/>
          </a:xfrm>
          <a:prstGeom prst="wedgeRoundRectCallout">
            <a:avLst>
              <a:gd name="adj1" fmla="val -77574"/>
              <a:gd name="adj2" fmla="val -5854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Val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F30-EEA3-4E38-837D-CAA9B0C469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7A12A-2AE7-4E5D-A36E-72EAF9C0F6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2036880"/>
          <a:ext cx="4486320" cy="37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36880"/>
                    <a:ext cx="4486320" cy="37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Créer un nouveau dossier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1905120"/>
            <a:ext cx="5791320" cy="3733560"/>
            <a:chOff x="2971800" y="1905120"/>
            <a:chExt cx="5791320" cy="3733560"/>
          </a:xfrm>
        </p:grpSpPr>
        <p:sp>
          <p:nvSpPr>
            <p:cNvPr id="53" name=""/>
            <p:cNvSpPr/>
            <p:nvPr/>
          </p:nvSpPr>
          <p:spPr>
            <a:xfrm>
              <a:off x="2971800" y="3276720"/>
              <a:ext cx="304920" cy="236196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98280 h 2361960"/>
                <a:gd name="textAreaBottom" fmla="*/ 226368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1905120"/>
              <a:ext cx="3124440" cy="685800"/>
            </a:xfrm>
            <a:prstGeom prst="wedgeRoundRectCallout">
              <a:avLst>
                <a:gd name="adj1" fmla="val -127134"/>
                <a:gd name="adj2" fmla="val 167592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1- Sélectionner le répertoire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« parent 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638680" y="4800600"/>
            <a:ext cx="3124440" cy="533520"/>
          </a:xfrm>
          <a:prstGeom prst="wedgeRoundRectCallout">
            <a:avLst>
              <a:gd name="adj1" fmla="val -95222"/>
              <a:gd name="adj2" fmla="val -9523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3- Créer des fichiers (vi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3581280"/>
            <a:ext cx="3124440" cy="990720"/>
          </a:xfrm>
          <a:prstGeom prst="wedgeRoundRectCallout">
            <a:avLst>
              <a:gd name="adj1" fmla="val -84449"/>
              <a:gd name="adj2" fmla="val 1281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2- Créer un répertoir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ui donner un n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icaso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5638680"/>
            <a:ext cx="2362320" cy="685800"/>
          </a:xfrm>
          <a:prstGeom prst="wedgeRoundRectCallout">
            <a:avLst>
              <a:gd name="adj1" fmla="val -108736"/>
              <a:gd name="adj2" fmla="val -32824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4- Cliquer sur « OK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uis sur « Ouvrir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447920" y="2895480"/>
          <a:ext cx="35416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5416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1FE-7459-4166-B9F0-093A03304C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B904A-BE54-4870-A052-F971206B66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85800" y="1212840"/>
          <a:ext cx="6934320" cy="50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2840"/>
                    <a:ext cx="693432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La fenêtre principal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3048120"/>
            <a:ext cx="2361960" cy="761760"/>
          </a:xfrm>
          <a:prstGeom prst="wedgeRoundRectCallout">
            <a:avLst>
              <a:gd name="adj1" fmla="val -65324"/>
              <a:gd name="adj2" fmla="val -18625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hanger la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en cliquant sur la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9880" y="2209680"/>
          <a:ext cx="287676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09680"/>
                    <a:ext cx="287676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181480" y="4952880"/>
            <a:ext cx="1676520" cy="990720"/>
          </a:xfrm>
          <a:prstGeom prst="wedgeRoundRectCallout">
            <a:avLst>
              <a:gd name="adj1" fmla="val -91856"/>
              <a:gd name="adj2" fmla="val -20336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électionn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a date dési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EEB-D444-444B-A94E-8997E12E6A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18BCF-EA52-4827-98DD-5A29B52DAE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Options du dossier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1462680" y="1523880"/>
            <a:ext cx="54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Tahoma"/>
              </a:rPr>
              <a:t>Accès par le menu</a:t>
            </a:r>
            <a:r>
              <a:rPr b="1" lang="fr-FR" sz="1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000099"/>
                </a:solidFill>
                <a:latin typeface="Tahoma"/>
              </a:rPr>
              <a:t>Fichiers</a:t>
            </a:r>
            <a:r>
              <a:rPr b="1" lang="fr-FR" sz="1800" spc="-1" strike="noStrike">
                <a:solidFill>
                  <a:srgbClr val="339933"/>
                </a:solidFill>
                <a:latin typeface="Tahoma"/>
              </a:rPr>
              <a:t>, option</a:t>
            </a:r>
            <a:r>
              <a:rPr b="1" lang="fr-FR" sz="1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000099"/>
                </a:solidFill>
                <a:latin typeface="Tahoma"/>
              </a:rPr>
              <a:t>Préfé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59800" y="594360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33"/>
                </a:solidFill>
                <a:latin typeface="Tahoma"/>
              </a:rPr>
              <a:t>Ne pas modifier les autres options par défa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2057400"/>
          <a:ext cx="612612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61261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019920" y="4876920"/>
            <a:ext cx="2514600" cy="685800"/>
          </a:xfrm>
          <a:prstGeom prst="wedgeRoundRectCallout">
            <a:avLst>
              <a:gd name="adj1" fmla="val -107384"/>
              <a:gd name="adj2" fmla="val -5763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cher la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tabilité T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5B6-777E-4C69-83D9-FA6948682B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0711A-EAB3-4ED7-A2DB-FA488D571A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Commentaire sur le dossier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1005480" y="1828800"/>
            <a:ext cx="54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Tahoma"/>
              </a:rPr>
              <a:t>Accès par le menu </a:t>
            </a:r>
            <a:r>
              <a:rPr b="1" lang="fr-FR" sz="1800" spc="-1" strike="noStrike">
                <a:solidFill>
                  <a:srgbClr val="000099"/>
                </a:solidFill>
                <a:latin typeface="Tahoma"/>
              </a:rPr>
              <a:t>Fichiers</a:t>
            </a:r>
            <a:r>
              <a:rPr b="1" lang="fr-FR" sz="1800" spc="-1" strike="noStrike">
                <a:solidFill>
                  <a:srgbClr val="339933"/>
                </a:solidFill>
                <a:latin typeface="Tahoma"/>
              </a:rPr>
              <a:t>, option </a:t>
            </a:r>
            <a:r>
              <a:rPr b="1" lang="fr-FR" sz="1800" spc="-1" strike="noStrike">
                <a:solidFill>
                  <a:srgbClr val="000099"/>
                </a:solidFill>
                <a:latin typeface="Tahoma"/>
              </a:rPr>
              <a:t>Préfé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143000" y="2286000"/>
          <a:ext cx="612612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1261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CFA-C2CD-4B3E-A16E-DF7AF7EA8C1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1662F-57F9-4079-AFB7-E38A89D9CF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85800" y="2362320"/>
          <a:ext cx="612612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61261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Masquer des contrôle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3733920"/>
            <a:ext cx="1219320" cy="380880"/>
          </a:xfrm>
          <a:prstGeom prst="wedgeRoundRectCallout">
            <a:avLst>
              <a:gd name="adj1" fmla="val -118879"/>
              <a:gd name="adj2" fmla="val -18125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Val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0000" y="1523880"/>
            <a:ext cx="749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9933"/>
                </a:solidFill>
                <a:latin typeface="Tahoma"/>
              </a:rPr>
              <a:t>Pour éviter des messages répétés au démarrag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9933"/>
                </a:solidFill>
                <a:latin typeface="Tahoma"/>
              </a:rPr>
              <a:t>cocher les cases dans la fenêtre </a:t>
            </a: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Préférences</a:t>
            </a:r>
            <a:r>
              <a:rPr b="0" lang="fr-FR" sz="2000" spc="-1" strike="noStrike">
                <a:solidFill>
                  <a:srgbClr val="339933"/>
                </a:solidFill>
                <a:latin typeface="Tahoma"/>
              </a:rPr>
              <a:t> onglet </a:t>
            </a: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Contrô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562720"/>
            <a:ext cx="1676520" cy="990360"/>
          </a:xfrm>
          <a:prstGeom prst="wedgeRoundRectCallout">
            <a:avLst>
              <a:gd name="adj1" fmla="val -221875"/>
              <a:gd name="adj2" fmla="val -17628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ocher 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213-A40A-492F-98E4-A30FE3AB40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18077-535A-45A5-8C7C-D06776478A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Tahoma"/>
              </a:rPr>
              <a:t>Fin de la session 0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648160" y="4267080"/>
            <a:ext cx="358524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asser à la sess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Saisie des 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4760" y="198108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ahoma"/>
              </a:rPr>
              <a:t>Effectuer une sauvegarde sous le nom Picaso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ahoma"/>
              </a:rPr>
              <a:t>Dupliquer le dossier sous le nom Picaso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érard Baglin, 1998-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206-A3EC-418D-AB01-4330571FFA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A3D63-4A8C-4612-BBF2-3D6C007CB9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2T15:23:47Z</dcterms:created>
  <dc:creator>Gérard Baglin</dc:creator>
  <dc:description/>
  <dc:language>en-US</dc:language>
  <cp:lastModifiedBy>Groupe HEC</cp:lastModifiedBy>
  <dcterms:modified xsi:type="dcterms:W3CDTF">2005-09-22T05:39:25Z</dcterms:modified>
  <cp:revision>51</cp:revision>
  <dc:subject/>
  <dc:title>Prélude Production 4</dc:title>
</cp:coreProperties>
</file>