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7B8FB-E1AF-4AAC-83DF-BAD57535567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B92FA-12CB-418D-9C00-FA93FEC3053C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E528F-D531-4CFD-9AC2-B91F9132D9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C12D7-19FF-4FD1-AB58-3D9EC63F6A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2133720"/>
            <a:ext cx="6955560" cy="3809880"/>
            <a:chOff x="762120" y="2133720"/>
            <a:chExt cx="6955560" cy="38098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486400" y="3344760"/>
              <a:ext cx="10666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77920"/>
              <a:ext cx="12189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658960" y="3352680"/>
              <a:ext cx="1540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58600" y="4114800"/>
              <a:ext cx="169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58600" y="4876920"/>
              <a:ext cx="11588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1140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658960" y="4716360"/>
              <a:ext cx="54936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31280" y="3222720"/>
              <a:ext cx="1302840" cy="2352960"/>
              <a:chOff x="1331280" y="3222720"/>
              <a:chExt cx="1302840" cy="235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2220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128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1120" y="2448000"/>
            <a:ext cx="168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34920" y="4124160"/>
            <a:ext cx="32076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17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17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18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97040" y="29718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134720" y="3429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497040" y="38862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134720" y="4572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497040" y="510552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