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3F4-FC36-4744-8B0D-5E5367EF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E3D-E54C-4FAE-9E6C-3E6EA05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E7E-DAC8-4FDB-A38B-F7665630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92B-0689-4E65-841D-031EB9B6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BF7-19EF-44DE-BE06-85E1F645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1F8-D045-4D54-B45A-DFDB1AF4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E71-F2E0-4050-995F-A9D99ED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613-CBB5-455C-9374-73584BE9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F78-3819-49EC-A161-262B86DC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0BF-2F21-425B-BB8B-7570D91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76D-1218-45AB-9024-D4FE580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84F-7190-4227-97D9-EE4A330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3F0-EB4B-4DFA-B4DC-CD61822B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360" y="1836720"/>
          <a:ext cx="5973840" cy="31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836720"/>
                    <a:ext cx="597384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295280"/>
          <a:ext cx="8686800" cy="45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371600"/>
          <a:ext cx="8382240" cy="49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38224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21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éma 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81280" y="838080"/>
          <a:ext cx="468648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838080"/>
                    <a:ext cx="468648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04920" y="129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éma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14600" y="2362320"/>
          <a:ext cx="35654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65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95880" y="23623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 AMDEC </a:t>
            </a: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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AIDE AU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38188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UT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ECOUPAGE DE L'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TUDIER LES DEFAILLANCES POSSIBLES SUR LES ORGAN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 rep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ssostats rep 9 e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oupape rep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"/>
              <a:tabLst>
                <a:tab algn="r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act KM tempor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GRILLE AM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ICHES D’AIDE AU DIAG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09:17:13Z</dcterms:created>
  <dc:creator>ISYPRO</dc:creator>
  <dc:description/>
  <dc:language>en-US</dc:language>
  <cp:lastModifiedBy>ISYPRO</cp:lastModifiedBy>
  <dcterms:modified xsi:type="dcterms:W3CDTF">2000-01-14T12:09:26Z</dcterms:modified>
  <cp:revision>1</cp:revision>
  <dc:subject/>
  <dc:title>Aucun titre de diapositive</dc:title>
</cp:coreProperties>
</file>