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0C2-3D7F-485C-BDF3-BF839FF8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1A5-F1D4-40BE-85C2-F296DC09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64E-A853-4377-87F9-DC386F39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EA2-D9A0-4D79-AA18-84E175CF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760-F200-484D-B312-9122836F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E16-0657-4E5C-8F8E-8DE047B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0D1-69F2-48D1-A169-F35D9506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8BB-28BD-414E-88DD-BC2C41A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D6F-9A85-40D8-8402-D84DDFC3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5C4-6B3A-45C6-9446-7F1BB0B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B15-FEA9-4691-8622-BF64C7E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6FF-58A9-4829-9A11-7F13BF7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85271C-19EE-4A08-AE5F-887FC7D7F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360" y="1836720"/>
          <a:ext cx="5973840" cy="31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836720"/>
                    <a:ext cx="597384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295280"/>
          <a:ext cx="8686800" cy="45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371600"/>
          <a:ext cx="8382240" cy="49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38224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éma 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81280" y="838080"/>
          <a:ext cx="468648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38080"/>
                    <a:ext cx="468648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049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éma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14600" y="2362320"/>
          <a:ext cx="35654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65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5880" y="2362320"/>
            <a:ext cx="180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GB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38188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T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COUPAGE DE L'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TUDIER LES DEFAILLANCES POSSIBLES SUR LES ORGA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 rep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sostats rep 9 e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upape rep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3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ct KM tempor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ILLE AM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CHES D’AIDE AU 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YPRO</dc:creator>
  <dc:description/>
  <dc:language>en-US</dc:language>
  <cp:lastModifiedBy>ISYPRO</cp:lastModifiedBy>
  <cp:revision>0</cp:revision>
  <dc:subject/>
  <dc:title>Aucun titre de diapositive</dc:title>
</cp:coreProperties>
</file>