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77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0" y="0"/>
            <a:ext cx="6858000" cy="977436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774360"/>
              <a:gd name="textAreaBottom" fmla="*/ 9774000 h 9774360"/>
            </a:gdLst>
            <a:ahLst/>
            <a:rect l="textAreaLeft" t="textAreaTop" r="textAreaRight" b="textAreaBottom"/>
            <a:pathLst>
              <a:path w="21600" h="30785">
                <a:moveTo>
                  <a:pt x="5" y="0"/>
                </a:moveTo>
                <a:arcTo wR="5" hR="5" stAng="16200000" swAng="-5400000"/>
                <a:lnTo>
                  <a:pt x="0" y="30780"/>
                </a:lnTo>
                <a:arcTo wR="5" hR="5" stAng="10800000" swAng="-5400000"/>
                <a:lnTo>
                  <a:pt x="21595" y="3078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6858000" cy="977436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774360"/>
              <a:gd name="textAreaBottom" fmla="*/ 9774000 h 9774360"/>
            </a:gdLst>
            <a:ahLst/>
            <a:rect l="textAreaLeft" t="textAreaTop" r="textAreaRight" b="textAreaBottom"/>
            <a:pathLst>
              <a:path w="21600" h="30785">
                <a:moveTo>
                  <a:pt x="5" y="0"/>
                </a:moveTo>
                <a:arcTo wR="5" hR="5" stAng="16200000" swAng="-5400000"/>
                <a:lnTo>
                  <a:pt x="0" y="30780"/>
                </a:lnTo>
                <a:arcTo wR="5" hR="5" stAng="10800000" swAng="-5400000"/>
                <a:lnTo>
                  <a:pt x="21595" y="3078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0"/>
            <a:ext cx="6858000" cy="977436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774360"/>
              <a:gd name="textAreaBottom" fmla="*/ 9774000 h 9774360"/>
            </a:gdLst>
            <a:ahLst/>
            <a:rect l="textAreaLeft" t="textAreaTop" r="textAreaRight" b="textAreaBottom"/>
            <a:pathLst>
              <a:path w="21600" h="30785">
                <a:moveTo>
                  <a:pt x="5" y="0"/>
                </a:moveTo>
                <a:arcTo wR="5" hR="5" stAng="16200000" swAng="-5400000"/>
                <a:lnTo>
                  <a:pt x="0" y="30780"/>
                </a:lnTo>
                <a:arcTo wR="5" hR="5" stAng="10800000" swAng="-5400000"/>
                <a:lnTo>
                  <a:pt x="21595" y="3078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6858000" cy="977436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774360"/>
              <a:gd name="textAreaBottom" fmla="*/ 9774000 h 9774360"/>
            </a:gdLst>
            <a:ahLst/>
            <a:rect l="textAreaLeft" t="textAreaTop" r="textAreaRight" b="textAreaBottom"/>
            <a:pathLst>
              <a:path w="21600" h="30785">
                <a:moveTo>
                  <a:pt x="5" y="0"/>
                </a:moveTo>
                <a:arcTo wR="5" hR="5" stAng="16200000" swAng="-5400000"/>
                <a:lnTo>
                  <a:pt x="0" y="30780"/>
                </a:lnTo>
                <a:arcTo wR="5" hR="5" stAng="10800000" swAng="-5400000"/>
                <a:lnTo>
                  <a:pt x="21595" y="3078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9360"/>
            <a:ext cx="297180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AMDE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886200" y="9360"/>
            <a:ext cx="297180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t">
            <a:sp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ONE 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9618480"/>
            <a:ext cx="297180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Prs M GABRIEL &amp; H MOL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886200" y="9618480"/>
            <a:ext cx="297180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sp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78F064-167A-46B7-B73A-8F3289F09DB7}" type="slidenum"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144440" y="851040"/>
            <a:ext cx="4567320" cy="342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body"/>
          </p:nvPr>
        </p:nvSpPr>
        <p:spPr>
          <a:xfrm>
            <a:off x="914040" y="4644720"/>
            <a:ext cx="5024520" cy="450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0480" y="9376920"/>
            <a:ext cx="996480" cy="291240"/>
          </a:xfrm>
          <a:prstGeom prst="roundRect">
            <a:avLst>
              <a:gd name="adj" fmla="val 51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060F07-C46A-4C70-ABB7-201DBD44E5BD}" type="slidenum">
              <a:rPr b="0" i="1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ldImg"/>
          </p:nvPr>
        </p:nvSpPr>
        <p:spPr>
          <a:xfrm>
            <a:off x="985680" y="742680"/>
            <a:ext cx="4881600" cy="366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"/>
          <p:cNvSpPr/>
          <p:nvPr/>
        </p:nvSpPr>
        <p:spPr>
          <a:xfrm>
            <a:off x="1144440" y="851040"/>
            <a:ext cx="4567320" cy="342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body"/>
          </p:nvPr>
        </p:nvSpPr>
        <p:spPr>
          <a:xfrm>
            <a:off x="914040" y="4644720"/>
            <a:ext cx="502596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"/>
          <p:cNvSpPr/>
          <p:nvPr/>
        </p:nvSpPr>
        <p:spPr>
          <a:xfrm>
            <a:off x="1144440" y="851040"/>
            <a:ext cx="4567320" cy="342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1"/>
          <p:cNvSpPr>
            <a:spLocks noGrp="1"/>
          </p:cNvSpPr>
          <p:nvPr>
            <p:ph type="body"/>
          </p:nvPr>
        </p:nvSpPr>
        <p:spPr>
          <a:xfrm>
            <a:off x="914040" y="4644720"/>
            <a:ext cx="502596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"/>
          <p:cNvSpPr/>
          <p:nvPr/>
        </p:nvSpPr>
        <p:spPr>
          <a:xfrm>
            <a:off x="1144440" y="851040"/>
            <a:ext cx="4567320" cy="342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body"/>
          </p:nvPr>
        </p:nvSpPr>
        <p:spPr>
          <a:xfrm>
            <a:off x="914040" y="4644720"/>
            <a:ext cx="502596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44440" y="851040"/>
            <a:ext cx="4567320" cy="342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PlaceHolder 1"/>
          <p:cNvSpPr>
            <a:spLocks noGrp="1"/>
          </p:cNvSpPr>
          <p:nvPr>
            <p:ph type="body"/>
          </p:nvPr>
        </p:nvSpPr>
        <p:spPr>
          <a:xfrm>
            <a:off x="914040" y="4644720"/>
            <a:ext cx="502596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"/>
          <p:cNvSpPr/>
          <p:nvPr/>
        </p:nvSpPr>
        <p:spPr>
          <a:xfrm>
            <a:off x="1144440" y="851040"/>
            <a:ext cx="4567320" cy="342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body"/>
          </p:nvPr>
        </p:nvSpPr>
        <p:spPr>
          <a:xfrm>
            <a:off x="914040" y="4644720"/>
            <a:ext cx="502596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"/>
          <p:cNvSpPr/>
          <p:nvPr/>
        </p:nvSpPr>
        <p:spPr>
          <a:xfrm>
            <a:off x="1144440" y="851040"/>
            <a:ext cx="4567320" cy="342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body"/>
          </p:nvPr>
        </p:nvSpPr>
        <p:spPr>
          <a:xfrm>
            <a:off x="914040" y="4644720"/>
            <a:ext cx="502596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1144440" y="851040"/>
            <a:ext cx="4567320" cy="342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body"/>
          </p:nvPr>
        </p:nvSpPr>
        <p:spPr>
          <a:xfrm>
            <a:off x="914040" y="4644720"/>
            <a:ext cx="502596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"/>
          <p:cNvSpPr/>
          <p:nvPr/>
        </p:nvSpPr>
        <p:spPr>
          <a:xfrm>
            <a:off x="1144440" y="851040"/>
            <a:ext cx="4567320" cy="342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body"/>
          </p:nvPr>
        </p:nvSpPr>
        <p:spPr>
          <a:xfrm>
            <a:off x="914040" y="4644720"/>
            <a:ext cx="502596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"/>
          <p:cNvSpPr/>
          <p:nvPr/>
        </p:nvSpPr>
        <p:spPr>
          <a:xfrm>
            <a:off x="1144440" y="851040"/>
            <a:ext cx="4567320" cy="342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body"/>
          </p:nvPr>
        </p:nvSpPr>
        <p:spPr>
          <a:xfrm>
            <a:off x="914040" y="4644720"/>
            <a:ext cx="502596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>
            <a:off x="1144440" y="851040"/>
            <a:ext cx="4567320" cy="342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body"/>
          </p:nvPr>
        </p:nvSpPr>
        <p:spPr>
          <a:xfrm>
            <a:off x="914040" y="4644720"/>
            <a:ext cx="502596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"/>
          <p:cNvSpPr/>
          <p:nvPr/>
        </p:nvSpPr>
        <p:spPr>
          <a:xfrm>
            <a:off x="1144440" y="851040"/>
            <a:ext cx="4567320" cy="342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PlaceHolder 1"/>
          <p:cNvSpPr>
            <a:spLocks noGrp="1"/>
          </p:cNvSpPr>
          <p:nvPr>
            <p:ph type="body"/>
          </p:nvPr>
        </p:nvSpPr>
        <p:spPr>
          <a:xfrm>
            <a:off x="914040" y="4644720"/>
            <a:ext cx="502596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"/>
          <p:cNvSpPr/>
          <p:nvPr/>
        </p:nvSpPr>
        <p:spPr>
          <a:xfrm>
            <a:off x="1144440" y="851040"/>
            <a:ext cx="4567320" cy="342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1"/>
          <p:cNvSpPr>
            <a:spLocks noGrp="1"/>
          </p:cNvSpPr>
          <p:nvPr>
            <p:ph type="body"/>
          </p:nvPr>
        </p:nvSpPr>
        <p:spPr>
          <a:xfrm>
            <a:off x="914040" y="4644720"/>
            <a:ext cx="502596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"/>
          <p:cNvSpPr/>
          <p:nvPr/>
        </p:nvSpPr>
        <p:spPr>
          <a:xfrm>
            <a:off x="1144440" y="851040"/>
            <a:ext cx="4567320" cy="342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body"/>
          </p:nvPr>
        </p:nvSpPr>
        <p:spPr>
          <a:xfrm>
            <a:off x="914040" y="4644720"/>
            <a:ext cx="502596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95560" y="74520"/>
            <a:ext cx="77659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401480"/>
            <a:ext cx="817092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852000"/>
            <a:ext cx="817092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95560" y="74520"/>
            <a:ext cx="77659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401480"/>
            <a:ext cx="398736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2600" y="1401480"/>
            <a:ext cx="398736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852000"/>
            <a:ext cx="398736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2600" y="3852000"/>
            <a:ext cx="398736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95560" y="74520"/>
            <a:ext cx="77659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401480"/>
            <a:ext cx="263088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48080" y="1401480"/>
            <a:ext cx="263088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1080" y="1401480"/>
            <a:ext cx="263088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852000"/>
            <a:ext cx="263088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48080" y="3852000"/>
            <a:ext cx="263088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1080" y="3852000"/>
            <a:ext cx="263088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95560" y="74520"/>
            <a:ext cx="77659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440" y="1401480"/>
            <a:ext cx="8170920" cy="46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95560" y="74520"/>
            <a:ext cx="77659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440" y="1401480"/>
            <a:ext cx="817092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95560" y="74520"/>
            <a:ext cx="77659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440" y="1401480"/>
            <a:ext cx="398736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72600" y="1401480"/>
            <a:ext cx="398736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95560" y="74520"/>
            <a:ext cx="77659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195560" y="74520"/>
            <a:ext cx="7765920" cy="49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1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95560" y="74520"/>
            <a:ext cx="77659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401480"/>
            <a:ext cx="398736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72600" y="1401480"/>
            <a:ext cx="398736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440" y="3852000"/>
            <a:ext cx="398736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95560" y="74520"/>
            <a:ext cx="77659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401480"/>
            <a:ext cx="8170920" cy="46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95560" y="74520"/>
            <a:ext cx="77659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401480"/>
            <a:ext cx="398736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72600" y="1401480"/>
            <a:ext cx="398736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872600" y="3852000"/>
            <a:ext cx="398736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95560" y="74520"/>
            <a:ext cx="77659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401480"/>
            <a:ext cx="398736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72600" y="1401480"/>
            <a:ext cx="398736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440" y="3852000"/>
            <a:ext cx="817092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95560" y="74520"/>
            <a:ext cx="77659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401480"/>
            <a:ext cx="817092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440" y="3852000"/>
            <a:ext cx="817092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95560" y="74520"/>
            <a:ext cx="77659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440" y="1401480"/>
            <a:ext cx="398736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72600" y="1401480"/>
            <a:ext cx="398736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440" y="3852000"/>
            <a:ext cx="398736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872600" y="3852000"/>
            <a:ext cx="398736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95560" y="74520"/>
            <a:ext cx="77659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440" y="1401480"/>
            <a:ext cx="263088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448080" y="1401480"/>
            <a:ext cx="263088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211080" y="1401480"/>
            <a:ext cx="263088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440" y="3852000"/>
            <a:ext cx="263088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448080" y="3852000"/>
            <a:ext cx="263088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211080" y="3852000"/>
            <a:ext cx="263088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95560" y="74520"/>
            <a:ext cx="77659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401480"/>
            <a:ext cx="817092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95560" y="74520"/>
            <a:ext cx="77659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401480"/>
            <a:ext cx="398736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2600" y="1401480"/>
            <a:ext cx="398736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95560" y="74520"/>
            <a:ext cx="77659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195560" y="74520"/>
            <a:ext cx="7765920" cy="49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1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95560" y="74520"/>
            <a:ext cx="77659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401480"/>
            <a:ext cx="398736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2600" y="1401480"/>
            <a:ext cx="398736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852000"/>
            <a:ext cx="398736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95560" y="74520"/>
            <a:ext cx="77659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401480"/>
            <a:ext cx="398736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2600" y="1401480"/>
            <a:ext cx="398736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2600" y="3852000"/>
            <a:ext cx="398736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95560" y="74520"/>
            <a:ext cx="77659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401480"/>
            <a:ext cx="398736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2600" y="1401480"/>
            <a:ext cx="398736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852000"/>
            <a:ext cx="817092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package" Target="../embeddings/oleObject1.docx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976320"/>
            <a:ext cx="534960" cy="4808520"/>
          </a:xfrm>
          <a:custGeom>
            <a:avLst/>
            <a:gdLst>
              <a:gd name="textAreaLeft" fmla="*/ 360 w 534960"/>
              <a:gd name="textAreaRight" fmla="*/ 534600 w 534960"/>
              <a:gd name="textAreaTop" fmla="*/ 360 h 4808520"/>
              <a:gd name="textAreaBottom" fmla="*/ 4808160 h 4808520"/>
            </a:gdLst>
            <a:ahLst/>
            <a:rect l="textAreaLeft" t="textAreaTop" r="textAreaRight" b="textAreaBottom"/>
            <a:pathLst>
              <a:path w="21600" h="194037">
                <a:moveTo>
                  <a:pt x="64" y="0"/>
                </a:moveTo>
                <a:arcTo wR="64" hR="64" stAng="16200000" swAng="-5400000"/>
                <a:lnTo>
                  <a:pt x="0" y="193973"/>
                </a:lnTo>
                <a:arcTo wR="64" hR="64" stAng="10800000" swAng="-5400000"/>
                <a:lnTo>
                  <a:pt x="21536" y="194037"/>
                </a:lnTo>
                <a:arcTo wR="64" hR="64" stAng="5400000" swAng="-5400000"/>
                <a:lnTo>
                  <a:pt x="21600" y="64"/>
                </a:lnTo>
                <a:arcTo wR="64" hR="64" stAng="0" swAng="-5400000"/>
                <a:close/>
              </a:path>
            </a:pathLst>
          </a:cu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191360" y="6543720"/>
            <a:ext cx="19051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85CF1D-32CE-453B-9BE2-6F2CBE11D1F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066680" y="6477120"/>
            <a:ext cx="190512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02/12/04 08:4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733920" y="6477120"/>
            <a:ext cx="289548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81160" y="1219320"/>
            <a:ext cx="1440" cy="426708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95560" y="74520"/>
            <a:ext cx="77659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440" y="1401480"/>
            <a:ext cx="817092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81000"/>
              </a:lnSpc>
              <a:spcBef>
                <a:spcPts val="700"/>
              </a:spcBef>
              <a:buClr>
                <a:srgbClr val="c01313"/>
              </a:buClr>
              <a:buFont typeface="Monotype Sorts" charset="2"/>
              <a:buChar char="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c01313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  <a:p>
            <a:pPr lvl="1" marL="736560" indent="-279360">
              <a:lnSpc>
                <a:spcPct val="81000"/>
              </a:lnSpc>
              <a:spcBef>
                <a:spcPts val="700"/>
              </a:spcBef>
              <a:buClr>
                <a:srgbClr val="008000"/>
              </a:buClr>
              <a:buFont typeface="Monotype Sorts" charset="2"/>
              <a:buChar char="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c01313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  <a:p>
            <a:pPr lvl="2" marL="1143000" indent="-228600">
              <a:lnSpc>
                <a:spcPct val="81000"/>
              </a:lnSpc>
              <a:spcBef>
                <a:spcPts val="700"/>
              </a:spcBef>
              <a:buClr>
                <a:srgbClr val="996633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c01313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  <a:p>
            <a:pPr lvl="3" marL="1600200" indent="-228600">
              <a:lnSpc>
                <a:spcPct val="81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c01313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  <a:p>
            <a:pPr lvl="4" marL="2057400" indent="-228600">
              <a:lnSpc>
                <a:spcPct val="81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c01313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  <a:p>
            <a:pPr lvl="5" marL="2057400" indent="-228600">
              <a:lnSpc>
                <a:spcPct val="81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c01313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  <a:p>
            <a:pPr lvl="6" marL="2057400" indent="-228600">
              <a:lnSpc>
                <a:spcPct val="81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c01313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976320"/>
            <a:ext cx="534960" cy="4808520"/>
          </a:xfrm>
          <a:custGeom>
            <a:avLst/>
            <a:gdLst>
              <a:gd name="textAreaLeft" fmla="*/ 360 w 534960"/>
              <a:gd name="textAreaRight" fmla="*/ 534600 w 534960"/>
              <a:gd name="textAreaTop" fmla="*/ 360 h 4808520"/>
              <a:gd name="textAreaBottom" fmla="*/ 4808160 h 4808520"/>
            </a:gdLst>
            <a:ahLst/>
            <a:rect l="textAreaLeft" t="textAreaTop" r="textAreaRight" b="textAreaBottom"/>
            <a:pathLst>
              <a:path w="21600" h="194037">
                <a:moveTo>
                  <a:pt x="64" y="0"/>
                </a:moveTo>
                <a:arcTo wR="64" hR="64" stAng="16200000" swAng="-5400000"/>
                <a:lnTo>
                  <a:pt x="0" y="193973"/>
                </a:lnTo>
                <a:arcTo wR="64" hR="64" stAng="10800000" swAng="-5400000"/>
                <a:lnTo>
                  <a:pt x="21536" y="194037"/>
                </a:lnTo>
                <a:arcTo wR="64" hR="64" stAng="5400000" swAng="-5400000"/>
                <a:lnTo>
                  <a:pt x="21600" y="64"/>
                </a:lnTo>
                <a:arcTo wR="64" hR="64" stAng="0" swAng="-5400000"/>
                <a:close/>
              </a:path>
            </a:pathLst>
          </a:cu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541920" y="6248520"/>
            <a:ext cx="18986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D1FA97-903C-40D3-84B2-BEAB20EA452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0" y="0"/>
          <a:ext cx="1114560" cy="8478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1114560" cy="84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"/>
          <p:cNvSpPr/>
          <p:nvPr/>
        </p:nvSpPr>
        <p:spPr>
          <a:xfrm>
            <a:off x="703440" y="6248520"/>
            <a:ext cx="189864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02/12/04 08:4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165480" y="6248520"/>
            <a:ext cx="281304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M Gabriel UHP ESST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81160" y="1219320"/>
            <a:ext cx="1440" cy="426708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080" y="2285640"/>
            <a:ext cx="77310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66760" y="38160"/>
            <a:ext cx="7696080" cy="87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Arial"/>
              </a:rPr>
              <a:t>cycle de vie d'un produit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635200" y="1606680"/>
            <a:ext cx="4483080" cy="4483080"/>
          </a:xfrm>
          <a:prstGeom prst="ellipse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824360" y="1219320"/>
            <a:ext cx="1800" cy="5181480"/>
          </a:xfrm>
          <a:prstGeom prst="line">
            <a:avLst/>
          </a:prstGeom>
          <a:ln w="127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3416400" y="3503520"/>
            <a:ext cx="3065400" cy="641520"/>
            <a:chOff x="3416400" y="3503520"/>
            <a:chExt cx="3065400" cy="641520"/>
          </a:xfrm>
        </p:grpSpPr>
        <p:sp>
          <p:nvSpPr>
            <p:cNvPr id="104" name=""/>
            <p:cNvSpPr/>
            <p:nvPr/>
          </p:nvSpPr>
          <p:spPr>
            <a:xfrm>
              <a:off x="3416400" y="3503520"/>
              <a:ext cx="3065400" cy="641520"/>
            </a:xfrm>
            <a:prstGeom prst="roundRect">
              <a:avLst>
                <a:gd name="adj" fmla="val 245"/>
              </a:avLst>
            </a:prstGeom>
            <a:solidFill>
              <a:srgbClr val="ccccff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651840" y="3503520"/>
              <a:ext cx="2499120" cy="603360"/>
            </a:xfrm>
            <a:prstGeom prst="roundRect">
              <a:avLst>
                <a:gd name="adj" fmla="val 24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3600" spc="-1" strike="noStrike">
                  <a:solidFill>
                    <a:srgbClr val="000000"/>
                  </a:solidFill>
                  <a:latin typeface="Arial Narrow"/>
                </a:rPr>
                <a:t>management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2135160" y="1197000"/>
            <a:ext cx="2181240" cy="469800"/>
            <a:chOff x="2135160" y="1197000"/>
            <a:chExt cx="2181240" cy="469800"/>
          </a:xfrm>
        </p:grpSpPr>
        <p:sp>
          <p:nvSpPr>
            <p:cNvPr id="107" name=""/>
            <p:cNvSpPr/>
            <p:nvPr/>
          </p:nvSpPr>
          <p:spPr>
            <a:xfrm>
              <a:off x="2135160" y="1197000"/>
              <a:ext cx="2181240" cy="469800"/>
            </a:xfrm>
            <a:prstGeom prst="roundRect">
              <a:avLst>
                <a:gd name="adj" fmla="val 333"/>
              </a:avLst>
            </a:prstGeom>
            <a:solidFill>
              <a:srgbClr val="a2ffa3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300040" y="1197000"/>
              <a:ext cx="1852920" cy="433080"/>
            </a:xfrm>
            <a:prstGeom prst="roundRect">
              <a:avLst>
                <a:gd name="adj" fmla="val 333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400" spc="-1" strike="noStrike">
                  <a:solidFill>
                    <a:srgbClr val="00279f"/>
                  </a:solidFill>
                  <a:latin typeface="Arial Narrow"/>
                </a:rPr>
                <a:t>spécification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611280" y="3406680"/>
            <a:ext cx="1852560" cy="470160"/>
            <a:chOff x="611280" y="3406680"/>
            <a:chExt cx="1852560" cy="470160"/>
          </a:xfrm>
        </p:grpSpPr>
        <p:sp>
          <p:nvSpPr>
            <p:cNvPr id="110" name=""/>
            <p:cNvSpPr/>
            <p:nvPr/>
          </p:nvSpPr>
          <p:spPr>
            <a:xfrm>
              <a:off x="611280" y="3406680"/>
              <a:ext cx="1852560" cy="470160"/>
            </a:xfrm>
            <a:prstGeom prst="roundRect">
              <a:avLst>
                <a:gd name="adj" fmla="val 333"/>
              </a:avLst>
            </a:prstGeom>
            <a:solidFill>
              <a:srgbClr val="a2ffa3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78680" y="3406680"/>
              <a:ext cx="1517760" cy="433080"/>
            </a:xfrm>
            <a:prstGeom prst="roundRect">
              <a:avLst>
                <a:gd name="adj" fmla="val 333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400" spc="-1" strike="noStrike">
                  <a:solidFill>
                    <a:srgbClr val="00279f"/>
                  </a:solidFill>
                  <a:latin typeface="Arial Narrow"/>
                </a:rPr>
                <a:t>concep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1068480" y="5159520"/>
            <a:ext cx="1714320" cy="469800"/>
            <a:chOff x="1068480" y="5159520"/>
            <a:chExt cx="1714320" cy="469800"/>
          </a:xfrm>
        </p:grpSpPr>
        <p:sp>
          <p:nvSpPr>
            <p:cNvPr id="113" name=""/>
            <p:cNvSpPr/>
            <p:nvPr/>
          </p:nvSpPr>
          <p:spPr>
            <a:xfrm>
              <a:off x="1068480" y="5159520"/>
              <a:ext cx="1714320" cy="469800"/>
            </a:xfrm>
            <a:prstGeom prst="roundRect">
              <a:avLst>
                <a:gd name="adj" fmla="val 333"/>
              </a:avLst>
            </a:prstGeom>
            <a:solidFill>
              <a:srgbClr val="a2ffa3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194120" y="5159520"/>
              <a:ext cx="1464480" cy="433080"/>
            </a:xfrm>
            <a:prstGeom prst="roundRect">
              <a:avLst>
                <a:gd name="adj" fmla="val 333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400" spc="-1" strike="noStrike">
                  <a:solidFill>
                    <a:srgbClr val="00279f"/>
                  </a:solidFill>
                  <a:latin typeface="Arial Narrow"/>
                </a:rPr>
                <a:t>fabric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4192560" y="6302520"/>
            <a:ext cx="1522440" cy="469800"/>
            <a:chOff x="4192560" y="6302520"/>
            <a:chExt cx="1522440" cy="469800"/>
          </a:xfrm>
        </p:grpSpPr>
        <p:sp>
          <p:nvSpPr>
            <p:cNvPr id="116" name=""/>
            <p:cNvSpPr/>
            <p:nvPr/>
          </p:nvSpPr>
          <p:spPr>
            <a:xfrm>
              <a:off x="4192560" y="6302520"/>
              <a:ext cx="1522440" cy="469800"/>
            </a:xfrm>
            <a:prstGeom prst="roundRect">
              <a:avLst>
                <a:gd name="adj" fmla="val 333"/>
              </a:avLst>
            </a:prstGeom>
            <a:solidFill>
              <a:srgbClr val="a2ffa3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346280" y="6302520"/>
              <a:ext cx="1214640" cy="433080"/>
            </a:xfrm>
            <a:prstGeom prst="roundRect">
              <a:avLst>
                <a:gd name="adj" fmla="val 333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400" spc="-1" strike="noStrike">
                  <a:solidFill>
                    <a:srgbClr val="00279f"/>
                  </a:solidFill>
                  <a:latin typeface="Arial Narrow"/>
                </a:rPr>
                <a:t>livrais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6859440" y="5235480"/>
            <a:ext cx="1684440" cy="470160"/>
            <a:chOff x="6859440" y="5235480"/>
            <a:chExt cx="1684440" cy="470160"/>
          </a:xfrm>
        </p:grpSpPr>
        <p:sp>
          <p:nvSpPr>
            <p:cNvPr id="119" name=""/>
            <p:cNvSpPr/>
            <p:nvPr/>
          </p:nvSpPr>
          <p:spPr>
            <a:xfrm>
              <a:off x="6859440" y="5235480"/>
              <a:ext cx="1684440" cy="470160"/>
            </a:xfrm>
            <a:prstGeom prst="roundRect">
              <a:avLst>
                <a:gd name="adj" fmla="val 333"/>
              </a:avLst>
            </a:prstGeom>
            <a:solidFill>
              <a:srgbClr val="a2ffa3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017480" y="5235480"/>
              <a:ext cx="1368360" cy="433080"/>
            </a:xfrm>
            <a:prstGeom prst="roundRect">
              <a:avLst>
                <a:gd name="adj" fmla="val 333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400" spc="-1" strike="noStrike">
                  <a:solidFill>
                    <a:srgbClr val="00279f"/>
                  </a:solidFill>
                  <a:latin typeface="Arial Narrow"/>
                </a:rPr>
                <a:t>utilis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7162920" y="3232080"/>
            <a:ext cx="1915920" cy="469800"/>
            <a:chOff x="7162920" y="3232080"/>
            <a:chExt cx="1915920" cy="469800"/>
          </a:xfrm>
        </p:grpSpPr>
        <p:sp>
          <p:nvSpPr>
            <p:cNvPr id="122" name=""/>
            <p:cNvSpPr/>
            <p:nvPr/>
          </p:nvSpPr>
          <p:spPr>
            <a:xfrm>
              <a:off x="7162920" y="3232080"/>
              <a:ext cx="1915920" cy="469800"/>
            </a:xfrm>
            <a:prstGeom prst="roundRect">
              <a:avLst>
                <a:gd name="adj" fmla="val 333"/>
              </a:avLst>
            </a:prstGeom>
            <a:solidFill>
              <a:srgbClr val="a2ffa3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26000" y="3232080"/>
              <a:ext cx="1589400" cy="433080"/>
            </a:xfrm>
            <a:prstGeom prst="roundRect">
              <a:avLst>
                <a:gd name="adj" fmla="val 333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400" spc="-1" strike="noStrike">
                  <a:solidFill>
                    <a:srgbClr val="00279f"/>
                  </a:solidFill>
                  <a:latin typeface="Arial Narrow"/>
                </a:rPr>
                <a:t>exploit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6021360" y="1273320"/>
            <a:ext cx="3005280" cy="469800"/>
            <a:chOff x="6021360" y="1273320"/>
            <a:chExt cx="3005280" cy="469800"/>
          </a:xfrm>
        </p:grpSpPr>
        <p:sp>
          <p:nvSpPr>
            <p:cNvPr id="125" name=""/>
            <p:cNvSpPr/>
            <p:nvPr/>
          </p:nvSpPr>
          <p:spPr>
            <a:xfrm>
              <a:off x="6021360" y="1273320"/>
              <a:ext cx="3005280" cy="469800"/>
            </a:xfrm>
            <a:prstGeom prst="roundRect">
              <a:avLst>
                <a:gd name="adj" fmla="val 333"/>
              </a:avLst>
            </a:prstGeom>
            <a:solidFill>
              <a:srgbClr val="a2ffa3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276600" y="1273320"/>
              <a:ext cx="2494800" cy="433080"/>
            </a:xfrm>
            <a:prstGeom prst="roundRect">
              <a:avLst>
                <a:gd name="adj" fmla="val 333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400" spc="-1" strike="noStrike">
                  <a:solidFill>
                    <a:srgbClr val="00279f"/>
                  </a:solidFill>
                  <a:latin typeface="Arial Narrow"/>
                </a:rPr>
                <a:t>retour d'expérien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1449360" y="2263680"/>
            <a:ext cx="558720" cy="470160"/>
            <a:chOff x="1449360" y="2263680"/>
            <a:chExt cx="558720" cy="470160"/>
          </a:xfrm>
        </p:grpSpPr>
        <p:sp>
          <p:nvSpPr>
            <p:cNvPr id="128" name=""/>
            <p:cNvSpPr/>
            <p:nvPr/>
          </p:nvSpPr>
          <p:spPr>
            <a:xfrm>
              <a:off x="1449360" y="2263680"/>
              <a:ext cx="558720" cy="470160"/>
            </a:xfrm>
            <a:prstGeom prst="roundRect">
              <a:avLst>
                <a:gd name="adj" fmla="val 333"/>
              </a:avLst>
            </a:prstGeom>
            <a:solidFill>
              <a:srgbClr val="a2ffa3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454400" y="2263680"/>
              <a:ext cx="546840" cy="433080"/>
            </a:xfrm>
            <a:prstGeom prst="roundRect">
              <a:avLst>
                <a:gd name="adj" fmla="val 333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400" spc="-1" strike="noStrike">
                  <a:solidFill>
                    <a:srgbClr val="00279f"/>
                  </a:solidFill>
                  <a:latin typeface="Arial Narrow"/>
                </a:rPr>
                <a:t>cc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1758960" y="2911320"/>
            <a:ext cx="4025880" cy="1282680"/>
          </a:xfrm>
          <a:prstGeom prst="ellipse">
            <a:avLst/>
          </a:prstGeom>
          <a:solidFill>
            <a:srgbClr val="a3f25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456640" y="3240000"/>
            <a:ext cx="2558520" cy="681480"/>
          </a:xfrm>
          <a:prstGeom prst="roundRect">
            <a:avLst>
              <a:gd name="adj" fmla="val 222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NSEM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OSSE / BATTER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615960" y="4530600"/>
            <a:ext cx="2882880" cy="749520"/>
          </a:xfrm>
          <a:prstGeom prst="ellipse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039320" y="4764240"/>
            <a:ext cx="2037600" cy="376560"/>
          </a:xfrm>
          <a:prstGeom prst="roundRect">
            <a:avLst>
              <a:gd name="adj" fmla="val 39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nviron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111640" y="4645080"/>
            <a:ext cx="2959200" cy="749160"/>
          </a:xfrm>
          <a:prstGeom prst="ellipse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689080" y="4840200"/>
            <a:ext cx="1882080" cy="376560"/>
          </a:xfrm>
          <a:prstGeom prst="roundRect">
            <a:avLst>
              <a:gd name="adj" fmla="val 39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aintenabilit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301760" y="1692360"/>
            <a:ext cx="5473800" cy="1511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438280" y="1076400"/>
            <a:ext cx="4724640" cy="1371600"/>
          </a:xfrm>
          <a:prstGeom prst="roundRect">
            <a:avLst>
              <a:gd name="adj" fmla="val 11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254640" y="1996920"/>
            <a:ext cx="1282680" cy="444600"/>
          </a:xfrm>
          <a:prstGeom prst="ellipse">
            <a:avLst/>
          </a:prstGeom>
          <a:solidFill>
            <a:srgbClr val="ffc5c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6696000" y="2021040"/>
            <a:ext cx="481320" cy="376560"/>
          </a:xfrm>
          <a:prstGeom prst="roundRect">
            <a:avLst>
              <a:gd name="adj" fmla="val 39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F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 flipH="1">
            <a:off x="6622560" y="2448000"/>
            <a:ext cx="16524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6781680" y="244800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5460480" y="2554200"/>
            <a:ext cx="510480" cy="376560"/>
          </a:xfrm>
          <a:prstGeom prst="roundRect">
            <a:avLst>
              <a:gd name="adj" fmla="val 39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F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2736720" y="4124160"/>
            <a:ext cx="317520" cy="4572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4952880" y="404820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01400" y="4154400"/>
            <a:ext cx="624600" cy="376560"/>
          </a:xfrm>
          <a:prstGeom prst="roundRect">
            <a:avLst>
              <a:gd name="adj" fmla="val 39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Fc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401800" y="4154400"/>
            <a:ext cx="624600" cy="376560"/>
          </a:xfrm>
          <a:prstGeom prst="roundRect">
            <a:avLst>
              <a:gd name="adj" fmla="val 39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Fc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380880" y="510840"/>
            <a:ext cx="8305920" cy="1036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Arial"/>
              </a:rPr>
              <a:t>Analyse fonctionnelle externe</a:t>
            </a:r>
            <a:br>
              <a:rPr sz="3200"/>
            </a:br>
            <a:r>
              <a:rPr b="1" lang="en-GB" sz="3200" spc="-1" strike="noStrike">
                <a:solidFill>
                  <a:srgbClr val="ccccff"/>
                </a:solidFill>
                <a:latin typeface="Arial"/>
              </a:rPr>
              <a:t>Batterie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032160" y="3011400"/>
            <a:ext cx="735840" cy="376560"/>
          </a:xfrm>
          <a:prstGeom prst="roundRect">
            <a:avLst>
              <a:gd name="adj" fmla="val 39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FP 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6576120" y="2992320"/>
            <a:ext cx="2546280" cy="986400"/>
          </a:xfrm>
          <a:prstGeom prst="roundRect">
            <a:avLst>
              <a:gd name="adj" fmla="val 15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ransmettre 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ourant de la bor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u f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642960" y="5526000"/>
            <a:ext cx="804960" cy="37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Fc1 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1368720" y="5545080"/>
            <a:ext cx="2140920" cy="681480"/>
          </a:xfrm>
          <a:prstGeom prst="roundRect">
            <a:avLst>
              <a:gd name="adj" fmla="val 222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Résister 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l'environ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831560" y="5450040"/>
            <a:ext cx="850320" cy="376560"/>
          </a:xfrm>
          <a:prstGeom prst="roundRect">
            <a:avLst>
              <a:gd name="adj" fmla="val 39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Fc2 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603040" y="5450040"/>
            <a:ext cx="1895760" cy="681480"/>
          </a:xfrm>
          <a:prstGeom prst="roundRect">
            <a:avLst>
              <a:gd name="adj" fmla="val 222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utoriser 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aintenabilit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1905120" y="1380960"/>
            <a:ext cx="609480" cy="533520"/>
          </a:xfrm>
          <a:prstGeom prst="roundRect">
            <a:avLst>
              <a:gd name="adj" fmla="val 29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15960" y="1901880"/>
            <a:ext cx="2425680" cy="596880"/>
          </a:xfrm>
          <a:prstGeom prst="ellipse">
            <a:avLst/>
          </a:prstGeom>
          <a:solidFill>
            <a:srgbClr val="ffc5c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858960" y="2021040"/>
            <a:ext cx="1941480" cy="376560"/>
          </a:xfrm>
          <a:prstGeom prst="roundRect">
            <a:avLst>
              <a:gd name="adj" fmla="val 39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Borne Batter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15328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Arial"/>
              </a:rPr>
              <a:t>Analyse fonctionnelle interne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533520" y="5334120"/>
            <a:ext cx="80010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4843440" y="2239920"/>
            <a:ext cx="1135080" cy="376560"/>
          </a:xfrm>
          <a:prstGeom prst="roundRect">
            <a:avLst>
              <a:gd name="adj" fmla="val 39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Batter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4502160" y="2216160"/>
            <a:ext cx="1739880" cy="444600"/>
          </a:xfrm>
          <a:prstGeom prst="roundRect">
            <a:avLst>
              <a:gd name="adj" fmla="val 356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094000" y="5668920"/>
            <a:ext cx="481320" cy="376560"/>
          </a:xfrm>
          <a:prstGeom prst="roundRect">
            <a:avLst>
              <a:gd name="adj" fmla="val 39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F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502160" y="5568840"/>
            <a:ext cx="1739880" cy="520920"/>
          </a:xfrm>
          <a:prstGeom prst="roundRect">
            <a:avLst>
              <a:gd name="adj" fmla="val 301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15000" y="2666880"/>
            <a:ext cx="1440" cy="4572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609480" y="2895480"/>
            <a:ext cx="80010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15000" y="3581280"/>
            <a:ext cx="1440" cy="2286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15000" y="4267080"/>
            <a:ext cx="1440" cy="3049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5715000" y="5029200"/>
            <a:ext cx="1440" cy="5335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2514600" y="4876920"/>
            <a:ext cx="19810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514600" y="4191120"/>
            <a:ext cx="19810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514600" y="3276720"/>
            <a:ext cx="19810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514600" y="3505320"/>
            <a:ext cx="1981080" cy="4572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410080" y="2666880"/>
            <a:ext cx="1800" cy="457200"/>
          </a:xfrm>
          <a:prstGeom prst="line">
            <a:avLst/>
          </a:prstGeom>
          <a:ln w="127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10080" y="3581280"/>
            <a:ext cx="1800" cy="228600"/>
          </a:xfrm>
          <a:prstGeom prst="line">
            <a:avLst/>
          </a:prstGeom>
          <a:ln w="127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5410080" y="4267080"/>
            <a:ext cx="1800" cy="304920"/>
          </a:xfrm>
          <a:prstGeom prst="line">
            <a:avLst/>
          </a:prstGeom>
          <a:ln w="127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410080" y="5029200"/>
            <a:ext cx="1800" cy="533520"/>
          </a:xfrm>
          <a:prstGeom prst="line">
            <a:avLst/>
          </a:prstGeom>
          <a:ln w="127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2135160" y="3049560"/>
            <a:ext cx="3046320" cy="380880"/>
            <a:chOff x="2135160" y="3049560"/>
            <a:chExt cx="3046320" cy="380880"/>
          </a:xfrm>
        </p:grpSpPr>
        <p:grpSp>
          <p:nvGrpSpPr>
            <p:cNvPr id="430" name=""/>
            <p:cNvGrpSpPr/>
            <p:nvPr/>
          </p:nvGrpSpPr>
          <p:grpSpPr>
            <a:xfrm>
              <a:off x="3657600" y="3049560"/>
              <a:ext cx="1523880" cy="380880"/>
              <a:chOff x="3657600" y="3049560"/>
              <a:chExt cx="1523880" cy="380880"/>
            </a:xfrm>
          </p:grpSpPr>
          <p:sp>
            <p:nvSpPr>
              <p:cNvPr id="431" name=""/>
              <p:cNvSpPr/>
              <p:nvPr/>
            </p:nvSpPr>
            <p:spPr>
              <a:xfrm>
                <a:off x="3657600" y="3049560"/>
                <a:ext cx="1523880" cy="380880"/>
              </a:xfrm>
              <a:prstGeom prst="roundRect">
                <a:avLst>
                  <a:gd name="adj" fmla="val 41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3657600" y="3049560"/>
                <a:ext cx="1523880" cy="380880"/>
              </a:xfrm>
              <a:custGeom>
                <a:avLst/>
                <a:gdLst/>
                <a:ahLst/>
                <a:rect l="l" t="t" r="r" b="b"/>
                <a:pathLst>
                  <a:path w="4233" h="1059">
                    <a:moveTo>
                      <a:pt x="4232" y="1058"/>
                    </a:moveTo>
                    <a:lnTo>
                      <a:pt x="4226" y="1003"/>
                    </a:lnTo>
                    <a:lnTo>
                      <a:pt x="4209" y="947"/>
                    </a:lnTo>
                    <a:lnTo>
                      <a:pt x="4180" y="892"/>
                    </a:lnTo>
                    <a:lnTo>
                      <a:pt x="4140" y="838"/>
                    </a:lnTo>
                    <a:lnTo>
                      <a:pt x="4088" y="784"/>
                    </a:lnTo>
                    <a:lnTo>
                      <a:pt x="4025" y="731"/>
                    </a:lnTo>
                    <a:lnTo>
                      <a:pt x="3951" y="679"/>
                    </a:lnTo>
                    <a:lnTo>
                      <a:pt x="3866" y="628"/>
                    </a:lnTo>
                    <a:lnTo>
                      <a:pt x="3771" y="578"/>
                    </a:lnTo>
                    <a:lnTo>
                      <a:pt x="3665" y="529"/>
                    </a:lnTo>
                    <a:lnTo>
                      <a:pt x="3549" y="482"/>
                    </a:lnTo>
                    <a:lnTo>
                      <a:pt x="3424" y="436"/>
                    </a:lnTo>
                    <a:lnTo>
                      <a:pt x="3289" y="392"/>
                    </a:lnTo>
                    <a:lnTo>
                      <a:pt x="3145" y="350"/>
                    </a:lnTo>
                    <a:lnTo>
                      <a:pt x="2992" y="310"/>
                    </a:lnTo>
                    <a:lnTo>
                      <a:pt x="2832" y="272"/>
                    </a:lnTo>
                    <a:lnTo>
                      <a:pt x="2663" y="236"/>
                    </a:lnTo>
                    <a:lnTo>
                      <a:pt x="2488" y="202"/>
                    </a:lnTo>
                    <a:lnTo>
                      <a:pt x="2305" y="171"/>
                    </a:lnTo>
                    <a:lnTo>
                      <a:pt x="2116" y="142"/>
                    </a:lnTo>
                    <a:lnTo>
                      <a:pt x="1921" y="115"/>
                    </a:lnTo>
                    <a:lnTo>
                      <a:pt x="1721" y="91"/>
                    </a:lnTo>
                    <a:lnTo>
                      <a:pt x="1517" y="70"/>
                    </a:lnTo>
                    <a:lnTo>
                      <a:pt x="1308" y="52"/>
                    </a:lnTo>
                    <a:lnTo>
                      <a:pt x="1095" y="36"/>
                    </a:lnTo>
                    <a:lnTo>
                      <a:pt x="880" y="23"/>
                    </a:lnTo>
                    <a:lnTo>
                      <a:pt x="662" y="13"/>
                    </a:lnTo>
                    <a:lnTo>
                      <a:pt x="442" y="6"/>
                    </a:lnTo>
                    <a:lnTo>
                      <a:pt x="221" y="1"/>
                    </a:lnTo>
                    <a:lnTo>
                      <a:pt x="0" y="0"/>
                    </a:lnTo>
                  </a:path>
                </a:pathLst>
              </a:custGeom>
              <a:noFill/>
              <a:ln w="38160">
                <a:solidFill>
                  <a:srgbClr val="037c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3" name=""/>
            <p:cNvGrpSpPr/>
            <p:nvPr/>
          </p:nvGrpSpPr>
          <p:grpSpPr>
            <a:xfrm>
              <a:off x="2135160" y="3049560"/>
              <a:ext cx="1522440" cy="380880"/>
              <a:chOff x="2135160" y="3049560"/>
              <a:chExt cx="1522440" cy="380880"/>
            </a:xfrm>
          </p:grpSpPr>
          <p:sp>
            <p:nvSpPr>
              <p:cNvPr id="434" name=""/>
              <p:cNvSpPr/>
              <p:nvPr/>
            </p:nvSpPr>
            <p:spPr>
              <a:xfrm>
                <a:off x="2135160" y="3049560"/>
                <a:ext cx="1522440" cy="380880"/>
              </a:xfrm>
              <a:prstGeom prst="roundRect">
                <a:avLst>
                  <a:gd name="adj" fmla="val 41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2135160" y="3049560"/>
                <a:ext cx="1522440" cy="380880"/>
              </a:xfrm>
              <a:custGeom>
                <a:avLst/>
                <a:gdLst/>
                <a:ahLst/>
                <a:rect l="l" t="t" r="r" b="b"/>
                <a:pathLst>
                  <a:path w="4229" h="1059">
                    <a:moveTo>
                      <a:pt x="4228" y="0"/>
                    </a:moveTo>
                    <a:lnTo>
                      <a:pt x="4007" y="1"/>
                    </a:lnTo>
                    <a:lnTo>
                      <a:pt x="3786" y="6"/>
                    </a:lnTo>
                    <a:lnTo>
                      <a:pt x="3567" y="13"/>
                    </a:lnTo>
                    <a:lnTo>
                      <a:pt x="3349" y="23"/>
                    </a:lnTo>
                    <a:lnTo>
                      <a:pt x="3134" y="36"/>
                    </a:lnTo>
                    <a:lnTo>
                      <a:pt x="2921" y="52"/>
                    </a:lnTo>
                    <a:lnTo>
                      <a:pt x="2713" y="70"/>
                    </a:lnTo>
                    <a:lnTo>
                      <a:pt x="2508" y="91"/>
                    </a:lnTo>
                    <a:lnTo>
                      <a:pt x="2309" y="115"/>
                    </a:lnTo>
                    <a:lnTo>
                      <a:pt x="2114" y="142"/>
                    </a:lnTo>
                    <a:lnTo>
                      <a:pt x="1925" y="171"/>
                    </a:lnTo>
                    <a:lnTo>
                      <a:pt x="1743" y="202"/>
                    </a:lnTo>
                    <a:lnTo>
                      <a:pt x="1567" y="236"/>
                    </a:lnTo>
                    <a:lnTo>
                      <a:pt x="1399" y="272"/>
                    </a:lnTo>
                    <a:lnTo>
                      <a:pt x="1238" y="310"/>
                    </a:lnTo>
                    <a:lnTo>
                      <a:pt x="1086" y="350"/>
                    </a:lnTo>
                    <a:lnTo>
                      <a:pt x="942" y="392"/>
                    </a:lnTo>
                    <a:lnTo>
                      <a:pt x="807" y="436"/>
                    </a:lnTo>
                    <a:lnTo>
                      <a:pt x="682" y="482"/>
                    </a:lnTo>
                    <a:lnTo>
                      <a:pt x="566" y="529"/>
                    </a:lnTo>
                    <a:lnTo>
                      <a:pt x="461" y="578"/>
                    </a:lnTo>
                    <a:lnTo>
                      <a:pt x="366" y="628"/>
                    </a:lnTo>
                    <a:lnTo>
                      <a:pt x="281" y="679"/>
                    </a:lnTo>
                    <a:lnTo>
                      <a:pt x="207" y="731"/>
                    </a:lnTo>
                    <a:lnTo>
                      <a:pt x="144" y="784"/>
                    </a:lnTo>
                    <a:lnTo>
                      <a:pt x="92" y="838"/>
                    </a:lnTo>
                    <a:lnTo>
                      <a:pt x="52" y="892"/>
                    </a:lnTo>
                    <a:lnTo>
                      <a:pt x="23" y="947"/>
                    </a:lnTo>
                    <a:lnTo>
                      <a:pt x="6" y="1003"/>
                    </a:lnTo>
                    <a:lnTo>
                      <a:pt x="0" y="1058"/>
                    </a:lnTo>
                  </a:path>
                </a:pathLst>
              </a:custGeom>
              <a:noFill/>
              <a:ln w="38160">
                <a:solidFill>
                  <a:srgbClr val="037c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6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36" name=""/>
          <p:cNvGrpSpPr/>
          <p:nvPr/>
        </p:nvGrpSpPr>
        <p:grpSpPr>
          <a:xfrm>
            <a:off x="2440080" y="3581280"/>
            <a:ext cx="2133360" cy="304920"/>
            <a:chOff x="2440080" y="3581280"/>
            <a:chExt cx="2133360" cy="304920"/>
          </a:xfrm>
        </p:grpSpPr>
        <p:sp>
          <p:nvSpPr>
            <p:cNvPr id="437" name=""/>
            <p:cNvSpPr/>
            <p:nvPr/>
          </p:nvSpPr>
          <p:spPr>
            <a:xfrm>
              <a:off x="2440080" y="3581280"/>
              <a:ext cx="2133360" cy="304920"/>
            </a:xfrm>
            <a:prstGeom prst="roundRect">
              <a:avLst>
                <a:gd name="adj" fmla="val 519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440080" y="3581280"/>
              <a:ext cx="2133360" cy="304920"/>
            </a:xfrm>
            <a:custGeom>
              <a:avLst/>
              <a:gdLst/>
              <a:ahLst/>
              <a:rect l="l" t="t" r="r" b="b"/>
              <a:pathLst>
                <a:path w="5927" h="848">
                  <a:moveTo>
                    <a:pt x="0" y="0"/>
                  </a:moveTo>
                  <a:lnTo>
                    <a:pt x="8" y="44"/>
                  </a:lnTo>
                  <a:lnTo>
                    <a:pt x="32" y="89"/>
                  </a:lnTo>
                  <a:lnTo>
                    <a:pt x="73" y="132"/>
                  </a:lnTo>
                  <a:lnTo>
                    <a:pt x="129" y="176"/>
                  </a:lnTo>
                  <a:lnTo>
                    <a:pt x="202" y="219"/>
                  </a:lnTo>
                  <a:lnTo>
                    <a:pt x="290" y="262"/>
                  </a:lnTo>
                  <a:lnTo>
                    <a:pt x="394" y="304"/>
                  </a:lnTo>
                  <a:lnTo>
                    <a:pt x="512" y="345"/>
                  </a:lnTo>
                  <a:lnTo>
                    <a:pt x="646" y="385"/>
                  </a:lnTo>
                  <a:lnTo>
                    <a:pt x="794" y="424"/>
                  </a:lnTo>
                  <a:lnTo>
                    <a:pt x="956" y="461"/>
                  </a:lnTo>
                  <a:lnTo>
                    <a:pt x="1132" y="498"/>
                  </a:lnTo>
                  <a:lnTo>
                    <a:pt x="1321" y="533"/>
                  </a:lnTo>
                  <a:lnTo>
                    <a:pt x="1522" y="567"/>
                  </a:lnTo>
                  <a:lnTo>
                    <a:pt x="1736" y="599"/>
                  </a:lnTo>
                  <a:lnTo>
                    <a:pt x="1961" y="629"/>
                  </a:lnTo>
                  <a:lnTo>
                    <a:pt x="2197" y="658"/>
                  </a:lnTo>
                  <a:lnTo>
                    <a:pt x="2443" y="685"/>
                  </a:lnTo>
                  <a:lnTo>
                    <a:pt x="2698" y="710"/>
                  </a:lnTo>
                  <a:lnTo>
                    <a:pt x="2963" y="734"/>
                  </a:lnTo>
                  <a:lnTo>
                    <a:pt x="3236" y="755"/>
                  </a:lnTo>
                  <a:lnTo>
                    <a:pt x="3516" y="774"/>
                  </a:lnTo>
                  <a:lnTo>
                    <a:pt x="3802" y="791"/>
                  </a:lnTo>
                  <a:lnTo>
                    <a:pt x="4095" y="806"/>
                  </a:lnTo>
                  <a:lnTo>
                    <a:pt x="4392" y="818"/>
                  </a:lnTo>
                  <a:lnTo>
                    <a:pt x="4694" y="828"/>
                  </a:lnTo>
                  <a:lnTo>
                    <a:pt x="4999" y="837"/>
                  </a:lnTo>
                  <a:lnTo>
                    <a:pt x="5307" y="842"/>
                  </a:lnTo>
                  <a:lnTo>
                    <a:pt x="5616" y="846"/>
                  </a:lnTo>
                  <a:lnTo>
                    <a:pt x="5926" y="847"/>
                  </a:lnTo>
                </a:path>
              </a:pathLst>
            </a:custGeom>
            <a:noFill/>
            <a:ln w="38160">
              <a:solidFill>
                <a:srgbClr val="037c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9" name=""/>
          <p:cNvGrpSpPr/>
          <p:nvPr/>
        </p:nvGrpSpPr>
        <p:grpSpPr>
          <a:xfrm>
            <a:off x="4800600" y="3581280"/>
            <a:ext cx="228600" cy="533520"/>
            <a:chOff x="4800600" y="3581280"/>
            <a:chExt cx="228600" cy="533520"/>
          </a:xfrm>
        </p:grpSpPr>
        <p:sp>
          <p:nvSpPr>
            <p:cNvPr id="440" name=""/>
            <p:cNvSpPr/>
            <p:nvPr/>
          </p:nvSpPr>
          <p:spPr>
            <a:xfrm>
              <a:off x="4800600" y="3581280"/>
              <a:ext cx="228600" cy="533520"/>
            </a:xfrm>
            <a:custGeom>
              <a:avLst/>
              <a:gdLst>
                <a:gd name="textAreaLeft" fmla="*/ 360 w 228600"/>
                <a:gd name="textAreaRight" fmla="*/ 228240 w 228600"/>
                <a:gd name="textAreaTop" fmla="*/ 360 h 533520"/>
                <a:gd name="textAreaBottom" fmla="*/ 533160 h 533520"/>
              </a:gdLst>
              <a:ahLst/>
              <a:rect l="textAreaLeft" t="textAreaTop" r="textAreaRight" b="textAreaBottom"/>
              <a:pathLst>
                <a:path w="21600" h="50366">
                  <a:moveTo>
                    <a:pt x="150" y="0"/>
                  </a:moveTo>
                  <a:arcTo wR="150" hR="150" stAng="16200000" swAng="-5400000"/>
                  <a:lnTo>
                    <a:pt x="0" y="50216"/>
                  </a:lnTo>
                  <a:arcTo wR="150" hR="150" stAng="10800000" swAng="-5400000"/>
                  <a:lnTo>
                    <a:pt x="21450" y="50366"/>
                  </a:lnTo>
                  <a:arcTo wR="150" hR="150" stAng="5400000" swAng="-5400000"/>
                  <a:lnTo>
                    <a:pt x="21600" y="150"/>
                  </a:lnTo>
                  <a:arcTo wR="150" hR="150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4800600" y="3581280"/>
              <a:ext cx="228600" cy="533520"/>
            </a:xfrm>
            <a:custGeom>
              <a:avLst/>
              <a:gdLst/>
              <a:ahLst/>
              <a:rect l="l" t="t" r="r" b="b"/>
              <a:pathLst>
                <a:path w="636" h="1483">
                  <a:moveTo>
                    <a:pt x="0" y="1482"/>
                  </a:moveTo>
                  <a:lnTo>
                    <a:pt x="33" y="1480"/>
                  </a:lnTo>
                  <a:lnTo>
                    <a:pt x="66" y="1474"/>
                  </a:lnTo>
                  <a:lnTo>
                    <a:pt x="99" y="1464"/>
                  </a:lnTo>
                  <a:lnTo>
                    <a:pt x="132" y="1450"/>
                  </a:lnTo>
                  <a:lnTo>
                    <a:pt x="164" y="1432"/>
                  </a:lnTo>
                  <a:lnTo>
                    <a:pt x="196" y="1409"/>
                  </a:lnTo>
                  <a:lnTo>
                    <a:pt x="228" y="1384"/>
                  </a:lnTo>
                  <a:lnTo>
                    <a:pt x="258" y="1354"/>
                  </a:lnTo>
                  <a:lnTo>
                    <a:pt x="288" y="1320"/>
                  </a:lnTo>
                  <a:lnTo>
                    <a:pt x="318" y="1283"/>
                  </a:lnTo>
                  <a:lnTo>
                    <a:pt x="346" y="1243"/>
                  </a:lnTo>
                  <a:lnTo>
                    <a:pt x="373" y="1199"/>
                  </a:lnTo>
                  <a:lnTo>
                    <a:pt x="400" y="1152"/>
                  </a:lnTo>
                  <a:lnTo>
                    <a:pt x="425" y="1101"/>
                  </a:lnTo>
                  <a:lnTo>
                    <a:pt x="449" y="1048"/>
                  </a:lnTo>
                  <a:lnTo>
                    <a:pt x="472" y="992"/>
                  </a:lnTo>
                  <a:lnTo>
                    <a:pt x="493" y="933"/>
                  </a:lnTo>
                  <a:lnTo>
                    <a:pt x="514" y="871"/>
                  </a:lnTo>
                  <a:lnTo>
                    <a:pt x="533" y="807"/>
                  </a:lnTo>
                  <a:lnTo>
                    <a:pt x="550" y="741"/>
                  </a:lnTo>
                  <a:lnTo>
                    <a:pt x="566" y="673"/>
                  </a:lnTo>
                  <a:lnTo>
                    <a:pt x="580" y="603"/>
                  </a:lnTo>
                  <a:lnTo>
                    <a:pt x="593" y="531"/>
                  </a:lnTo>
                  <a:lnTo>
                    <a:pt x="604" y="458"/>
                  </a:lnTo>
                  <a:lnTo>
                    <a:pt x="613" y="384"/>
                  </a:lnTo>
                  <a:lnTo>
                    <a:pt x="621" y="308"/>
                  </a:lnTo>
                  <a:lnTo>
                    <a:pt x="627" y="232"/>
                  </a:lnTo>
                  <a:lnTo>
                    <a:pt x="632" y="155"/>
                  </a:lnTo>
                  <a:lnTo>
                    <a:pt x="634" y="78"/>
                  </a:lnTo>
                  <a:lnTo>
                    <a:pt x="635" y="0"/>
                  </a:lnTo>
                </a:path>
              </a:pathLst>
            </a:custGeom>
            <a:noFill/>
            <a:ln w="38160">
              <a:solidFill>
                <a:srgbClr val="037c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2" name=""/>
          <p:cNvSpPr/>
          <p:nvPr/>
        </p:nvSpPr>
        <p:spPr>
          <a:xfrm>
            <a:off x="768240" y="3130560"/>
            <a:ext cx="1739880" cy="444600"/>
          </a:xfrm>
          <a:prstGeom prst="roundRect">
            <a:avLst>
              <a:gd name="adj" fmla="val 356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040760" y="3154320"/>
            <a:ext cx="1119960" cy="376560"/>
          </a:xfrm>
          <a:prstGeom prst="roundRect">
            <a:avLst>
              <a:gd name="adj" fmla="val 39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Grais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502160" y="3130560"/>
            <a:ext cx="1739880" cy="444600"/>
          </a:xfrm>
          <a:prstGeom prst="roundRect">
            <a:avLst>
              <a:gd name="adj" fmla="val 356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872240" y="3154320"/>
            <a:ext cx="921960" cy="376560"/>
          </a:xfrm>
          <a:prstGeom prst="roundRect">
            <a:avLst>
              <a:gd name="adj" fmla="val 39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Bor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1600200" y="4267080"/>
            <a:ext cx="1440" cy="3049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2000160" y="4057560"/>
            <a:ext cx="3314880" cy="723960"/>
          </a:xfrm>
          <a:prstGeom prst="ellipse">
            <a:avLst/>
          </a:prstGeom>
          <a:noFill/>
          <a:ln w="38160">
            <a:solidFill>
              <a:srgbClr val="037c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768240" y="3816360"/>
            <a:ext cx="1739880" cy="444600"/>
          </a:xfrm>
          <a:prstGeom prst="roundRect">
            <a:avLst>
              <a:gd name="adj" fmla="val 356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147680" y="3840120"/>
            <a:ext cx="906480" cy="376560"/>
          </a:xfrm>
          <a:prstGeom prst="roundRect">
            <a:avLst>
              <a:gd name="adj" fmla="val 39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cro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768240" y="4578480"/>
            <a:ext cx="1739880" cy="444240"/>
          </a:xfrm>
          <a:prstGeom prst="roundRect">
            <a:avLst>
              <a:gd name="adj" fmla="val 356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17600" y="4602240"/>
            <a:ext cx="566640" cy="376560"/>
          </a:xfrm>
          <a:prstGeom prst="roundRect">
            <a:avLst>
              <a:gd name="adj" fmla="val 39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V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4502160" y="3816360"/>
            <a:ext cx="1739880" cy="444600"/>
          </a:xfrm>
          <a:prstGeom prst="roundRect">
            <a:avLst>
              <a:gd name="adj" fmla="val 356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4859280" y="3840120"/>
            <a:ext cx="950760" cy="376560"/>
          </a:xfrm>
          <a:prstGeom prst="roundRect">
            <a:avLst>
              <a:gd name="adj" fmla="val 39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os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502160" y="4578480"/>
            <a:ext cx="1739880" cy="444240"/>
          </a:xfrm>
          <a:prstGeom prst="roundRect">
            <a:avLst>
              <a:gd name="adj" fmla="val 356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709520" y="4602240"/>
            <a:ext cx="1403280" cy="376560"/>
          </a:xfrm>
          <a:prstGeom prst="roundRect">
            <a:avLst>
              <a:gd name="adj" fmla="val 39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Languet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6934320" y="3200400"/>
            <a:ext cx="1440" cy="152280"/>
          </a:xfrm>
          <a:prstGeom prst="line">
            <a:avLst/>
          </a:prstGeom>
          <a:ln w="127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7164360" y="3100320"/>
            <a:ext cx="1674720" cy="348120"/>
          </a:xfrm>
          <a:prstGeom prst="roundRect">
            <a:avLst>
              <a:gd name="adj" fmla="val 43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Flux princip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6934320" y="3886200"/>
            <a:ext cx="1440" cy="152280"/>
          </a:xfrm>
          <a:prstGeom prst="line">
            <a:avLst/>
          </a:prstGeom>
          <a:ln w="38160">
            <a:solidFill>
              <a:srgbClr val="037c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7196400" y="3786120"/>
            <a:ext cx="1458360" cy="348120"/>
          </a:xfrm>
          <a:prstGeom prst="roundRect">
            <a:avLst>
              <a:gd name="adj" fmla="val 43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Flux boucl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Arial"/>
              </a:rPr>
              <a:t>critères de valeur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689040" y="5273640"/>
            <a:ext cx="8369280" cy="291960"/>
          </a:xfrm>
          <a:prstGeom prst="roundRect">
            <a:avLst>
              <a:gd name="adj" fmla="val 542"/>
            </a:avLst>
          </a:prstGeom>
          <a:solidFill>
            <a:srgbClr val="fcfeb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89040" y="4587840"/>
            <a:ext cx="8369280" cy="291960"/>
          </a:xfrm>
          <a:prstGeom prst="roundRect">
            <a:avLst>
              <a:gd name="adj" fmla="val 542"/>
            </a:avLst>
          </a:prstGeom>
          <a:solidFill>
            <a:srgbClr val="fcfeb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689040" y="3368520"/>
            <a:ext cx="8369280" cy="292320"/>
          </a:xfrm>
          <a:prstGeom prst="roundRect">
            <a:avLst>
              <a:gd name="adj" fmla="val 542"/>
            </a:avLst>
          </a:prstGeom>
          <a:solidFill>
            <a:srgbClr val="fcfeb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689040" y="1844640"/>
            <a:ext cx="8369280" cy="291960"/>
          </a:xfrm>
          <a:prstGeom prst="roundRect">
            <a:avLst>
              <a:gd name="adj" fmla="val 542"/>
            </a:avLst>
          </a:prstGeom>
          <a:solidFill>
            <a:srgbClr val="fcfeb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689040" y="1387440"/>
            <a:ext cx="8369280" cy="444600"/>
          </a:xfrm>
          <a:prstGeom prst="roundRect">
            <a:avLst>
              <a:gd name="adj" fmla="val 356"/>
            </a:avLst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741960" y="1503360"/>
            <a:ext cx="1007280" cy="266400"/>
          </a:xfrm>
          <a:prstGeom prst="roundRect">
            <a:avLst>
              <a:gd name="adj" fmla="val 57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FO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2493000" y="1503360"/>
            <a:ext cx="711720" cy="266400"/>
          </a:xfrm>
          <a:prstGeom prst="roundRect">
            <a:avLst>
              <a:gd name="adj" fmla="val 57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VER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473720" y="1503360"/>
            <a:ext cx="1478160" cy="266400"/>
          </a:xfrm>
          <a:prstGeom prst="roundRect">
            <a:avLst>
              <a:gd name="adj" fmla="val 57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MILIEU ORIG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6681600" y="1503360"/>
            <a:ext cx="1961280" cy="266400"/>
          </a:xfrm>
          <a:prstGeom prst="roundRect">
            <a:avLst>
              <a:gd name="adj" fmla="val 57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MILIEU DESTINATAI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82560" y="1838160"/>
            <a:ext cx="8382240" cy="180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43760" y="1884240"/>
            <a:ext cx="746640" cy="266400"/>
          </a:xfrm>
          <a:prstGeom prst="roundRect">
            <a:avLst>
              <a:gd name="adj" fmla="val 57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Fp (éle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1825560" y="1380960"/>
            <a:ext cx="1800" cy="4800600"/>
          </a:xfrm>
          <a:prstGeom prst="line">
            <a:avLst/>
          </a:prstGeom>
          <a:ln w="25560">
            <a:solidFill>
              <a:srgbClr val="ef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2187720" y="1860480"/>
            <a:ext cx="1062000" cy="295560"/>
          </a:xfrm>
          <a:prstGeom prst="roundRect">
            <a:avLst>
              <a:gd name="adj" fmla="val 51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Times New Roman"/>
              </a:rPr>
              <a:t>Transmett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4780440" y="1860480"/>
            <a:ext cx="623160" cy="295560"/>
          </a:xfrm>
          <a:prstGeom prst="roundRect">
            <a:avLst>
              <a:gd name="adj" fmla="val 51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Times New Roman"/>
              </a:rPr>
              <a:t>Bor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523640" y="1860480"/>
            <a:ext cx="394560" cy="295560"/>
          </a:xfrm>
          <a:prstGeom prst="roundRect">
            <a:avLst>
              <a:gd name="adj" fmla="val 51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Times New Roman"/>
              </a:rPr>
              <a:t>F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3959280" y="1380960"/>
            <a:ext cx="1440" cy="480060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6473880" y="1380960"/>
            <a:ext cx="1440" cy="480060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2193120" y="2189160"/>
            <a:ext cx="1092600" cy="996480"/>
          </a:xfrm>
          <a:prstGeom prst="roundRect">
            <a:avLst>
              <a:gd name="adj" fmla="val 15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ture cour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tensité +/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nsion +/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uré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630320" y="2189160"/>
            <a:ext cx="967680" cy="1179000"/>
          </a:xfrm>
          <a:custGeom>
            <a:avLst/>
            <a:gdLst>
              <a:gd name="textAreaLeft" fmla="*/ 360 w 967680"/>
              <a:gd name="textAreaRight" fmla="*/ 967320 w 967680"/>
              <a:gd name="textAreaTop" fmla="*/ 360 h 1179000"/>
              <a:gd name="textAreaBottom" fmla="*/ 1178640 h 1179000"/>
            </a:gdLst>
            <a:ahLst/>
            <a:rect l="textAreaLeft" t="textAreaTop" r="textAreaRight" b="textAreaBottom"/>
            <a:pathLst>
              <a:path w="21600" h="26315">
                <a:moveTo>
                  <a:pt x="35" y="0"/>
                </a:moveTo>
                <a:arcTo wR="35" hR="35" stAng="16200000" swAng="-5400000"/>
                <a:lnTo>
                  <a:pt x="0" y="26280"/>
                </a:lnTo>
                <a:arcTo wR="35" hR="35" stAng="10800000" swAng="-5400000"/>
                <a:lnTo>
                  <a:pt x="21565" y="26315"/>
                </a:lnTo>
                <a:arcTo wR="35" hR="35" stAng="5400000" swAng="-5400000"/>
                <a:lnTo>
                  <a:pt x="21600" y="35"/>
                </a:lnTo>
                <a:arcTo wR="35" hR="35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ournisse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amètre +/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nicité +/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atiè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tensité +/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nsion +/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695160" y="1393920"/>
            <a:ext cx="8356680" cy="4775040"/>
          </a:xfrm>
          <a:prstGeom prst="roundRect">
            <a:avLst>
              <a:gd name="adj" fmla="val 32"/>
            </a:avLst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682560" y="2143080"/>
            <a:ext cx="8382240" cy="180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7297560" y="2189160"/>
            <a:ext cx="1053000" cy="1179000"/>
          </a:xfrm>
          <a:custGeom>
            <a:avLst/>
            <a:gdLst>
              <a:gd name="textAreaLeft" fmla="*/ 360 w 1053000"/>
              <a:gd name="textAreaRight" fmla="*/ 1052640 w 1053000"/>
              <a:gd name="textAreaTop" fmla="*/ 360 h 1179000"/>
              <a:gd name="textAreaBottom" fmla="*/ 1178640 h 1179000"/>
            </a:gdLst>
            <a:ahLst/>
            <a:rect l="textAreaLeft" t="textAreaTop" r="textAreaRight" b="textAreaBottom"/>
            <a:pathLst>
              <a:path w="21600" h="24184">
                <a:moveTo>
                  <a:pt x="32" y="0"/>
                </a:moveTo>
                <a:arcTo wR="32" hR="32" stAng="16200000" swAng="-5400000"/>
                <a:lnTo>
                  <a:pt x="0" y="24152"/>
                </a:lnTo>
                <a:arcTo wR="32" hR="32" stAng="10800000" swAng="-5400000"/>
                <a:lnTo>
                  <a:pt x="21568" y="24184"/>
                </a:lnTo>
                <a:arcTo wR="32" hR="32" stAng="5400000" swAng="-5400000"/>
                <a:lnTo>
                  <a:pt x="21600" y="32"/>
                </a:lnTo>
                <a:arcTo wR="32" hR="32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ournisse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atiè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amèt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ésistance +/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82560" y="3362400"/>
            <a:ext cx="8382240" cy="144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744120" y="3408480"/>
            <a:ext cx="421920" cy="266400"/>
          </a:xfrm>
          <a:prstGeom prst="roundRect">
            <a:avLst>
              <a:gd name="adj" fmla="val 57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Fc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2340360" y="3384720"/>
            <a:ext cx="763200" cy="295560"/>
          </a:xfrm>
          <a:prstGeom prst="roundRect">
            <a:avLst>
              <a:gd name="adj" fmla="val 51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Times New Roman"/>
              </a:rPr>
              <a:t>Résis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4548600" y="3384720"/>
            <a:ext cx="1280160" cy="295560"/>
          </a:xfrm>
          <a:prstGeom prst="roundRect">
            <a:avLst>
              <a:gd name="adj" fmla="val 51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Times New Roman"/>
              </a:rPr>
              <a:t>Environn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82560" y="3666960"/>
            <a:ext cx="8382240" cy="1800"/>
          </a:xfrm>
          <a:prstGeom prst="line">
            <a:avLst/>
          </a:prstGeom>
          <a:ln w="12600">
            <a:solidFill>
              <a:srgbClr val="ef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2040120" y="3637080"/>
            <a:ext cx="1598400" cy="996480"/>
          </a:xfrm>
          <a:prstGeom prst="roundRect">
            <a:avLst>
              <a:gd name="adj" fmla="val 15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ir se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ir hum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Vapeurs hydrocarb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rojection s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mpéra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682560" y="4581360"/>
            <a:ext cx="838224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744120" y="4627440"/>
            <a:ext cx="421920" cy="266400"/>
          </a:xfrm>
          <a:prstGeom prst="roundRect">
            <a:avLst>
              <a:gd name="adj" fmla="val 57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Fc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2186640" y="4603680"/>
            <a:ext cx="864000" cy="295560"/>
          </a:xfrm>
          <a:prstGeom prst="roundRect">
            <a:avLst>
              <a:gd name="adj" fmla="val 51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Times New Roman"/>
              </a:rPr>
              <a:t>Autori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7213320" y="4603680"/>
            <a:ext cx="1243440" cy="295560"/>
          </a:xfrm>
          <a:prstGeom prst="roundRect">
            <a:avLst>
              <a:gd name="adj" fmla="val 51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Times New Roman"/>
              </a:rPr>
              <a:t>Maintenabilit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682560" y="4886280"/>
            <a:ext cx="838224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2343600" y="4856040"/>
            <a:ext cx="972000" cy="44892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omb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ccessibilit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682560" y="5267160"/>
            <a:ext cx="8382240" cy="180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743040" y="5313240"/>
            <a:ext cx="839520" cy="266400"/>
          </a:xfrm>
          <a:prstGeom prst="roundRect">
            <a:avLst>
              <a:gd name="adj" fmla="val 57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Fb (méc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2117160" y="5541840"/>
            <a:ext cx="1368360" cy="631440"/>
          </a:xfrm>
          <a:prstGeom prst="roundRect">
            <a:avLst>
              <a:gd name="adj" fmla="val 245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nsion serrage +/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ositionn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ésistance 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4704120" y="3637080"/>
            <a:ext cx="651960" cy="266400"/>
          </a:xfrm>
          <a:prstGeom prst="roundRect">
            <a:avLst>
              <a:gd name="adj" fmla="val 57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has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2261880" y="5289480"/>
            <a:ext cx="903600" cy="295560"/>
          </a:xfrm>
          <a:prstGeom prst="roundRect">
            <a:avLst>
              <a:gd name="adj" fmla="val 51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Times New Roman"/>
              </a:rPr>
              <a:t>Mainteni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682560" y="5572080"/>
            <a:ext cx="8305920" cy="180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4703760" y="5289480"/>
            <a:ext cx="614160" cy="295560"/>
          </a:xfrm>
          <a:prstGeom prst="roundRect">
            <a:avLst>
              <a:gd name="adj" fmla="val 51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Times New Roman"/>
              </a:rPr>
              <a:t>Cos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447320" y="5289480"/>
            <a:ext cx="623160" cy="295560"/>
          </a:xfrm>
          <a:prstGeom prst="roundRect">
            <a:avLst>
              <a:gd name="adj" fmla="val 51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Times New Roman"/>
              </a:rPr>
              <a:t>Bor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6994800" y="4856040"/>
            <a:ext cx="1449000" cy="266400"/>
          </a:xfrm>
          <a:prstGeom prst="roundRect">
            <a:avLst>
              <a:gd name="adj" fmla="val 57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hangement batteri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4707000" y="5618160"/>
            <a:ext cx="827280" cy="266400"/>
          </a:xfrm>
          <a:prstGeom prst="roundRect">
            <a:avLst>
              <a:gd name="adj" fmla="val 57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éométri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373160" y="5618160"/>
            <a:ext cx="828720" cy="44892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éométri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Vibr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"/>
          <p:cNvSpPr/>
          <p:nvPr/>
        </p:nvSpPr>
        <p:spPr>
          <a:xfrm>
            <a:off x="3816360" y="1606680"/>
            <a:ext cx="1054080" cy="4635360"/>
          </a:xfrm>
          <a:custGeom>
            <a:avLst/>
            <a:gdLst>
              <a:gd name="textAreaLeft" fmla="*/ 360 w 1054080"/>
              <a:gd name="textAreaRight" fmla="*/ 1053720 w 1054080"/>
              <a:gd name="textAreaTop" fmla="*/ 360 h 4635360"/>
              <a:gd name="textAreaBottom" fmla="*/ 4635000 h 4635360"/>
            </a:gdLst>
            <a:ahLst/>
            <a:rect l="textAreaLeft" t="textAreaTop" r="textAreaRight" b="textAreaBottom"/>
            <a:pathLst>
              <a:path w="21600" h="94962">
                <a:moveTo>
                  <a:pt x="32" y="0"/>
                </a:moveTo>
                <a:arcTo wR="32" hR="32" stAng="16200000" swAng="-5400000"/>
                <a:lnTo>
                  <a:pt x="0" y="94930"/>
                </a:lnTo>
                <a:arcTo wR="32" hR="32" stAng="10800000" swAng="-5400000"/>
                <a:lnTo>
                  <a:pt x="21568" y="94962"/>
                </a:lnTo>
                <a:arcTo wR="32" hR="32" stAng="5400000" swAng="-5400000"/>
                <a:lnTo>
                  <a:pt x="21600" y="32"/>
                </a:lnTo>
                <a:arcTo wR="32" hR="32" stAng="0" swAng="-5400000"/>
                <a:close/>
              </a:path>
            </a:pathLst>
          </a:custGeom>
          <a:solidFill>
            <a:srgbClr val="fcfeb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1149480" y="1606680"/>
            <a:ext cx="1054080" cy="4635360"/>
          </a:xfrm>
          <a:custGeom>
            <a:avLst/>
            <a:gdLst>
              <a:gd name="textAreaLeft" fmla="*/ 360 w 1054080"/>
              <a:gd name="textAreaRight" fmla="*/ 1053720 w 1054080"/>
              <a:gd name="textAreaTop" fmla="*/ 360 h 4635360"/>
              <a:gd name="textAreaBottom" fmla="*/ 4635000 h 4635360"/>
            </a:gdLst>
            <a:ahLst/>
            <a:rect l="textAreaLeft" t="textAreaTop" r="textAreaRight" b="textAreaBottom"/>
            <a:pathLst>
              <a:path w="21600" h="94962">
                <a:moveTo>
                  <a:pt x="32" y="0"/>
                </a:moveTo>
                <a:arcTo wR="32" hR="32" stAng="16200000" swAng="-5400000"/>
                <a:lnTo>
                  <a:pt x="0" y="94930"/>
                </a:lnTo>
                <a:arcTo wR="32" hR="32" stAng="10800000" swAng="-5400000"/>
                <a:lnTo>
                  <a:pt x="21568" y="94962"/>
                </a:lnTo>
                <a:arcTo wR="32" hR="32" stAng="5400000" swAng="-5400000"/>
                <a:lnTo>
                  <a:pt x="21600" y="32"/>
                </a:lnTo>
                <a:arcTo wR="32" hR="32" stAng="0" swAng="-5400000"/>
                <a:close/>
              </a:path>
            </a:pathLst>
          </a:custGeom>
          <a:solidFill>
            <a:srgbClr val="c8fec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2216160" y="1606680"/>
            <a:ext cx="1282680" cy="4635360"/>
          </a:xfrm>
          <a:custGeom>
            <a:avLst/>
            <a:gdLst>
              <a:gd name="textAreaLeft" fmla="*/ 360 w 1282680"/>
              <a:gd name="textAreaRight" fmla="*/ 1282320 w 1282680"/>
              <a:gd name="textAreaTop" fmla="*/ 360 h 4635360"/>
              <a:gd name="textAreaBottom" fmla="*/ 4635000 h 4635360"/>
            </a:gdLst>
            <a:ahLst/>
            <a:rect l="textAreaLeft" t="textAreaTop" r="textAreaRight" b="textAreaBottom"/>
            <a:pathLst>
              <a:path w="21600" h="78042">
                <a:moveTo>
                  <a:pt x="26" y="0"/>
                </a:moveTo>
                <a:arcTo wR="26" hR="26" stAng="16200000" swAng="-5400000"/>
                <a:lnTo>
                  <a:pt x="0" y="78016"/>
                </a:lnTo>
                <a:arcTo wR="26" hR="26" stAng="10800000" swAng="-5400000"/>
                <a:lnTo>
                  <a:pt x="21574" y="78042"/>
                </a:lnTo>
                <a:arcTo wR="26" hR="26" stAng="5400000" swAng="-5400000"/>
                <a:lnTo>
                  <a:pt x="21600" y="26"/>
                </a:lnTo>
                <a:arcTo wR="26" hR="26" stAng="0" swAng="-5400000"/>
                <a:close/>
              </a:path>
            </a:pathLst>
          </a:cu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5800" y="195120"/>
            <a:ext cx="7772400" cy="98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Arial"/>
              </a:rPr>
              <a:t>Grille AMDEC</a:t>
            </a:r>
            <a:br>
              <a:rPr sz="3200"/>
            </a:br>
            <a:r>
              <a:rPr b="1" lang="en-GB" sz="2800" spc="-1" strike="noStrike">
                <a:solidFill>
                  <a:srgbClr val="500093"/>
                </a:solidFill>
                <a:latin typeface="Arial"/>
              </a:rPr>
              <a:t>Batterie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317520" y="1612800"/>
            <a:ext cx="8432640" cy="4622760"/>
          </a:xfrm>
          <a:prstGeom prst="roundRect">
            <a:avLst>
              <a:gd name="adj" fmla="val 32"/>
            </a:avLst>
          </a:prstGeom>
          <a:noFill/>
          <a:ln w="25560">
            <a:solidFill>
              <a:srgbClr val="ef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286200" y="1698480"/>
            <a:ext cx="860760" cy="295560"/>
          </a:xfrm>
          <a:prstGeom prst="roundRect">
            <a:avLst>
              <a:gd name="adj" fmla="val 51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500093"/>
                </a:solidFill>
                <a:latin typeface="Times New Roman"/>
              </a:rPr>
              <a:t>Fo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1353600" y="1698480"/>
            <a:ext cx="621720" cy="295560"/>
          </a:xfrm>
          <a:prstGeom prst="roundRect">
            <a:avLst>
              <a:gd name="adj" fmla="val 51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500093"/>
                </a:solidFill>
                <a:latin typeface="Times New Roman"/>
              </a:rPr>
              <a:t>M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3489120" y="1698480"/>
            <a:ext cx="385560" cy="295560"/>
          </a:xfrm>
          <a:prstGeom prst="roundRect">
            <a:avLst>
              <a:gd name="adj" fmla="val 51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500093"/>
                </a:solidFill>
                <a:latin typeface="Times New Roman"/>
              </a:rPr>
              <a:t>N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3868560" y="1698480"/>
            <a:ext cx="722160" cy="295560"/>
          </a:xfrm>
          <a:prstGeom prst="roundRect">
            <a:avLst>
              <a:gd name="adj" fmla="val 51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500093"/>
                </a:solidFill>
                <a:latin typeface="Times New Roman"/>
              </a:rPr>
              <a:t>Cau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4859280" y="1698480"/>
            <a:ext cx="909720" cy="295560"/>
          </a:xfrm>
          <a:prstGeom prst="roundRect">
            <a:avLst>
              <a:gd name="adj" fmla="val 51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500093"/>
                </a:solidFill>
                <a:latin typeface="Times New Roman"/>
              </a:rPr>
              <a:t>Dét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5698800" y="1698480"/>
            <a:ext cx="294120" cy="295560"/>
          </a:xfrm>
          <a:custGeom>
            <a:avLst/>
            <a:gdLst>
              <a:gd name="textAreaLeft" fmla="*/ 360 w 294120"/>
              <a:gd name="textAreaRight" fmla="*/ 293760 w 294120"/>
              <a:gd name="textAreaTop" fmla="*/ 360 h 295560"/>
              <a:gd name="textAreaBottom" fmla="*/ 295200 h 295560"/>
            </a:gdLst>
            <a:ahLst/>
            <a:rect l="textAreaLeft" t="textAreaTop" r="textAreaRight" b="textAreaBottom"/>
            <a:pathLst>
              <a:path w="21600" h="21706">
                <a:moveTo>
                  <a:pt x="117" y="0"/>
                </a:moveTo>
                <a:arcTo wR="117" hR="117" stAng="16200000" swAng="-5400000"/>
                <a:lnTo>
                  <a:pt x="0" y="21589"/>
                </a:lnTo>
                <a:arcTo wR="117" hR="117" stAng="10800000" swAng="-5400000"/>
                <a:lnTo>
                  <a:pt x="21483" y="21706"/>
                </a:lnTo>
                <a:arcTo wR="117" hR="117" stAng="5400000" swAng="-5400000"/>
                <a:lnTo>
                  <a:pt x="21600" y="117"/>
                </a:lnTo>
                <a:arcTo wR="117" hR="117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500093"/>
                </a:solidFill>
                <a:latin typeface="Times New Roman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6003000" y="1698480"/>
            <a:ext cx="324360" cy="295560"/>
          </a:xfrm>
          <a:prstGeom prst="roundRect">
            <a:avLst>
              <a:gd name="adj" fmla="val 51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500093"/>
                </a:solidFill>
                <a:latin typeface="Times New Roman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6307920" y="1698480"/>
            <a:ext cx="313920" cy="295560"/>
          </a:xfrm>
          <a:prstGeom prst="roundRect">
            <a:avLst>
              <a:gd name="adj" fmla="val 51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500093"/>
                </a:solidFill>
                <a:latin typeface="Times New Roman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6689160" y="1698480"/>
            <a:ext cx="313920" cy="295560"/>
          </a:xfrm>
          <a:prstGeom prst="roundRect">
            <a:avLst>
              <a:gd name="adj" fmla="val 51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500093"/>
                </a:solidFill>
                <a:latin typeface="Times New Roman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7526160" y="1622520"/>
            <a:ext cx="1020960" cy="508680"/>
          </a:xfrm>
          <a:prstGeom prst="roundRect">
            <a:avLst>
              <a:gd name="adj" fmla="val 3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500093"/>
                </a:solidFill>
                <a:latin typeface="Times New Roman"/>
              </a:rPr>
              <a:t>Solution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500093"/>
                </a:solidFill>
                <a:latin typeface="Times New Roman"/>
              </a:rPr>
              <a:t>correctiv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1143000" y="1600200"/>
            <a:ext cx="1440" cy="464832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304920" y="2133720"/>
            <a:ext cx="8458200" cy="144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1126080" y="2255760"/>
            <a:ext cx="896040" cy="44892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ns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suffisan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2209680" y="1600200"/>
            <a:ext cx="1800" cy="464832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2191320" y="1698480"/>
            <a:ext cx="1257120" cy="295560"/>
          </a:xfrm>
          <a:prstGeom prst="roundRect">
            <a:avLst>
              <a:gd name="adj" fmla="val 51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500093"/>
                </a:solidFill>
                <a:latin typeface="Times New Roman"/>
              </a:rPr>
              <a:t>Conséquen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2194920" y="2255760"/>
            <a:ext cx="1186920" cy="631440"/>
          </a:xfrm>
          <a:prstGeom prst="roundRect">
            <a:avLst>
              <a:gd name="adj" fmla="val 245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auvais conta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ésolidaris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= pan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3505320" y="1600200"/>
            <a:ext cx="1440" cy="464832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3809880" y="1600200"/>
            <a:ext cx="1800" cy="464832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3793320" y="2179800"/>
            <a:ext cx="911160" cy="813960"/>
          </a:xfrm>
          <a:prstGeom prst="roundRect">
            <a:avLst>
              <a:gd name="adj" fmla="val 19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ncep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=&gt; vale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=&gt; pas 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rein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4876920" y="1600200"/>
            <a:ext cx="1440" cy="464832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4861440" y="2408400"/>
            <a:ext cx="591120" cy="266400"/>
          </a:xfrm>
          <a:prstGeom prst="roundRect">
            <a:avLst>
              <a:gd name="adj" fmla="val 57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uc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5715000" y="1600200"/>
            <a:ext cx="1440" cy="464832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6019920" y="1600200"/>
            <a:ext cx="1440" cy="464832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6324480" y="1600200"/>
            <a:ext cx="1800" cy="464832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6629400" y="1600200"/>
            <a:ext cx="1440" cy="464832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7086600" y="1600200"/>
            <a:ext cx="1440" cy="464832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7070400" y="2179800"/>
            <a:ext cx="1659600" cy="631440"/>
          </a:xfrm>
          <a:prstGeom prst="roundRect">
            <a:avLst>
              <a:gd name="adj" fmla="val 245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ondelle frein sur écro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crou frein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ocumenter ten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 flipH="1">
            <a:off x="3498840" y="2971800"/>
            <a:ext cx="5270400" cy="144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3489480" y="2484360"/>
            <a:ext cx="262080" cy="266400"/>
          </a:xfrm>
          <a:custGeom>
            <a:avLst/>
            <a:gdLst>
              <a:gd name="textAreaLeft" fmla="*/ 360 w 262080"/>
              <a:gd name="textAreaRight" fmla="*/ 261720 w 262080"/>
              <a:gd name="textAreaTop" fmla="*/ 360 h 266400"/>
              <a:gd name="textAreaBottom" fmla="*/ 266040 h 266400"/>
            </a:gdLst>
            <a:ahLst/>
            <a:rect l="textAreaLeft" t="textAreaTop" r="textAreaRight" b="textAreaBottom"/>
            <a:pathLst>
              <a:path w="21600" h="21956">
                <a:moveTo>
                  <a:pt x="131" y="0"/>
                </a:moveTo>
                <a:arcTo wR="131" hR="131" stAng="16200000" swAng="-5400000"/>
                <a:lnTo>
                  <a:pt x="0" y="21825"/>
                </a:lnTo>
                <a:arcTo wR="131" hR="131" stAng="10800000" swAng="-5400000"/>
                <a:lnTo>
                  <a:pt x="21469" y="21956"/>
                </a:lnTo>
                <a:arcTo wR="131" hR="131" stAng="5400000" swAng="-5400000"/>
                <a:lnTo>
                  <a:pt x="21600" y="131"/>
                </a:lnTo>
                <a:arcTo wR="131" hR="131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3793320" y="3017880"/>
            <a:ext cx="905040" cy="44892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ournisse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=&gt; V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 flipH="1">
            <a:off x="1136520" y="3429000"/>
            <a:ext cx="7632720" cy="144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3489480" y="3094200"/>
            <a:ext cx="262080" cy="266400"/>
          </a:xfrm>
          <a:custGeom>
            <a:avLst/>
            <a:gdLst>
              <a:gd name="textAreaLeft" fmla="*/ 360 w 262080"/>
              <a:gd name="textAreaRight" fmla="*/ 261720 w 262080"/>
              <a:gd name="textAreaTop" fmla="*/ 360 h 266400"/>
              <a:gd name="textAreaBottom" fmla="*/ 266040 h 266400"/>
            </a:gdLst>
            <a:ahLst/>
            <a:rect l="textAreaLeft" t="textAreaTop" r="textAreaRight" b="textAreaBottom"/>
            <a:pathLst>
              <a:path w="21600" h="21956">
                <a:moveTo>
                  <a:pt x="131" y="0"/>
                </a:moveTo>
                <a:arcTo wR="131" hR="131" stAng="16200000" swAng="-5400000"/>
                <a:lnTo>
                  <a:pt x="0" y="21825"/>
                </a:lnTo>
                <a:arcTo wR="131" hR="131" stAng="10800000" swAng="-5400000"/>
                <a:lnTo>
                  <a:pt x="21469" y="21956"/>
                </a:lnTo>
                <a:arcTo wR="131" hR="131" stAng="5400000" swAng="-5400000"/>
                <a:lnTo>
                  <a:pt x="21600" y="131"/>
                </a:lnTo>
                <a:arcTo wR="131" hR="131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4861440" y="3017880"/>
            <a:ext cx="854640" cy="44892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'agré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5699160" y="2408400"/>
            <a:ext cx="262080" cy="266400"/>
          </a:xfrm>
          <a:custGeom>
            <a:avLst/>
            <a:gdLst>
              <a:gd name="textAreaLeft" fmla="*/ 360 w 262080"/>
              <a:gd name="textAreaRight" fmla="*/ 261720 w 262080"/>
              <a:gd name="textAreaTop" fmla="*/ 360 h 266400"/>
              <a:gd name="textAreaBottom" fmla="*/ 266040 h 266400"/>
            </a:gdLst>
            <a:ahLst/>
            <a:rect l="textAreaLeft" t="textAreaTop" r="textAreaRight" b="textAreaBottom"/>
            <a:pathLst>
              <a:path w="21600" h="21956">
                <a:moveTo>
                  <a:pt x="131" y="0"/>
                </a:moveTo>
                <a:arcTo wR="131" hR="131" stAng="16200000" swAng="-5400000"/>
                <a:lnTo>
                  <a:pt x="0" y="21825"/>
                </a:lnTo>
                <a:arcTo wR="131" hR="131" stAng="10800000" swAng="-5400000"/>
                <a:lnTo>
                  <a:pt x="21469" y="21956"/>
                </a:lnTo>
                <a:arcTo wR="131" hR="131" stAng="5400000" swAng="-5400000"/>
                <a:lnTo>
                  <a:pt x="21600" y="131"/>
                </a:lnTo>
                <a:arcTo wR="131" hR="131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5699160" y="3094200"/>
            <a:ext cx="262080" cy="266400"/>
          </a:xfrm>
          <a:custGeom>
            <a:avLst/>
            <a:gdLst>
              <a:gd name="textAreaLeft" fmla="*/ 360 w 262080"/>
              <a:gd name="textAreaRight" fmla="*/ 261720 w 262080"/>
              <a:gd name="textAreaTop" fmla="*/ 360 h 266400"/>
              <a:gd name="textAreaBottom" fmla="*/ 266040 h 266400"/>
            </a:gdLst>
            <a:ahLst/>
            <a:rect l="textAreaLeft" t="textAreaTop" r="textAreaRight" b="textAreaBottom"/>
            <a:pathLst>
              <a:path w="21600" h="21956">
                <a:moveTo>
                  <a:pt x="131" y="0"/>
                </a:moveTo>
                <a:arcTo wR="131" hR="131" stAng="16200000" swAng="-5400000"/>
                <a:lnTo>
                  <a:pt x="0" y="21825"/>
                </a:lnTo>
                <a:arcTo wR="131" hR="131" stAng="10800000" swAng="-5400000"/>
                <a:lnTo>
                  <a:pt x="21469" y="21956"/>
                </a:lnTo>
                <a:arcTo wR="131" hR="131" stAng="5400000" swAng="-5400000"/>
                <a:lnTo>
                  <a:pt x="21600" y="131"/>
                </a:lnTo>
                <a:arcTo wR="131" hR="131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6004080" y="2408400"/>
            <a:ext cx="338040" cy="266400"/>
          </a:xfrm>
          <a:prstGeom prst="roundRect">
            <a:avLst>
              <a:gd name="adj" fmla="val 57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6004080" y="3094200"/>
            <a:ext cx="338040" cy="266400"/>
          </a:xfrm>
          <a:prstGeom prst="roundRect">
            <a:avLst>
              <a:gd name="adj" fmla="val 57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6307200" y="2408400"/>
            <a:ext cx="338040" cy="266400"/>
          </a:xfrm>
          <a:prstGeom prst="roundRect">
            <a:avLst>
              <a:gd name="adj" fmla="val 57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6307200" y="3094200"/>
            <a:ext cx="338040" cy="266400"/>
          </a:xfrm>
          <a:prstGeom prst="roundRect">
            <a:avLst>
              <a:gd name="adj" fmla="val 57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6613560" y="2408400"/>
            <a:ext cx="490680" cy="266400"/>
          </a:xfrm>
          <a:prstGeom prst="roundRect">
            <a:avLst>
              <a:gd name="adj" fmla="val 57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1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6613560" y="3094200"/>
            <a:ext cx="490680" cy="266400"/>
          </a:xfrm>
          <a:prstGeom prst="roundRect">
            <a:avLst>
              <a:gd name="adj" fmla="val 57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1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7071120" y="3017880"/>
            <a:ext cx="1537560" cy="44892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lan assurance qualit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hez les fournisseu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515880" y="2332080"/>
            <a:ext cx="363960" cy="266400"/>
          </a:xfrm>
          <a:prstGeom prst="roundRect">
            <a:avLst>
              <a:gd name="adj" fmla="val 57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F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1126800" y="3551400"/>
            <a:ext cx="815040" cy="44892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n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rop fai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2194920" y="3475080"/>
            <a:ext cx="1330200" cy="813960"/>
          </a:xfrm>
          <a:prstGeom prst="roundRect">
            <a:avLst>
              <a:gd name="adj" fmla="val 19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éformation cos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aintenabilité dif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ic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=&gt; mé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3793680" y="3475080"/>
            <a:ext cx="888480" cy="44892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ncep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=&gt; vale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 flipH="1">
            <a:off x="3498840" y="3886200"/>
            <a:ext cx="5270400" cy="144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489480" y="3551400"/>
            <a:ext cx="262080" cy="266400"/>
          </a:xfrm>
          <a:custGeom>
            <a:avLst/>
            <a:gdLst>
              <a:gd name="textAreaLeft" fmla="*/ 360 w 262080"/>
              <a:gd name="textAreaRight" fmla="*/ 261720 w 262080"/>
              <a:gd name="textAreaTop" fmla="*/ 360 h 266400"/>
              <a:gd name="textAreaBottom" fmla="*/ 266040 h 266400"/>
            </a:gdLst>
            <a:ahLst/>
            <a:rect l="textAreaLeft" t="textAreaTop" r="textAreaRight" b="textAreaBottom"/>
            <a:pathLst>
              <a:path w="21600" h="21956">
                <a:moveTo>
                  <a:pt x="131" y="0"/>
                </a:moveTo>
                <a:arcTo wR="131" hR="131" stAng="16200000" swAng="-5400000"/>
                <a:lnTo>
                  <a:pt x="0" y="21825"/>
                </a:lnTo>
                <a:arcTo wR="131" hR="131" stAng="10800000" swAng="-5400000"/>
                <a:lnTo>
                  <a:pt x="21469" y="21956"/>
                </a:lnTo>
                <a:arcTo wR="131" hR="131" stAng="5400000" swAng="-5400000"/>
                <a:lnTo>
                  <a:pt x="21600" y="131"/>
                </a:lnTo>
                <a:arcTo wR="131" hR="131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4861440" y="3551400"/>
            <a:ext cx="591120" cy="266400"/>
          </a:xfrm>
          <a:prstGeom prst="roundRect">
            <a:avLst>
              <a:gd name="adj" fmla="val 57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uc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070400" y="3475080"/>
            <a:ext cx="1415520" cy="266400"/>
          </a:xfrm>
          <a:prstGeom prst="roundRect">
            <a:avLst>
              <a:gd name="adj" fmla="val 57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ocumenter ten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3793680" y="3932280"/>
            <a:ext cx="1072800" cy="631440"/>
          </a:xfrm>
          <a:prstGeom prst="roundRect">
            <a:avLst>
              <a:gd name="adj" fmla="val 245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ournisse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=&gt; matiè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e la cos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4861440" y="4008600"/>
            <a:ext cx="854640" cy="44892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'agré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H="1">
            <a:off x="1136520" y="4572000"/>
            <a:ext cx="7632720" cy="144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489480" y="4084560"/>
            <a:ext cx="262080" cy="266400"/>
          </a:xfrm>
          <a:custGeom>
            <a:avLst/>
            <a:gdLst>
              <a:gd name="textAreaLeft" fmla="*/ 360 w 262080"/>
              <a:gd name="textAreaRight" fmla="*/ 261720 w 262080"/>
              <a:gd name="textAreaTop" fmla="*/ 360 h 266400"/>
              <a:gd name="textAreaBottom" fmla="*/ 266040 h 266400"/>
            </a:gdLst>
            <a:ahLst/>
            <a:rect l="textAreaLeft" t="textAreaTop" r="textAreaRight" b="textAreaBottom"/>
            <a:pathLst>
              <a:path w="21600" h="21956">
                <a:moveTo>
                  <a:pt x="131" y="0"/>
                </a:moveTo>
                <a:arcTo wR="131" hR="131" stAng="16200000" swAng="-5400000"/>
                <a:lnTo>
                  <a:pt x="0" y="21825"/>
                </a:lnTo>
                <a:arcTo wR="131" hR="131" stAng="10800000" swAng="-5400000"/>
                <a:lnTo>
                  <a:pt x="21469" y="21956"/>
                </a:lnTo>
                <a:arcTo wR="131" hR="131" stAng="5400000" swAng="-5400000"/>
                <a:lnTo>
                  <a:pt x="21600" y="131"/>
                </a:lnTo>
                <a:arcTo wR="131" hR="131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7070760" y="4084560"/>
            <a:ext cx="1053000" cy="266400"/>
          </a:xfrm>
          <a:prstGeom prst="roundRect">
            <a:avLst>
              <a:gd name="adj" fmla="val 57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hoix matiè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5699160" y="3551400"/>
            <a:ext cx="262080" cy="266400"/>
          </a:xfrm>
          <a:custGeom>
            <a:avLst/>
            <a:gdLst>
              <a:gd name="textAreaLeft" fmla="*/ 360 w 262080"/>
              <a:gd name="textAreaRight" fmla="*/ 261720 w 262080"/>
              <a:gd name="textAreaTop" fmla="*/ 360 h 266400"/>
              <a:gd name="textAreaBottom" fmla="*/ 266040 h 266400"/>
            </a:gdLst>
            <a:ahLst/>
            <a:rect l="textAreaLeft" t="textAreaTop" r="textAreaRight" b="textAreaBottom"/>
            <a:pathLst>
              <a:path w="21600" h="21956">
                <a:moveTo>
                  <a:pt x="131" y="0"/>
                </a:moveTo>
                <a:arcTo wR="131" hR="131" stAng="16200000" swAng="-5400000"/>
                <a:lnTo>
                  <a:pt x="0" y="21825"/>
                </a:lnTo>
                <a:arcTo wR="131" hR="131" stAng="10800000" swAng="-5400000"/>
                <a:lnTo>
                  <a:pt x="21469" y="21956"/>
                </a:lnTo>
                <a:arcTo wR="131" hR="131" stAng="5400000" swAng="-5400000"/>
                <a:lnTo>
                  <a:pt x="21600" y="131"/>
                </a:lnTo>
                <a:arcTo wR="131" hR="131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5699160" y="4084560"/>
            <a:ext cx="262080" cy="266400"/>
          </a:xfrm>
          <a:custGeom>
            <a:avLst/>
            <a:gdLst>
              <a:gd name="textAreaLeft" fmla="*/ 360 w 262080"/>
              <a:gd name="textAreaRight" fmla="*/ 261720 w 262080"/>
              <a:gd name="textAreaTop" fmla="*/ 360 h 266400"/>
              <a:gd name="textAreaBottom" fmla="*/ 266040 h 266400"/>
            </a:gdLst>
            <a:ahLst/>
            <a:rect l="textAreaLeft" t="textAreaTop" r="textAreaRight" b="textAreaBottom"/>
            <a:pathLst>
              <a:path w="21600" h="21956">
                <a:moveTo>
                  <a:pt x="131" y="0"/>
                </a:moveTo>
                <a:arcTo wR="131" hR="131" stAng="16200000" swAng="-5400000"/>
                <a:lnTo>
                  <a:pt x="0" y="21825"/>
                </a:lnTo>
                <a:arcTo wR="131" hR="131" stAng="10800000" swAng="-5400000"/>
                <a:lnTo>
                  <a:pt x="21469" y="21956"/>
                </a:lnTo>
                <a:arcTo wR="131" hR="131" stAng="5400000" swAng="-5400000"/>
                <a:lnTo>
                  <a:pt x="21600" y="131"/>
                </a:lnTo>
                <a:arcTo wR="131" hR="131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6004080" y="3551400"/>
            <a:ext cx="262080" cy="266400"/>
          </a:xfrm>
          <a:custGeom>
            <a:avLst/>
            <a:gdLst>
              <a:gd name="textAreaLeft" fmla="*/ 360 w 262080"/>
              <a:gd name="textAreaRight" fmla="*/ 261720 w 262080"/>
              <a:gd name="textAreaTop" fmla="*/ 360 h 266400"/>
              <a:gd name="textAreaBottom" fmla="*/ 266040 h 266400"/>
            </a:gdLst>
            <a:ahLst/>
            <a:rect l="textAreaLeft" t="textAreaTop" r="textAreaRight" b="textAreaBottom"/>
            <a:pathLst>
              <a:path w="21600" h="21956">
                <a:moveTo>
                  <a:pt x="131" y="0"/>
                </a:moveTo>
                <a:arcTo wR="131" hR="131" stAng="16200000" swAng="-5400000"/>
                <a:lnTo>
                  <a:pt x="0" y="21825"/>
                </a:lnTo>
                <a:arcTo wR="131" hR="131" stAng="10800000" swAng="-5400000"/>
                <a:lnTo>
                  <a:pt x="21469" y="21956"/>
                </a:lnTo>
                <a:arcTo wR="131" hR="131" stAng="5400000" swAng="-5400000"/>
                <a:lnTo>
                  <a:pt x="21600" y="131"/>
                </a:lnTo>
                <a:arcTo wR="131" hR="131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6004080" y="4084560"/>
            <a:ext cx="262080" cy="266400"/>
          </a:xfrm>
          <a:custGeom>
            <a:avLst/>
            <a:gdLst>
              <a:gd name="textAreaLeft" fmla="*/ 360 w 262080"/>
              <a:gd name="textAreaRight" fmla="*/ 261720 w 262080"/>
              <a:gd name="textAreaTop" fmla="*/ 360 h 266400"/>
              <a:gd name="textAreaBottom" fmla="*/ 266040 h 266400"/>
            </a:gdLst>
            <a:ahLst/>
            <a:rect l="textAreaLeft" t="textAreaTop" r="textAreaRight" b="textAreaBottom"/>
            <a:pathLst>
              <a:path w="21600" h="21956">
                <a:moveTo>
                  <a:pt x="131" y="0"/>
                </a:moveTo>
                <a:arcTo wR="131" hR="131" stAng="16200000" swAng="-5400000"/>
                <a:lnTo>
                  <a:pt x="0" y="21825"/>
                </a:lnTo>
                <a:arcTo wR="131" hR="131" stAng="10800000" swAng="-5400000"/>
                <a:lnTo>
                  <a:pt x="21469" y="21956"/>
                </a:lnTo>
                <a:arcTo wR="131" hR="131" stAng="5400000" swAng="-5400000"/>
                <a:lnTo>
                  <a:pt x="21600" y="131"/>
                </a:lnTo>
                <a:arcTo wR="131" hR="131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6307200" y="3551400"/>
            <a:ext cx="338040" cy="266400"/>
          </a:xfrm>
          <a:prstGeom prst="roundRect">
            <a:avLst>
              <a:gd name="adj" fmla="val 57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6307200" y="4084560"/>
            <a:ext cx="338040" cy="266400"/>
          </a:xfrm>
          <a:prstGeom prst="roundRect">
            <a:avLst>
              <a:gd name="adj" fmla="val 57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6613560" y="3551400"/>
            <a:ext cx="414360" cy="266400"/>
          </a:xfrm>
          <a:prstGeom prst="roundRect">
            <a:avLst>
              <a:gd name="adj" fmla="val 57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7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6613560" y="4084560"/>
            <a:ext cx="414360" cy="266400"/>
          </a:xfrm>
          <a:prstGeom prst="roundRect">
            <a:avLst>
              <a:gd name="adj" fmla="val 57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7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1125360" y="4694400"/>
            <a:ext cx="1126080" cy="44892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auva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ositionn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2192760" y="4618080"/>
            <a:ext cx="1306080" cy="813960"/>
          </a:xfrm>
          <a:prstGeom prst="roundRect">
            <a:avLst>
              <a:gd name="adj" fmla="val 19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auvais conta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isaillement bor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= très mé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= pan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3793680" y="4618080"/>
            <a:ext cx="1078920" cy="44892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ncep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=&gt; péné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4861440" y="4694400"/>
            <a:ext cx="591120" cy="266400"/>
          </a:xfrm>
          <a:prstGeom prst="roundRect">
            <a:avLst>
              <a:gd name="adj" fmla="val 57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uc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 flipH="1">
            <a:off x="3498840" y="5105520"/>
            <a:ext cx="5270400" cy="144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7069320" y="4694400"/>
            <a:ext cx="1630440" cy="266400"/>
          </a:xfrm>
          <a:prstGeom prst="roundRect">
            <a:avLst>
              <a:gd name="adj" fmla="val 57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ensibilisation monte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3793320" y="5227560"/>
            <a:ext cx="972000" cy="44892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ccessibilit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=&gt; fil tord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3489480" y="4694400"/>
            <a:ext cx="262080" cy="266400"/>
          </a:xfrm>
          <a:custGeom>
            <a:avLst/>
            <a:gdLst>
              <a:gd name="textAreaLeft" fmla="*/ 360 w 262080"/>
              <a:gd name="textAreaRight" fmla="*/ 261720 w 262080"/>
              <a:gd name="textAreaTop" fmla="*/ 360 h 266400"/>
              <a:gd name="textAreaBottom" fmla="*/ 266040 h 266400"/>
            </a:gdLst>
            <a:ahLst/>
            <a:rect l="textAreaLeft" t="textAreaTop" r="textAreaRight" b="textAreaBottom"/>
            <a:pathLst>
              <a:path w="21600" h="21956">
                <a:moveTo>
                  <a:pt x="131" y="0"/>
                </a:moveTo>
                <a:arcTo wR="131" hR="131" stAng="16200000" swAng="-5400000"/>
                <a:lnTo>
                  <a:pt x="0" y="21825"/>
                </a:lnTo>
                <a:arcTo wR="131" hR="131" stAng="10800000" swAng="-5400000"/>
                <a:lnTo>
                  <a:pt x="21469" y="21956"/>
                </a:lnTo>
                <a:arcTo wR="131" hR="131" stAng="5400000" swAng="-5400000"/>
                <a:lnTo>
                  <a:pt x="21600" y="131"/>
                </a:lnTo>
                <a:arcTo wR="131" hR="131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3489480" y="5532480"/>
            <a:ext cx="262080" cy="266400"/>
          </a:xfrm>
          <a:custGeom>
            <a:avLst/>
            <a:gdLst>
              <a:gd name="textAreaLeft" fmla="*/ 360 w 262080"/>
              <a:gd name="textAreaRight" fmla="*/ 261720 w 262080"/>
              <a:gd name="textAreaTop" fmla="*/ 360 h 266400"/>
              <a:gd name="textAreaBottom" fmla="*/ 266040 h 266400"/>
            </a:gdLst>
            <a:ahLst/>
            <a:rect l="textAreaLeft" t="textAreaTop" r="textAreaRight" b="textAreaBottom"/>
            <a:pathLst>
              <a:path w="21600" h="21956">
                <a:moveTo>
                  <a:pt x="131" y="0"/>
                </a:moveTo>
                <a:arcTo wR="131" hR="131" stAng="16200000" swAng="-5400000"/>
                <a:lnTo>
                  <a:pt x="0" y="21825"/>
                </a:lnTo>
                <a:arcTo wR="131" hR="131" stAng="10800000" swAng="-5400000"/>
                <a:lnTo>
                  <a:pt x="21469" y="21956"/>
                </a:lnTo>
                <a:arcTo wR="131" hR="131" stAng="5400000" swAng="-5400000"/>
                <a:lnTo>
                  <a:pt x="21600" y="131"/>
                </a:lnTo>
                <a:arcTo wR="131" hR="131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4935960" y="5456160"/>
            <a:ext cx="591120" cy="266400"/>
          </a:xfrm>
          <a:prstGeom prst="roundRect">
            <a:avLst>
              <a:gd name="adj" fmla="val 57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uc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7069680" y="5456160"/>
            <a:ext cx="1622880" cy="266400"/>
          </a:xfrm>
          <a:prstGeom prst="roundRect">
            <a:avLst>
              <a:gd name="adj" fmla="val 57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ugmenter longueur f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5699160" y="4694400"/>
            <a:ext cx="262080" cy="266400"/>
          </a:xfrm>
          <a:custGeom>
            <a:avLst/>
            <a:gdLst>
              <a:gd name="textAreaLeft" fmla="*/ 360 w 262080"/>
              <a:gd name="textAreaRight" fmla="*/ 261720 w 262080"/>
              <a:gd name="textAreaTop" fmla="*/ 360 h 266400"/>
              <a:gd name="textAreaBottom" fmla="*/ 266040 h 266400"/>
            </a:gdLst>
            <a:ahLst/>
            <a:rect l="textAreaLeft" t="textAreaTop" r="textAreaRight" b="textAreaBottom"/>
            <a:pathLst>
              <a:path w="21600" h="21956">
                <a:moveTo>
                  <a:pt x="131" y="0"/>
                </a:moveTo>
                <a:arcTo wR="131" hR="131" stAng="16200000" swAng="-5400000"/>
                <a:lnTo>
                  <a:pt x="0" y="21825"/>
                </a:lnTo>
                <a:arcTo wR="131" hR="131" stAng="10800000" swAng="-5400000"/>
                <a:lnTo>
                  <a:pt x="21469" y="21956"/>
                </a:lnTo>
                <a:arcTo wR="131" hR="131" stAng="5400000" swAng="-5400000"/>
                <a:lnTo>
                  <a:pt x="21600" y="131"/>
                </a:lnTo>
                <a:arcTo wR="131" hR="131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6004080" y="4694400"/>
            <a:ext cx="338040" cy="266400"/>
          </a:xfrm>
          <a:prstGeom prst="roundRect">
            <a:avLst>
              <a:gd name="adj" fmla="val 57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6307200" y="4694400"/>
            <a:ext cx="338040" cy="266400"/>
          </a:xfrm>
          <a:prstGeom prst="roundRect">
            <a:avLst>
              <a:gd name="adj" fmla="val 57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6613560" y="4694400"/>
            <a:ext cx="490680" cy="266400"/>
          </a:xfrm>
          <a:prstGeom prst="roundRect">
            <a:avLst>
              <a:gd name="adj" fmla="val 57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1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5699160" y="5456160"/>
            <a:ext cx="338040" cy="266400"/>
          </a:xfrm>
          <a:prstGeom prst="roundRect">
            <a:avLst>
              <a:gd name="adj" fmla="val 57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004080" y="5456160"/>
            <a:ext cx="338040" cy="266400"/>
          </a:xfrm>
          <a:prstGeom prst="roundRect">
            <a:avLst>
              <a:gd name="adj" fmla="val 57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6307200" y="5456160"/>
            <a:ext cx="338040" cy="266400"/>
          </a:xfrm>
          <a:prstGeom prst="roundRect">
            <a:avLst>
              <a:gd name="adj" fmla="val 57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6613560" y="5456160"/>
            <a:ext cx="490680" cy="266400"/>
          </a:xfrm>
          <a:prstGeom prst="roundRect">
            <a:avLst>
              <a:gd name="adj" fmla="val 57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37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" name=""/>
          <p:cNvGrpSpPr/>
          <p:nvPr/>
        </p:nvGrpSpPr>
        <p:grpSpPr>
          <a:xfrm>
            <a:off x="2237760" y="46080"/>
            <a:ext cx="4384440" cy="579240"/>
            <a:chOff x="2237760" y="46080"/>
            <a:chExt cx="4384440" cy="579240"/>
          </a:xfrm>
        </p:grpSpPr>
        <p:sp>
          <p:nvSpPr>
            <p:cNvPr id="131" name=""/>
            <p:cNvSpPr/>
            <p:nvPr/>
          </p:nvSpPr>
          <p:spPr>
            <a:xfrm>
              <a:off x="2270160" y="46080"/>
              <a:ext cx="4316400" cy="579240"/>
            </a:xfrm>
            <a:prstGeom prst="roundRect">
              <a:avLst>
                <a:gd name="adj" fmla="val 273"/>
              </a:avLst>
            </a:prstGeom>
            <a:solidFill>
              <a:srgbClr val="c8fec8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237760" y="46080"/>
              <a:ext cx="4384440" cy="546480"/>
            </a:xfrm>
            <a:prstGeom prst="roundRect">
              <a:avLst>
                <a:gd name="adj" fmla="val 273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3200" spc="-1" strike="noStrike">
                  <a:solidFill>
                    <a:srgbClr val="500093"/>
                  </a:solidFill>
                  <a:latin typeface="Arial"/>
                </a:rPr>
                <a:t>Analyse fonctionnell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6154920" y="3017880"/>
            <a:ext cx="1677600" cy="579240"/>
            <a:chOff x="6154920" y="3017880"/>
            <a:chExt cx="1677600" cy="579240"/>
          </a:xfrm>
        </p:grpSpPr>
        <p:sp>
          <p:nvSpPr>
            <p:cNvPr id="134" name=""/>
            <p:cNvSpPr/>
            <p:nvPr/>
          </p:nvSpPr>
          <p:spPr>
            <a:xfrm>
              <a:off x="6156360" y="3017880"/>
              <a:ext cx="1674720" cy="579240"/>
            </a:xfrm>
            <a:prstGeom prst="roundRect">
              <a:avLst>
                <a:gd name="adj" fmla="val 273"/>
              </a:avLst>
            </a:prstGeom>
            <a:solidFill>
              <a:srgbClr val="c8fec8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154920" y="3017880"/>
              <a:ext cx="1677600" cy="546480"/>
            </a:xfrm>
            <a:prstGeom prst="roundRect">
              <a:avLst>
                <a:gd name="adj" fmla="val 273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3200" spc="-1" strike="noStrike">
                  <a:solidFill>
                    <a:srgbClr val="500093"/>
                  </a:solidFill>
                  <a:latin typeface="Arial"/>
                </a:rPr>
                <a:t>AMDE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103320" y="3017880"/>
            <a:ext cx="4090320" cy="579240"/>
            <a:chOff x="103320" y="3017880"/>
            <a:chExt cx="4090320" cy="579240"/>
          </a:xfrm>
        </p:grpSpPr>
        <p:sp>
          <p:nvSpPr>
            <p:cNvPr id="137" name=""/>
            <p:cNvSpPr/>
            <p:nvPr/>
          </p:nvSpPr>
          <p:spPr>
            <a:xfrm>
              <a:off x="136440" y="3017880"/>
              <a:ext cx="4024440" cy="579240"/>
            </a:xfrm>
            <a:prstGeom prst="roundRect">
              <a:avLst>
                <a:gd name="adj" fmla="val 273"/>
              </a:avLst>
            </a:prstGeom>
            <a:solidFill>
              <a:srgbClr val="c8fec8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03320" y="3017880"/>
              <a:ext cx="4090320" cy="546480"/>
            </a:xfrm>
            <a:prstGeom prst="roundRect">
              <a:avLst>
                <a:gd name="adj" fmla="val 273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3200" spc="-1" strike="noStrike">
                  <a:solidFill>
                    <a:srgbClr val="500093"/>
                  </a:solidFill>
                  <a:latin typeface="Arial"/>
                </a:rPr>
                <a:t>Analyse de la valeur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" name=""/>
          <p:cNvSpPr/>
          <p:nvPr/>
        </p:nvSpPr>
        <p:spPr>
          <a:xfrm>
            <a:off x="2499120" y="746280"/>
            <a:ext cx="4046040" cy="1530360"/>
          </a:xfrm>
          <a:prstGeom prst="roundRect">
            <a:avLst>
              <a:gd name="adj" fmla="val 102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buts - objecti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lieu environn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dc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éponse technique au cdc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84320" y="3718080"/>
            <a:ext cx="4049280" cy="1896120"/>
          </a:xfrm>
          <a:prstGeom prst="roundRect">
            <a:avLst>
              <a:gd name="adj" fmla="val 7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qualité économ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u produ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hiffrage des fo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ndement de conce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olution optimisée en coû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136480" y="3718080"/>
            <a:ext cx="3663360" cy="1896120"/>
          </a:xfrm>
          <a:prstGeom prst="roundRect">
            <a:avLst>
              <a:gd name="adj" fmla="val 7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fiabilité du produ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qualité techn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ode de défa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auses - effets - criticit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olution fiabilisé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2498040" y="5616720"/>
            <a:ext cx="4152600" cy="834840"/>
            <a:chOff x="2498040" y="5616720"/>
            <a:chExt cx="4152600" cy="834840"/>
          </a:xfrm>
        </p:grpSpPr>
        <p:sp>
          <p:nvSpPr>
            <p:cNvPr id="143" name=""/>
            <p:cNvSpPr/>
            <p:nvPr/>
          </p:nvSpPr>
          <p:spPr>
            <a:xfrm>
              <a:off x="2509920" y="5616720"/>
              <a:ext cx="4125960" cy="834840"/>
            </a:xfrm>
            <a:prstGeom prst="roundRect">
              <a:avLst>
                <a:gd name="adj" fmla="val 190"/>
              </a:avLst>
            </a:prstGeom>
            <a:solidFill>
              <a:srgbClr val="c8fec8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498040" y="5616720"/>
              <a:ext cx="4152600" cy="798840"/>
            </a:xfrm>
            <a:prstGeom prst="roundRect">
              <a:avLst>
                <a:gd name="adj" fmla="val 190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Synthè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Solution fiable et optimisé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90240" y="356760"/>
            <a:ext cx="7853400" cy="76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Arial"/>
              </a:rPr>
              <a:t>Analyse Fonctionnelle Externe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654440" y="2368440"/>
            <a:ext cx="4407120" cy="2044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781680" y="2133720"/>
            <a:ext cx="2286000" cy="3047760"/>
          </a:xfrm>
          <a:custGeom>
            <a:avLst/>
            <a:gdLst>
              <a:gd name="textAreaLeft" fmla="*/ 360 w 2286000"/>
              <a:gd name="textAreaRight" fmla="*/ 2285640 w 2286000"/>
              <a:gd name="textAreaTop" fmla="*/ 360 h 3047760"/>
              <a:gd name="textAreaBottom" fmla="*/ 3047400 h 3047760"/>
            </a:gdLst>
            <a:ahLst/>
            <a:rect l="textAreaLeft" t="textAreaTop" r="textAreaRight" b="textAreaBottom"/>
            <a:pathLst>
              <a:path w="21600" h="28797">
                <a:moveTo>
                  <a:pt x="15" y="0"/>
                </a:moveTo>
                <a:arcTo wR="15" hR="15" stAng="16200000" swAng="-5400000"/>
                <a:lnTo>
                  <a:pt x="0" y="28782"/>
                </a:lnTo>
                <a:arcTo wR="15" hR="15" stAng="10800000" swAng="-5400000"/>
                <a:lnTo>
                  <a:pt x="21585" y="28797"/>
                </a:lnTo>
                <a:arcTo wR="15" hR="15" stAng="5400000" swAng="-5400000"/>
                <a:lnTo>
                  <a:pt x="21600" y="15"/>
                </a:lnTo>
                <a:arcTo wR="15" hR="1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5921280" y="2035080"/>
            <a:ext cx="1346400" cy="774720"/>
            <a:chOff x="5921280" y="2035080"/>
            <a:chExt cx="1346400" cy="774720"/>
          </a:xfrm>
        </p:grpSpPr>
        <p:sp>
          <p:nvSpPr>
            <p:cNvPr id="149" name=""/>
            <p:cNvSpPr/>
            <p:nvPr/>
          </p:nvSpPr>
          <p:spPr>
            <a:xfrm>
              <a:off x="5921280" y="2035080"/>
              <a:ext cx="1346400" cy="774720"/>
            </a:xfrm>
            <a:prstGeom prst="roundRect">
              <a:avLst>
                <a:gd name="adj" fmla="val 204"/>
              </a:avLst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925240" y="2035080"/>
              <a:ext cx="1336320" cy="716400"/>
            </a:xfrm>
            <a:prstGeom prst="roundRect">
              <a:avLst>
                <a:gd name="adj" fmla="val 204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4400" spc="-1" strike="noStrike">
                  <a:solidFill>
                    <a:srgbClr val="500093"/>
                  </a:solidFill>
                  <a:latin typeface="Arial"/>
                </a:rPr>
                <a:t>ME3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6531120" y="3787920"/>
            <a:ext cx="1346040" cy="774720"/>
            <a:chOff x="6531120" y="3787920"/>
            <a:chExt cx="1346040" cy="774720"/>
          </a:xfrm>
        </p:grpSpPr>
        <p:sp>
          <p:nvSpPr>
            <p:cNvPr id="152" name=""/>
            <p:cNvSpPr/>
            <p:nvPr/>
          </p:nvSpPr>
          <p:spPr>
            <a:xfrm>
              <a:off x="6531120" y="3787920"/>
              <a:ext cx="1346040" cy="774720"/>
            </a:xfrm>
            <a:prstGeom prst="roundRect">
              <a:avLst>
                <a:gd name="adj" fmla="val 204"/>
              </a:avLst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536520" y="3787920"/>
              <a:ext cx="1336320" cy="716400"/>
            </a:xfrm>
            <a:prstGeom prst="roundRect">
              <a:avLst>
                <a:gd name="adj" fmla="val 204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4400" spc="-1" strike="noStrike">
                  <a:solidFill>
                    <a:srgbClr val="500093"/>
                  </a:solidFill>
                  <a:latin typeface="Arial"/>
                </a:rPr>
                <a:t>ME4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8280" y="2292480"/>
            <a:ext cx="2349360" cy="2349360"/>
          </a:xfrm>
          <a:prstGeom prst="ellipse">
            <a:avLst/>
          </a:prstGeom>
          <a:solidFill>
            <a:srgbClr val="c8fec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905040" y="1873080"/>
            <a:ext cx="3660480" cy="4597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739800" y="1806480"/>
            <a:ext cx="1346040" cy="774720"/>
            <a:chOff x="739800" y="1806480"/>
            <a:chExt cx="1346040" cy="774720"/>
          </a:xfrm>
        </p:grpSpPr>
        <p:sp>
          <p:nvSpPr>
            <p:cNvPr id="157" name=""/>
            <p:cNvSpPr/>
            <p:nvPr/>
          </p:nvSpPr>
          <p:spPr>
            <a:xfrm>
              <a:off x="739800" y="1806480"/>
              <a:ext cx="1346040" cy="774720"/>
            </a:xfrm>
            <a:prstGeom prst="roundRect">
              <a:avLst>
                <a:gd name="adj" fmla="val 204"/>
              </a:avLst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45560" y="1806480"/>
              <a:ext cx="1336320" cy="716400"/>
            </a:xfrm>
            <a:prstGeom prst="roundRect">
              <a:avLst>
                <a:gd name="adj" fmla="val 204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4400" spc="-1" strike="noStrike">
                  <a:solidFill>
                    <a:srgbClr val="500093"/>
                  </a:solidFill>
                  <a:latin typeface="Arial"/>
                </a:rPr>
                <a:t>ME1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33520" y="2438280"/>
            <a:ext cx="1295280" cy="2895840"/>
          </a:xfrm>
          <a:custGeom>
            <a:avLst/>
            <a:gdLst>
              <a:gd name="textAreaLeft" fmla="*/ 360 w 1295280"/>
              <a:gd name="textAreaRight" fmla="*/ 1294920 w 1295280"/>
              <a:gd name="textAreaTop" fmla="*/ 360 h 2895840"/>
              <a:gd name="textAreaBottom" fmla="*/ 2895480 h 2895840"/>
            </a:gdLst>
            <a:ahLst/>
            <a:rect l="textAreaLeft" t="textAreaTop" r="textAreaRight" b="textAreaBottom"/>
            <a:pathLst>
              <a:path w="21600" h="48283">
                <a:moveTo>
                  <a:pt x="26" y="0"/>
                </a:moveTo>
                <a:arcTo wR="26" hR="26" stAng="16200000" swAng="-5400000"/>
                <a:lnTo>
                  <a:pt x="0" y="48257"/>
                </a:lnTo>
                <a:arcTo wR="26" hR="26" stAng="10800000" swAng="-5400000"/>
                <a:lnTo>
                  <a:pt x="21574" y="48283"/>
                </a:lnTo>
                <a:arcTo wR="26" hR="26" stAng="5400000" swAng="-5400000"/>
                <a:lnTo>
                  <a:pt x="21600" y="26"/>
                </a:lnTo>
                <a:arcTo wR="26" hR="26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3635280" y="5616720"/>
            <a:ext cx="1346400" cy="774720"/>
            <a:chOff x="3635280" y="5616720"/>
            <a:chExt cx="1346400" cy="774720"/>
          </a:xfrm>
        </p:grpSpPr>
        <p:sp>
          <p:nvSpPr>
            <p:cNvPr id="161" name=""/>
            <p:cNvSpPr/>
            <p:nvPr/>
          </p:nvSpPr>
          <p:spPr>
            <a:xfrm>
              <a:off x="3635280" y="5616720"/>
              <a:ext cx="1346400" cy="774720"/>
            </a:xfrm>
            <a:prstGeom prst="roundRect">
              <a:avLst>
                <a:gd name="adj" fmla="val 204"/>
              </a:avLst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639240" y="5616720"/>
              <a:ext cx="1336320" cy="716400"/>
            </a:xfrm>
            <a:prstGeom prst="roundRect">
              <a:avLst>
                <a:gd name="adj" fmla="val 204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4400" spc="-1" strike="noStrike">
                  <a:solidFill>
                    <a:srgbClr val="500093"/>
                  </a:solidFill>
                  <a:latin typeface="Arial"/>
                </a:rPr>
                <a:t>ME2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3545640" y="4832280"/>
            <a:ext cx="743400" cy="43308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500093"/>
                </a:solidFill>
                <a:latin typeface="Arial"/>
              </a:rPr>
              <a:t>FP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622840" y="3794040"/>
            <a:ext cx="760320" cy="43308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500093"/>
                </a:solidFill>
                <a:latin typeface="Arial"/>
              </a:rPr>
              <a:t>FC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013360" y="2041560"/>
            <a:ext cx="760320" cy="43308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500093"/>
                </a:solidFill>
                <a:latin typeface="Arial"/>
              </a:rPr>
              <a:t>FC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343680" y="2560680"/>
            <a:ext cx="1540440" cy="1521360"/>
          </a:xfrm>
          <a:prstGeom prst="roundRect">
            <a:avLst>
              <a:gd name="adj" fmla="val 102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500093"/>
                </a:solidFill>
                <a:latin typeface="Arial"/>
              </a:rPr>
              <a:t>obje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500093"/>
                </a:solidFill>
                <a:latin typeface="Arial"/>
              </a:rPr>
              <a:t>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500093"/>
                </a:solidFill>
                <a:latin typeface="Arial"/>
              </a:rPr>
              <a:t>étudi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368680" y="5700600"/>
            <a:ext cx="3526200" cy="622440"/>
          </a:xfrm>
          <a:prstGeom prst="roundRect">
            <a:avLst>
              <a:gd name="adj" fmla="val 245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FP =groupe verbal + MEi + ME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FC = groupe verbal + ME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71480" y="2666880"/>
            <a:ext cx="1743120" cy="3076560"/>
          </a:xfrm>
          <a:custGeom>
            <a:avLst/>
            <a:gdLst>
              <a:gd name="textAreaLeft" fmla="*/ 360 w 1743120"/>
              <a:gd name="textAreaRight" fmla="*/ 1742760 w 1743120"/>
              <a:gd name="textAreaTop" fmla="*/ 360 h 3076560"/>
              <a:gd name="textAreaBottom" fmla="*/ 3076200 h 3076560"/>
            </a:gdLst>
            <a:ahLst/>
            <a:rect l="textAreaLeft" t="textAreaTop" r="textAreaRight" b="textAreaBottom"/>
            <a:pathLst>
              <a:path w="21600" h="38120">
                <a:moveTo>
                  <a:pt x="19" y="0"/>
                </a:moveTo>
                <a:arcTo wR="19" hR="19" stAng="16200000" swAng="-5400000"/>
                <a:lnTo>
                  <a:pt x="0" y="38101"/>
                </a:lnTo>
                <a:arcTo wR="19" hR="19" stAng="10800000" swAng="-5400000"/>
                <a:lnTo>
                  <a:pt x="21581" y="38120"/>
                </a:lnTo>
                <a:arcTo wR="19" hR="19" stAng="5400000" swAng="-5400000"/>
                <a:lnTo>
                  <a:pt x="21600" y="19"/>
                </a:lnTo>
                <a:arcTo wR="19" hR="19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314360" y="5638680"/>
            <a:ext cx="2314800" cy="847800"/>
          </a:xfrm>
          <a:prstGeom prst="roundRect">
            <a:avLst>
              <a:gd name="adj" fmla="val 185"/>
            </a:avLst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0" y="31680"/>
            <a:ext cx="9067680" cy="55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Arial"/>
              </a:rPr>
              <a:t>analyse fonctionnelle interne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781200" y="801720"/>
            <a:ext cx="2249280" cy="1079640"/>
            <a:chOff x="781200" y="801720"/>
            <a:chExt cx="2249280" cy="1079640"/>
          </a:xfrm>
        </p:grpSpPr>
        <p:sp>
          <p:nvSpPr>
            <p:cNvPr id="172" name=""/>
            <p:cNvSpPr/>
            <p:nvPr/>
          </p:nvSpPr>
          <p:spPr>
            <a:xfrm>
              <a:off x="781200" y="801720"/>
              <a:ext cx="2249280" cy="1079640"/>
            </a:xfrm>
            <a:prstGeom prst="roundRect">
              <a:avLst>
                <a:gd name="adj" fmla="val 144"/>
              </a:avLst>
            </a:prstGeom>
            <a:solidFill>
              <a:srgbClr val="a2ffa3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50009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85520" y="801720"/>
              <a:ext cx="2240280" cy="1033920"/>
            </a:xfrm>
            <a:prstGeom prst="roundRect">
              <a:avLst>
                <a:gd name="adj" fmla="val 144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Arial"/>
                </a:rPr>
                <a:t>Milieu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Arial"/>
                </a:rPr>
                <a:t>extérieur 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774720" y="5595840"/>
            <a:ext cx="2262240" cy="1092240"/>
            <a:chOff x="774720" y="5595840"/>
            <a:chExt cx="2262240" cy="1092240"/>
          </a:xfrm>
        </p:grpSpPr>
        <p:sp>
          <p:nvSpPr>
            <p:cNvPr id="175" name=""/>
            <p:cNvSpPr/>
            <p:nvPr/>
          </p:nvSpPr>
          <p:spPr>
            <a:xfrm>
              <a:off x="774720" y="5595840"/>
              <a:ext cx="2262240" cy="1092240"/>
            </a:xfrm>
            <a:prstGeom prst="roundRect">
              <a:avLst>
                <a:gd name="adj" fmla="val 144"/>
              </a:avLst>
            </a:prstGeom>
            <a:solidFill>
              <a:srgbClr val="a2ffa3"/>
            </a:solidFill>
            <a:ln w="255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50009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85520" y="5595840"/>
              <a:ext cx="2240280" cy="1033920"/>
            </a:xfrm>
            <a:prstGeom prst="roundRect">
              <a:avLst>
                <a:gd name="adj" fmla="val 144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Arial"/>
                </a:rPr>
                <a:t>milieu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Arial"/>
                </a:rPr>
                <a:t>extérieur 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7" name=""/>
          <p:cNvSpPr/>
          <p:nvPr/>
        </p:nvSpPr>
        <p:spPr>
          <a:xfrm>
            <a:off x="1905120" y="1981080"/>
            <a:ext cx="1440" cy="3581640"/>
          </a:xfrm>
          <a:prstGeom prst="line">
            <a:avLst/>
          </a:prstGeom>
          <a:ln w="127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400480" y="3009960"/>
            <a:ext cx="3581280" cy="2133720"/>
          </a:xfrm>
          <a:prstGeom prst="ellipse">
            <a:avLst/>
          </a:prstGeom>
          <a:noFill/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5254560" y="3132000"/>
            <a:ext cx="1836720" cy="532080"/>
            <a:chOff x="5254560" y="3132000"/>
            <a:chExt cx="1836720" cy="532080"/>
          </a:xfrm>
        </p:grpSpPr>
        <p:sp>
          <p:nvSpPr>
            <p:cNvPr id="180" name=""/>
            <p:cNvSpPr/>
            <p:nvPr/>
          </p:nvSpPr>
          <p:spPr>
            <a:xfrm>
              <a:off x="5254560" y="3132000"/>
              <a:ext cx="1836720" cy="532080"/>
            </a:xfrm>
            <a:prstGeom prst="roundRect">
              <a:avLst>
                <a:gd name="adj" fmla="val 296"/>
              </a:avLst>
            </a:prstGeom>
            <a:solidFill>
              <a:srgbClr val="d8fdff"/>
            </a:solidFill>
            <a:ln w="12600">
              <a:solidFill>
                <a:srgbClr val="500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259600" y="3132000"/>
              <a:ext cx="1827000" cy="489960"/>
            </a:xfrm>
            <a:prstGeom prst="roundRect">
              <a:avLst>
                <a:gd name="adj" fmla="val 29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élément 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5254560" y="4410000"/>
            <a:ext cx="1836720" cy="531720"/>
            <a:chOff x="5254560" y="4410000"/>
            <a:chExt cx="1836720" cy="531720"/>
          </a:xfrm>
        </p:grpSpPr>
        <p:sp>
          <p:nvSpPr>
            <p:cNvPr id="183" name=""/>
            <p:cNvSpPr/>
            <p:nvPr/>
          </p:nvSpPr>
          <p:spPr>
            <a:xfrm>
              <a:off x="5254560" y="4410000"/>
              <a:ext cx="1836720" cy="531720"/>
            </a:xfrm>
            <a:prstGeom prst="roundRect">
              <a:avLst>
                <a:gd name="adj" fmla="val 296"/>
              </a:avLst>
            </a:prstGeom>
            <a:solidFill>
              <a:srgbClr val="d8fdff"/>
            </a:solidFill>
            <a:ln w="12600">
              <a:solidFill>
                <a:srgbClr val="500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254560" y="4410000"/>
              <a:ext cx="1836720" cy="48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élément 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>
            <a:off x="2209680" y="1981080"/>
            <a:ext cx="1800" cy="3581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1025640" y="2293920"/>
            <a:ext cx="1836720" cy="531720"/>
            <a:chOff x="1025640" y="2293920"/>
            <a:chExt cx="1836720" cy="531720"/>
          </a:xfrm>
        </p:grpSpPr>
        <p:sp>
          <p:nvSpPr>
            <p:cNvPr id="187" name=""/>
            <p:cNvSpPr/>
            <p:nvPr/>
          </p:nvSpPr>
          <p:spPr>
            <a:xfrm>
              <a:off x="1025640" y="2293920"/>
              <a:ext cx="1836720" cy="531720"/>
            </a:xfrm>
            <a:prstGeom prst="roundRect">
              <a:avLst>
                <a:gd name="adj" fmla="val 296"/>
              </a:avLst>
            </a:prstGeom>
            <a:solidFill>
              <a:srgbClr val="d8fdff"/>
            </a:solidFill>
            <a:ln w="12600">
              <a:solidFill>
                <a:srgbClr val="500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030320" y="2293920"/>
              <a:ext cx="1827000" cy="489960"/>
            </a:xfrm>
            <a:prstGeom prst="roundRect">
              <a:avLst>
                <a:gd name="adj" fmla="val 29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élément 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1025640" y="3817800"/>
            <a:ext cx="1836720" cy="532080"/>
            <a:chOff x="1025640" y="3817800"/>
            <a:chExt cx="1836720" cy="532080"/>
          </a:xfrm>
        </p:grpSpPr>
        <p:sp>
          <p:nvSpPr>
            <p:cNvPr id="190" name=""/>
            <p:cNvSpPr/>
            <p:nvPr/>
          </p:nvSpPr>
          <p:spPr>
            <a:xfrm>
              <a:off x="1025640" y="3817800"/>
              <a:ext cx="1836720" cy="532080"/>
            </a:xfrm>
            <a:prstGeom prst="roundRect">
              <a:avLst>
                <a:gd name="adj" fmla="val 296"/>
              </a:avLst>
            </a:prstGeom>
            <a:solidFill>
              <a:srgbClr val="d8fdff"/>
            </a:solidFill>
            <a:ln w="12600">
              <a:solidFill>
                <a:srgbClr val="500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030320" y="3817800"/>
              <a:ext cx="1827000" cy="489960"/>
            </a:xfrm>
            <a:prstGeom prst="roundRect">
              <a:avLst>
                <a:gd name="adj" fmla="val 29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élément 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2" name=""/>
          <p:cNvSpPr/>
          <p:nvPr/>
        </p:nvSpPr>
        <p:spPr>
          <a:xfrm flipV="1">
            <a:off x="2895480" y="3346560"/>
            <a:ext cx="2362320" cy="622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4114800"/>
            <a:ext cx="236232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77120" y="3657600"/>
            <a:ext cx="144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280" y="2133720"/>
            <a:ext cx="8915400" cy="1440"/>
          </a:xfrm>
          <a:prstGeom prst="line">
            <a:avLst/>
          </a:prstGeom>
          <a:ln w="127080">
            <a:solidFill>
              <a:srgbClr val="50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52280" y="5334120"/>
            <a:ext cx="8915400" cy="1440"/>
          </a:xfrm>
          <a:prstGeom prst="line">
            <a:avLst/>
          </a:prstGeom>
          <a:ln w="127080">
            <a:solidFill>
              <a:srgbClr val="50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877680" y="3062160"/>
            <a:ext cx="836640" cy="489960"/>
          </a:xfrm>
          <a:prstGeom prst="roundRect">
            <a:avLst>
              <a:gd name="adj" fmla="val 3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ccccff"/>
                </a:solidFill>
                <a:latin typeface="Arial"/>
              </a:rPr>
              <a:t>FP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000400" y="3747960"/>
            <a:ext cx="818280" cy="489960"/>
          </a:xfrm>
          <a:prstGeom prst="roundRect">
            <a:avLst>
              <a:gd name="adj" fmla="val 3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ccccff"/>
                </a:solidFill>
                <a:latin typeface="Arial"/>
              </a:rPr>
              <a:t>flu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3054240" y="3664080"/>
            <a:ext cx="3492720" cy="1206360"/>
          </a:xfrm>
          <a:prstGeom prst="ellipse">
            <a:avLst/>
          </a:prstGeom>
          <a:solidFill>
            <a:srgbClr val="00b7a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368440" y="2597040"/>
            <a:ext cx="4788000" cy="1206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9556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Arial"/>
              </a:rPr>
              <a:t>Exemple du surligneur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930240" y="1266840"/>
            <a:ext cx="3359160" cy="482760"/>
            <a:chOff x="930240" y="1266840"/>
            <a:chExt cx="3359160" cy="482760"/>
          </a:xfrm>
        </p:grpSpPr>
        <p:sp>
          <p:nvSpPr>
            <p:cNvPr id="203" name=""/>
            <p:cNvSpPr/>
            <p:nvPr/>
          </p:nvSpPr>
          <p:spPr>
            <a:xfrm>
              <a:off x="930240" y="1266840"/>
              <a:ext cx="3359160" cy="482760"/>
            </a:xfrm>
            <a:prstGeom prst="roundRect">
              <a:avLst>
                <a:gd name="adj" fmla="val 329"/>
              </a:avLst>
            </a:prstGeom>
            <a:noFill/>
            <a:ln w="255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943560" y="1266840"/>
              <a:ext cx="3334320" cy="433080"/>
            </a:xfrm>
            <a:prstGeom prst="roundRect">
              <a:avLst>
                <a:gd name="adj" fmla="val 329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400" spc="-1" strike="noStrike">
                  <a:solidFill>
                    <a:srgbClr val="c01313"/>
                  </a:solidFill>
                  <a:latin typeface="Arial"/>
                </a:rPr>
                <a:t>Rosace des fonction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5" name=""/>
          <p:cNvSpPr/>
          <p:nvPr/>
        </p:nvSpPr>
        <p:spPr>
          <a:xfrm>
            <a:off x="615960" y="5492880"/>
            <a:ext cx="3111480" cy="825480"/>
          </a:xfrm>
          <a:prstGeom prst="ellipse">
            <a:avLst/>
          </a:prstGeom>
          <a:solidFill>
            <a:srgbClr val="c8fec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950080" y="5568840"/>
            <a:ext cx="2806560" cy="749520"/>
          </a:xfrm>
          <a:prstGeom prst="ellipse">
            <a:avLst/>
          </a:prstGeom>
          <a:solidFill>
            <a:srgbClr val="c8fec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089240" y="3976560"/>
            <a:ext cx="1272240" cy="489960"/>
          </a:xfrm>
          <a:prstGeom prst="roundRect">
            <a:avLst>
              <a:gd name="adj" fmla="val 3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770468"/>
                </a:solidFill>
                <a:latin typeface="Arial"/>
              </a:rPr>
              <a:t>Feut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932760" y="5699160"/>
            <a:ext cx="2403360" cy="43308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770468"/>
                </a:solidFill>
                <a:latin typeface="Arial"/>
              </a:rPr>
              <a:t>Environ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95880" y="5699160"/>
            <a:ext cx="2590920" cy="4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770468"/>
                </a:solidFill>
                <a:latin typeface="Arial"/>
              </a:rPr>
              <a:t>Régle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2590920"/>
            <a:ext cx="3809880" cy="304560"/>
          </a:xfrm>
          <a:prstGeom prst="roundRect">
            <a:avLst>
              <a:gd name="adj" fmla="val 519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920880" y="2597040"/>
            <a:ext cx="1968480" cy="978120"/>
          </a:xfrm>
          <a:prstGeom prst="ellipse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389240" y="2879640"/>
            <a:ext cx="880560" cy="43308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770468"/>
                </a:solidFill>
                <a:latin typeface="Arial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407280" y="2444760"/>
            <a:ext cx="1815840" cy="977760"/>
          </a:xfrm>
          <a:prstGeom prst="ellipse">
            <a:avLst/>
          </a:prstGeom>
          <a:solidFill>
            <a:srgbClr val="8cf4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637680" y="2727360"/>
            <a:ext cx="1353240" cy="43308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770468"/>
                </a:solidFill>
                <a:latin typeface="Arial"/>
              </a:rPr>
              <a:t>Sup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6775560" y="3429000"/>
            <a:ext cx="24120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010280" y="3429000"/>
            <a:ext cx="1800" cy="152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428440" y="3260880"/>
            <a:ext cx="574560" cy="43308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F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3429000" y="4717800"/>
            <a:ext cx="304920" cy="927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486400" y="4800600"/>
            <a:ext cx="533520" cy="9907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646000" y="4937040"/>
            <a:ext cx="653400" cy="43308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Fc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846400" y="4937040"/>
            <a:ext cx="653400" cy="43308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Fc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4282920" y="1219320"/>
            <a:ext cx="3521160" cy="1785960"/>
            <a:chOff x="4282920" y="1219320"/>
            <a:chExt cx="3521160" cy="1785960"/>
          </a:xfrm>
        </p:grpSpPr>
        <p:grpSp>
          <p:nvGrpSpPr>
            <p:cNvPr id="223" name=""/>
            <p:cNvGrpSpPr/>
            <p:nvPr/>
          </p:nvGrpSpPr>
          <p:grpSpPr>
            <a:xfrm>
              <a:off x="4282920" y="1360440"/>
              <a:ext cx="2841840" cy="1644840"/>
              <a:chOff x="4282920" y="1360440"/>
              <a:chExt cx="2841840" cy="164484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4290840" y="1360440"/>
                <a:ext cx="2833920" cy="1644840"/>
                <a:chOff x="4290840" y="1360440"/>
                <a:chExt cx="2833920" cy="164484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4290840" y="1987560"/>
                  <a:ext cx="1420920" cy="1017720"/>
                </a:xfrm>
                <a:custGeom>
                  <a:avLst/>
                  <a:gdLst/>
                  <a:ahLst/>
                  <a:rect l="l" t="t" r="r" b="b"/>
                  <a:pathLst>
                    <a:path w="3946" h="2826">
                      <a:moveTo>
                        <a:pt x="3341" y="0"/>
                      </a:moveTo>
                      <a:lnTo>
                        <a:pt x="3945" y="1351"/>
                      </a:lnTo>
                      <a:lnTo>
                        <a:pt x="635" y="2816"/>
                      </a:lnTo>
                      <a:lnTo>
                        <a:pt x="644" y="2812"/>
                      </a:lnTo>
                      <a:lnTo>
                        <a:pt x="617" y="2825"/>
                      </a:lnTo>
                      <a:lnTo>
                        <a:pt x="604" y="2825"/>
                      </a:lnTo>
                      <a:lnTo>
                        <a:pt x="586" y="2821"/>
                      </a:lnTo>
                      <a:lnTo>
                        <a:pt x="560" y="2803"/>
                      </a:lnTo>
                      <a:lnTo>
                        <a:pt x="542" y="2794"/>
                      </a:lnTo>
                      <a:lnTo>
                        <a:pt x="507" y="2768"/>
                      </a:lnTo>
                      <a:lnTo>
                        <a:pt x="489" y="2728"/>
                      </a:lnTo>
                      <a:lnTo>
                        <a:pt x="449" y="2684"/>
                      </a:lnTo>
                      <a:lnTo>
                        <a:pt x="414" y="2644"/>
                      </a:lnTo>
                      <a:lnTo>
                        <a:pt x="379" y="2600"/>
                      </a:lnTo>
                      <a:lnTo>
                        <a:pt x="348" y="2543"/>
                      </a:lnTo>
                      <a:lnTo>
                        <a:pt x="326" y="2503"/>
                      </a:lnTo>
                      <a:lnTo>
                        <a:pt x="299" y="2454"/>
                      </a:lnTo>
                      <a:lnTo>
                        <a:pt x="273" y="2410"/>
                      </a:lnTo>
                      <a:lnTo>
                        <a:pt x="255" y="2362"/>
                      </a:lnTo>
                      <a:lnTo>
                        <a:pt x="229" y="2313"/>
                      </a:lnTo>
                      <a:lnTo>
                        <a:pt x="202" y="2256"/>
                      </a:lnTo>
                      <a:lnTo>
                        <a:pt x="180" y="2211"/>
                      </a:lnTo>
                      <a:lnTo>
                        <a:pt x="163" y="2162"/>
                      </a:lnTo>
                      <a:lnTo>
                        <a:pt x="136" y="2109"/>
                      </a:lnTo>
                      <a:lnTo>
                        <a:pt x="114" y="2061"/>
                      </a:lnTo>
                      <a:lnTo>
                        <a:pt x="92" y="1990"/>
                      </a:lnTo>
                      <a:lnTo>
                        <a:pt x="70" y="1942"/>
                      </a:lnTo>
                      <a:lnTo>
                        <a:pt x="52" y="1880"/>
                      </a:lnTo>
                      <a:lnTo>
                        <a:pt x="35" y="1836"/>
                      </a:lnTo>
                      <a:lnTo>
                        <a:pt x="30" y="1765"/>
                      </a:lnTo>
                      <a:lnTo>
                        <a:pt x="22" y="1717"/>
                      </a:lnTo>
                      <a:lnTo>
                        <a:pt x="0" y="1668"/>
                      </a:lnTo>
                      <a:lnTo>
                        <a:pt x="4" y="1628"/>
                      </a:lnTo>
                      <a:lnTo>
                        <a:pt x="4" y="1589"/>
                      </a:lnTo>
                      <a:lnTo>
                        <a:pt x="8" y="1567"/>
                      </a:lnTo>
                      <a:lnTo>
                        <a:pt x="8" y="1531"/>
                      </a:lnTo>
                      <a:lnTo>
                        <a:pt x="8" y="1514"/>
                      </a:lnTo>
                      <a:lnTo>
                        <a:pt x="17" y="1492"/>
                      </a:lnTo>
                      <a:lnTo>
                        <a:pt x="30" y="1483"/>
                      </a:lnTo>
                      <a:lnTo>
                        <a:pt x="44" y="1474"/>
                      </a:lnTo>
                      <a:lnTo>
                        <a:pt x="3341" y="0"/>
                      </a:lnTo>
                    </a:path>
                  </a:pathLst>
                </a:cu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8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5497560" y="1360440"/>
                  <a:ext cx="1627200" cy="1111320"/>
                </a:xfrm>
                <a:custGeom>
                  <a:avLst/>
                  <a:gdLst/>
                  <a:ahLst/>
                  <a:rect l="l" t="t" r="r" b="b"/>
                  <a:pathLst>
                    <a:path w="4519" h="3087">
                      <a:moveTo>
                        <a:pt x="3914" y="0"/>
                      </a:moveTo>
                      <a:lnTo>
                        <a:pt x="4518" y="1350"/>
                      </a:lnTo>
                      <a:lnTo>
                        <a:pt x="635" y="3082"/>
                      </a:lnTo>
                      <a:lnTo>
                        <a:pt x="643" y="3077"/>
                      </a:lnTo>
                      <a:lnTo>
                        <a:pt x="630" y="3086"/>
                      </a:lnTo>
                      <a:lnTo>
                        <a:pt x="608" y="3073"/>
                      </a:lnTo>
                      <a:lnTo>
                        <a:pt x="591" y="3082"/>
                      </a:lnTo>
                      <a:lnTo>
                        <a:pt x="555" y="3055"/>
                      </a:lnTo>
                      <a:lnTo>
                        <a:pt x="538" y="3046"/>
                      </a:lnTo>
                      <a:lnTo>
                        <a:pt x="520" y="3020"/>
                      </a:lnTo>
                      <a:lnTo>
                        <a:pt x="485" y="2989"/>
                      </a:lnTo>
                      <a:lnTo>
                        <a:pt x="445" y="2945"/>
                      </a:lnTo>
                      <a:lnTo>
                        <a:pt x="410" y="2892"/>
                      </a:lnTo>
                      <a:lnTo>
                        <a:pt x="383" y="2847"/>
                      </a:lnTo>
                      <a:lnTo>
                        <a:pt x="348" y="2803"/>
                      </a:lnTo>
                      <a:lnTo>
                        <a:pt x="326" y="2759"/>
                      </a:lnTo>
                      <a:lnTo>
                        <a:pt x="304" y="2715"/>
                      </a:lnTo>
                      <a:lnTo>
                        <a:pt x="273" y="2666"/>
                      </a:lnTo>
                      <a:lnTo>
                        <a:pt x="247" y="2613"/>
                      </a:lnTo>
                      <a:lnTo>
                        <a:pt x="224" y="2569"/>
                      </a:lnTo>
                      <a:lnTo>
                        <a:pt x="194" y="2503"/>
                      </a:lnTo>
                      <a:lnTo>
                        <a:pt x="172" y="2463"/>
                      </a:lnTo>
                      <a:lnTo>
                        <a:pt x="154" y="2410"/>
                      </a:lnTo>
                      <a:lnTo>
                        <a:pt x="136" y="2362"/>
                      </a:lnTo>
                      <a:lnTo>
                        <a:pt x="114" y="2313"/>
                      </a:lnTo>
                      <a:lnTo>
                        <a:pt x="88" y="2251"/>
                      </a:lnTo>
                      <a:lnTo>
                        <a:pt x="74" y="2203"/>
                      </a:lnTo>
                      <a:lnTo>
                        <a:pt x="57" y="2141"/>
                      </a:lnTo>
                      <a:lnTo>
                        <a:pt x="44" y="2088"/>
                      </a:lnTo>
                      <a:lnTo>
                        <a:pt x="30" y="2022"/>
                      </a:lnTo>
                      <a:lnTo>
                        <a:pt x="17" y="1973"/>
                      </a:lnTo>
                      <a:lnTo>
                        <a:pt x="4" y="1920"/>
                      </a:lnTo>
                      <a:lnTo>
                        <a:pt x="4" y="1876"/>
                      </a:lnTo>
                      <a:lnTo>
                        <a:pt x="0" y="1841"/>
                      </a:lnTo>
                      <a:lnTo>
                        <a:pt x="4" y="1823"/>
                      </a:lnTo>
                      <a:lnTo>
                        <a:pt x="4" y="1779"/>
                      </a:lnTo>
                      <a:lnTo>
                        <a:pt x="8" y="1766"/>
                      </a:lnTo>
                      <a:lnTo>
                        <a:pt x="22" y="1740"/>
                      </a:lnTo>
                      <a:lnTo>
                        <a:pt x="30" y="1735"/>
                      </a:lnTo>
                      <a:lnTo>
                        <a:pt x="30" y="1726"/>
                      </a:lnTo>
                      <a:lnTo>
                        <a:pt x="3914" y="0"/>
                      </a:lnTo>
                    </a:path>
                  </a:pathLst>
                </a:cu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8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7" name=""/>
              <p:cNvGrpSpPr/>
              <p:nvPr/>
            </p:nvGrpSpPr>
            <p:grpSpPr>
              <a:xfrm>
                <a:off x="4282920" y="1393920"/>
                <a:ext cx="2802240" cy="1590480"/>
                <a:chOff x="4282920" y="1393920"/>
                <a:chExt cx="2802240" cy="1590480"/>
              </a:xfrm>
            </p:grpSpPr>
            <p:grpSp>
              <p:nvGrpSpPr>
                <p:cNvPr id="228" name=""/>
                <p:cNvGrpSpPr/>
                <p:nvPr/>
              </p:nvGrpSpPr>
              <p:grpSpPr>
                <a:xfrm>
                  <a:off x="4282920" y="1393920"/>
                  <a:ext cx="2630520" cy="1261800"/>
                  <a:chOff x="4282920" y="1393920"/>
                  <a:chExt cx="2630520" cy="1261800"/>
                </a:xfrm>
              </p:grpSpPr>
              <p:sp>
                <p:nvSpPr>
                  <p:cNvPr id="229" name=""/>
                  <p:cNvSpPr/>
                  <p:nvPr/>
                </p:nvSpPr>
                <p:spPr>
                  <a:xfrm>
                    <a:off x="5494320" y="1393920"/>
                    <a:ext cx="1419120" cy="723960"/>
                  </a:xfrm>
                  <a:custGeom>
                    <a:avLst/>
                    <a:gdLst/>
                    <a:ahLst/>
                    <a:rect l="l" t="t" r="r" b="b"/>
                    <a:pathLst>
                      <a:path w="3941" h="2010">
                        <a:moveTo>
                          <a:pt x="3900" y="0"/>
                        </a:moveTo>
                        <a:lnTo>
                          <a:pt x="3940" y="273"/>
                        </a:lnTo>
                        <a:lnTo>
                          <a:pt x="52" y="2009"/>
                        </a:lnTo>
                        <a:lnTo>
                          <a:pt x="39" y="1943"/>
                        </a:lnTo>
                        <a:lnTo>
                          <a:pt x="13" y="1877"/>
                        </a:lnTo>
                        <a:lnTo>
                          <a:pt x="4" y="1806"/>
                        </a:lnTo>
                        <a:lnTo>
                          <a:pt x="0" y="1744"/>
                        </a:lnTo>
                        <a:lnTo>
                          <a:pt x="3900" y="0"/>
                        </a:lnTo>
                      </a:path>
                    </a:pathLst>
                  </a:custGeom>
                  <a:solidFill>
                    <a:srgbClr val="a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86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0" name=""/>
                  <p:cNvSpPr/>
                  <p:nvPr/>
                </p:nvSpPr>
                <p:spPr>
                  <a:xfrm>
                    <a:off x="4282920" y="2025720"/>
                    <a:ext cx="1217880" cy="630000"/>
                  </a:xfrm>
                  <a:custGeom>
                    <a:avLst/>
                    <a:gdLst/>
                    <a:ahLst/>
                    <a:rect l="l" t="t" r="r" b="b"/>
                    <a:pathLst>
                      <a:path w="3382" h="1749">
                        <a:moveTo>
                          <a:pt x="3324" y="0"/>
                        </a:moveTo>
                        <a:lnTo>
                          <a:pt x="3324" y="61"/>
                        </a:lnTo>
                        <a:lnTo>
                          <a:pt x="3341" y="110"/>
                        </a:lnTo>
                        <a:lnTo>
                          <a:pt x="3355" y="163"/>
                        </a:lnTo>
                        <a:lnTo>
                          <a:pt x="3359" y="211"/>
                        </a:lnTo>
                        <a:lnTo>
                          <a:pt x="3381" y="264"/>
                        </a:lnTo>
                        <a:lnTo>
                          <a:pt x="57" y="1748"/>
                        </a:lnTo>
                        <a:lnTo>
                          <a:pt x="48" y="1700"/>
                        </a:lnTo>
                        <a:lnTo>
                          <a:pt x="30" y="1660"/>
                        </a:lnTo>
                        <a:lnTo>
                          <a:pt x="17" y="1603"/>
                        </a:lnTo>
                        <a:lnTo>
                          <a:pt x="0" y="1528"/>
                        </a:lnTo>
                        <a:lnTo>
                          <a:pt x="4" y="1479"/>
                        </a:lnTo>
                        <a:lnTo>
                          <a:pt x="3324" y="0"/>
                        </a:lnTo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86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31" name=""/>
                <p:cNvGrpSpPr/>
                <p:nvPr/>
              </p:nvGrpSpPr>
              <p:grpSpPr>
                <a:xfrm>
                  <a:off x="4413240" y="1744560"/>
                  <a:ext cx="2671920" cy="1239840"/>
                  <a:chOff x="4413240" y="1744560"/>
                  <a:chExt cx="2671920" cy="1239840"/>
                </a:xfrm>
              </p:grpSpPr>
              <p:sp>
                <p:nvSpPr>
                  <p:cNvPr id="232" name=""/>
                  <p:cNvSpPr/>
                  <p:nvPr/>
                </p:nvSpPr>
                <p:spPr>
                  <a:xfrm>
                    <a:off x="5621400" y="1744560"/>
                    <a:ext cx="1463760" cy="703440"/>
                  </a:xfrm>
                  <a:custGeom>
                    <a:avLst/>
                    <a:gdLst/>
                    <a:ahLst/>
                    <a:rect l="l" t="t" r="r" b="b"/>
                    <a:pathLst>
                      <a:path w="4065" h="1953">
                        <a:moveTo>
                          <a:pt x="4064" y="211"/>
                        </a:moveTo>
                        <a:lnTo>
                          <a:pt x="3901" y="0"/>
                        </a:lnTo>
                        <a:lnTo>
                          <a:pt x="0" y="1731"/>
                        </a:lnTo>
                        <a:lnTo>
                          <a:pt x="44" y="1784"/>
                        </a:lnTo>
                        <a:lnTo>
                          <a:pt x="83" y="1846"/>
                        </a:lnTo>
                        <a:lnTo>
                          <a:pt x="127" y="1912"/>
                        </a:lnTo>
                        <a:lnTo>
                          <a:pt x="176" y="1952"/>
                        </a:lnTo>
                        <a:lnTo>
                          <a:pt x="4064" y="211"/>
                        </a:lnTo>
                      </a:path>
                    </a:pathLst>
                  </a:custGeom>
                  <a:solidFill>
                    <a:srgbClr val="ff4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86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3" name=""/>
                  <p:cNvSpPr/>
                  <p:nvPr/>
                </p:nvSpPr>
                <p:spPr>
                  <a:xfrm>
                    <a:off x="4413240" y="2374920"/>
                    <a:ext cx="1257480" cy="609480"/>
                  </a:xfrm>
                  <a:custGeom>
                    <a:avLst/>
                    <a:gdLst/>
                    <a:ahLst/>
                    <a:rect l="l" t="t" r="r" b="b"/>
                    <a:pathLst>
                      <a:path w="3492" h="1692">
                        <a:moveTo>
                          <a:pt x="3491" y="211"/>
                        </a:moveTo>
                        <a:lnTo>
                          <a:pt x="3447" y="176"/>
                        </a:lnTo>
                        <a:lnTo>
                          <a:pt x="3416" y="127"/>
                        </a:lnTo>
                        <a:lnTo>
                          <a:pt x="3376" y="83"/>
                        </a:lnTo>
                        <a:lnTo>
                          <a:pt x="3359" y="44"/>
                        </a:lnTo>
                        <a:lnTo>
                          <a:pt x="3319" y="0"/>
                        </a:lnTo>
                        <a:lnTo>
                          <a:pt x="0" y="1479"/>
                        </a:lnTo>
                        <a:lnTo>
                          <a:pt x="35" y="1523"/>
                        </a:lnTo>
                        <a:lnTo>
                          <a:pt x="48" y="1550"/>
                        </a:lnTo>
                        <a:lnTo>
                          <a:pt x="79" y="1607"/>
                        </a:lnTo>
                        <a:lnTo>
                          <a:pt x="141" y="1660"/>
                        </a:lnTo>
                        <a:lnTo>
                          <a:pt x="172" y="1691"/>
                        </a:lnTo>
                        <a:lnTo>
                          <a:pt x="3491" y="211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86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234" name=""/>
            <p:cNvGrpSpPr/>
            <p:nvPr/>
          </p:nvGrpSpPr>
          <p:grpSpPr>
            <a:xfrm>
              <a:off x="6904080" y="1219320"/>
              <a:ext cx="900000" cy="623880"/>
              <a:chOff x="6904080" y="1219320"/>
              <a:chExt cx="900000" cy="623880"/>
            </a:xfrm>
          </p:grpSpPr>
          <p:grpSp>
            <p:nvGrpSpPr>
              <p:cNvPr id="235" name=""/>
              <p:cNvGrpSpPr/>
              <p:nvPr/>
            </p:nvGrpSpPr>
            <p:grpSpPr>
              <a:xfrm>
                <a:off x="6905520" y="1219320"/>
                <a:ext cx="898560" cy="623880"/>
                <a:chOff x="6905520" y="1219320"/>
                <a:chExt cx="898560" cy="623880"/>
              </a:xfrm>
            </p:grpSpPr>
            <p:grpSp>
              <p:nvGrpSpPr>
                <p:cNvPr id="236" name=""/>
                <p:cNvGrpSpPr/>
                <p:nvPr/>
              </p:nvGrpSpPr>
              <p:grpSpPr>
                <a:xfrm>
                  <a:off x="6905520" y="1257480"/>
                  <a:ext cx="716040" cy="585720"/>
                  <a:chOff x="6905520" y="1257480"/>
                  <a:chExt cx="716040" cy="585720"/>
                </a:xfrm>
              </p:grpSpPr>
              <p:sp>
                <p:nvSpPr>
                  <p:cNvPr id="237" name=""/>
                  <p:cNvSpPr/>
                  <p:nvPr/>
                </p:nvSpPr>
                <p:spPr>
                  <a:xfrm>
                    <a:off x="6905520" y="1335240"/>
                    <a:ext cx="274680" cy="507960"/>
                  </a:xfrm>
                  <a:custGeom>
                    <a:avLst/>
                    <a:gdLst/>
                    <a:ahLst/>
                    <a:rect l="l" t="t" r="r" b="b"/>
                    <a:pathLst>
                      <a:path w="765" h="1411">
                        <a:moveTo>
                          <a:pt x="176" y="0"/>
                        </a:moveTo>
                        <a:lnTo>
                          <a:pt x="17" y="57"/>
                        </a:lnTo>
                        <a:lnTo>
                          <a:pt x="17" y="70"/>
                        </a:lnTo>
                        <a:lnTo>
                          <a:pt x="4" y="92"/>
                        </a:lnTo>
                        <a:lnTo>
                          <a:pt x="0" y="127"/>
                        </a:lnTo>
                        <a:lnTo>
                          <a:pt x="0" y="163"/>
                        </a:lnTo>
                        <a:lnTo>
                          <a:pt x="13" y="229"/>
                        </a:lnTo>
                        <a:lnTo>
                          <a:pt x="26" y="282"/>
                        </a:lnTo>
                        <a:lnTo>
                          <a:pt x="39" y="353"/>
                        </a:lnTo>
                        <a:lnTo>
                          <a:pt x="61" y="429"/>
                        </a:lnTo>
                        <a:lnTo>
                          <a:pt x="79" y="481"/>
                        </a:lnTo>
                        <a:lnTo>
                          <a:pt x="92" y="548"/>
                        </a:lnTo>
                        <a:lnTo>
                          <a:pt x="128" y="614"/>
                        </a:lnTo>
                        <a:lnTo>
                          <a:pt x="154" y="693"/>
                        </a:lnTo>
                        <a:lnTo>
                          <a:pt x="172" y="751"/>
                        </a:lnTo>
                        <a:lnTo>
                          <a:pt x="203" y="818"/>
                        </a:lnTo>
                        <a:lnTo>
                          <a:pt x="251" y="902"/>
                        </a:lnTo>
                        <a:lnTo>
                          <a:pt x="278" y="972"/>
                        </a:lnTo>
                        <a:lnTo>
                          <a:pt x="327" y="1056"/>
                        </a:lnTo>
                        <a:lnTo>
                          <a:pt x="371" y="1118"/>
                        </a:lnTo>
                        <a:lnTo>
                          <a:pt x="393" y="1166"/>
                        </a:lnTo>
                        <a:lnTo>
                          <a:pt x="415" y="1216"/>
                        </a:lnTo>
                        <a:lnTo>
                          <a:pt x="446" y="1260"/>
                        </a:lnTo>
                        <a:lnTo>
                          <a:pt x="472" y="1295"/>
                        </a:lnTo>
                        <a:lnTo>
                          <a:pt x="499" y="1317"/>
                        </a:lnTo>
                        <a:lnTo>
                          <a:pt x="525" y="1353"/>
                        </a:lnTo>
                        <a:lnTo>
                          <a:pt x="561" y="1375"/>
                        </a:lnTo>
                        <a:lnTo>
                          <a:pt x="574" y="1384"/>
                        </a:lnTo>
                        <a:lnTo>
                          <a:pt x="592" y="1397"/>
                        </a:lnTo>
                        <a:lnTo>
                          <a:pt x="609" y="1410"/>
                        </a:lnTo>
                        <a:lnTo>
                          <a:pt x="618" y="1410"/>
                        </a:lnTo>
                        <a:lnTo>
                          <a:pt x="764" y="1348"/>
                        </a:lnTo>
                        <a:lnTo>
                          <a:pt x="742" y="1348"/>
                        </a:lnTo>
                        <a:lnTo>
                          <a:pt x="724" y="1335"/>
                        </a:lnTo>
                        <a:lnTo>
                          <a:pt x="698" y="1326"/>
                        </a:lnTo>
                        <a:lnTo>
                          <a:pt x="676" y="1304"/>
                        </a:lnTo>
                        <a:lnTo>
                          <a:pt x="671" y="1282"/>
                        </a:lnTo>
                        <a:lnTo>
                          <a:pt x="636" y="1264"/>
                        </a:lnTo>
                        <a:lnTo>
                          <a:pt x="618" y="1229"/>
                        </a:lnTo>
                        <a:lnTo>
                          <a:pt x="583" y="1180"/>
                        </a:lnTo>
                        <a:lnTo>
                          <a:pt x="548" y="1136"/>
                        </a:lnTo>
                        <a:lnTo>
                          <a:pt x="521" y="1091"/>
                        </a:lnTo>
                        <a:lnTo>
                          <a:pt x="481" y="1025"/>
                        </a:lnTo>
                        <a:lnTo>
                          <a:pt x="468" y="990"/>
                        </a:lnTo>
                        <a:lnTo>
                          <a:pt x="428" y="915"/>
                        </a:lnTo>
                        <a:lnTo>
                          <a:pt x="388" y="840"/>
                        </a:lnTo>
                        <a:lnTo>
                          <a:pt x="353" y="764"/>
                        </a:lnTo>
                        <a:lnTo>
                          <a:pt x="313" y="680"/>
                        </a:lnTo>
                        <a:lnTo>
                          <a:pt x="287" y="618"/>
                        </a:lnTo>
                        <a:lnTo>
                          <a:pt x="238" y="499"/>
                        </a:lnTo>
                        <a:lnTo>
                          <a:pt x="207" y="406"/>
                        </a:lnTo>
                        <a:lnTo>
                          <a:pt x="176" y="291"/>
                        </a:lnTo>
                        <a:lnTo>
                          <a:pt x="159" y="207"/>
                        </a:lnTo>
                        <a:lnTo>
                          <a:pt x="141" y="145"/>
                        </a:lnTo>
                        <a:lnTo>
                          <a:pt x="145" y="92"/>
                        </a:lnTo>
                        <a:lnTo>
                          <a:pt x="154" y="39"/>
                        </a:lnTo>
                        <a:lnTo>
                          <a:pt x="159" y="13"/>
                        </a:lnTo>
                        <a:lnTo>
                          <a:pt x="176" y="0"/>
                        </a:lnTo>
                      </a:path>
                    </a:pathLst>
                  </a:custGeom>
                  <a:solidFill>
                    <a:srgbClr val="a0a0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86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38" name=""/>
                  <p:cNvGrpSpPr/>
                  <p:nvPr/>
                </p:nvGrpSpPr>
                <p:grpSpPr>
                  <a:xfrm>
                    <a:off x="6962760" y="1257480"/>
                    <a:ext cx="658800" cy="560160"/>
                    <a:chOff x="6962760" y="1257480"/>
                    <a:chExt cx="658800" cy="560160"/>
                  </a:xfrm>
                </p:grpSpPr>
                <p:sp>
                  <p:nvSpPr>
                    <p:cNvPr id="239" name=""/>
                    <p:cNvSpPr/>
                    <p:nvPr/>
                  </p:nvSpPr>
                  <p:spPr>
                    <a:xfrm>
                      <a:off x="7277040" y="1325520"/>
                      <a:ext cx="155520" cy="268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30" h="746">
                          <a:moveTo>
                            <a:pt x="176" y="41"/>
                          </a:moveTo>
                          <a:lnTo>
                            <a:pt x="22" y="0"/>
                          </a:lnTo>
                          <a:lnTo>
                            <a:pt x="17" y="0"/>
                          </a:lnTo>
                          <a:lnTo>
                            <a:pt x="13" y="9"/>
                          </a:lnTo>
                          <a:lnTo>
                            <a:pt x="0" y="28"/>
                          </a:lnTo>
                          <a:lnTo>
                            <a:pt x="8" y="37"/>
                          </a:lnTo>
                          <a:lnTo>
                            <a:pt x="13" y="59"/>
                          </a:lnTo>
                          <a:lnTo>
                            <a:pt x="13" y="107"/>
                          </a:lnTo>
                          <a:lnTo>
                            <a:pt x="22" y="143"/>
                          </a:lnTo>
                          <a:lnTo>
                            <a:pt x="53" y="200"/>
                          </a:lnTo>
                          <a:lnTo>
                            <a:pt x="70" y="275"/>
                          </a:lnTo>
                          <a:lnTo>
                            <a:pt x="92" y="333"/>
                          </a:lnTo>
                          <a:lnTo>
                            <a:pt x="119" y="381"/>
                          </a:lnTo>
                          <a:lnTo>
                            <a:pt x="150" y="445"/>
                          </a:lnTo>
                          <a:lnTo>
                            <a:pt x="185" y="516"/>
                          </a:lnTo>
                          <a:lnTo>
                            <a:pt x="212" y="569"/>
                          </a:lnTo>
                          <a:lnTo>
                            <a:pt x="229" y="617"/>
                          </a:lnTo>
                          <a:lnTo>
                            <a:pt x="256" y="666"/>
                          </a:lnTo>
                          <a:lnTo>
                            <a:pt x="288" y="701"/>
                          </a:lnTo>
                          <a:lnTo>
                            <a:pt x="314" y="727"/>
                          </a:lnTo>
                          <a:lnTo>
                            <a:pt x="327" y="745"/>
                          </a:lnTo>
                          <a:lnTo>
                            <a:pt x="429" y="599"/>
                          </a:lnTo>
                          <a:lnTo>
                            <a:pt x="176" y="41"/>
                          </a:lnTo>
                        </a:path>
                      </a:pathLst>
                    </a:custGeom>
                    <a:solidFill>
                      <a:srgbClr val="e0e0e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0" name=""/>
                    <p:cNvSpPr/>
                    <p:nvPr/>
                  </p:nvSpPr>
                  <p:spPr>
                    <a:xfrm>
                      <a:off x="6962760" y="1330200"/>
                      <a:ext cx="393840" cy="487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93" h="1353">
                          <a:moveTo>
                            <a:pt x="752" y="52"/>
                          </a:moveTo>
                          <a:lnTo>
                            <a:pt x="39" y="0"/>
                          </a:lnTo>
                          <a:lnTo>
                            <a:pt x="13" y="26"/>
                          </a:lnTo>
                          <a:lnTo>
                            <a:pt x="0" y="70"/>
                          </a:lnTo>
                          <a:lnTo>
                            <a:pt x="4" y="114"/>
                          </a:lnTo>
                          <a:lnTo>
                            <a:pt x="8" y="167"/>
                          </a:lnTo>
                          <a:lnTo>
                            <a:pt x="8" y="194"/>
                          </a:lnTo>
                          <a:lnTo>
                            <a:pt x="17" y="247"/>
                          </a:lnTo>
                          <a:lnTo>
                            <a:pt x="30" y="300"/>
                          </a:lnTo>
                          <a:lnTo>
                            <a:pt x="44" y="366"/>
                          </a:lnTo>
                          <a:lnTo>
                            <a:pt x="61" y="412"/>
                          </a:lnTo>
                          <a:lnTo>
                            <a:pt x="79" y="461"/>
                          </a:lnTo>
                          <a:lnTo>
                            <a:pt x="101" y="531"/>
                          </a:lnTo>
                          <a:lnTo>
                            <a:pt x="136" y="606"/>
                          </a:lnTo>
                          <a:lnTo>
                            <a:pt x="181" y="712"/>
                          </a:lnTo>
                          <a:lnTo>
                            <a:pt x="203" y="765"/>
                          </a:lnTo>
                          <a:lnTo>
                            <a:pt x="235" y="838"/>
                          </a:lnTo>
                          <a:lnTo>
                            <a:pt x="270" y="887"/>
                          </a:lnTo>
                          <a:lnTo>
                            <a:pt x="296" y="944"/>
                          </a:lnTo>
                          <a:lnTo>
                            <a:pt x="327" y="1010"/>
                          </a:lnTo>
                          <a:lnTo>
                            <a:pt x="354" y="1072"/>
                          </a:lnTo>
                          <a:lnTo>
                            <a:pt x="393" y="1116"/>
                          </a:lnTo>
                          <a:lnTo>
                            <a:pt x="429" y="1179"/>
                          </a:lnTo>
                          <a:lnTo>
                            <a:pt x="473" y="1228"/>
                          </a:lnTo>
                          <a:lnTo>
                            <a:pt x="513" y="1290"/>
                          </a:lnTo>
                          <a:lnTo>
                            <a:pt x="544" y="1312"/>
                          </a:lnTo>
                          <a:lnTo>
                            <a:pt x="579" y="1330"/>
                          </a:lnTo>
                          <a:lnTo>
                            <a:pt x="597" y="1348"/>
                          </a:lnTo>
                          <a:lnTo>
                            <a:pt x="614" y="1352"/>
                          </a:lnTo>
                          <a:lnTo>
                            <a:pt x="632" y="1343"/>
                          </a:lnTo>
                          <a:lnTo>
                            <a:pt x="645" y="1339"/>
                          </a:lnTo>
                          <a:lnTo>
                            <a:pt x="1092" y="775"/>
                          </a:lnTo>
                          <a:lnTo>
                            <a:pt x="1061" y="602"/>
                          </a:lnTo>
                          <a:lnTo>
                            <a:pt x="986" y="402"/>
                          </a:lnTo>
                          <a:lnTo>
                            <a:pt x="911" y="260"/>
                          </a:lnTo>
                          <a:lnTo>
                            <a:pt x="827" y="119"/>
                          </a:lnTo>
                          <a:lnTo>
                            <a:pt x="752" y="52"/>
                          </a:lnTo>
                        </a:path>
                      </a:pathLst>
                    </a:custGeom>
                    <a:solidFill>
                      <a:srgbClr val="e0e0e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1" name=""/>
                    <p:cNvSpPr/>
                    <p:nvPr/>
                  </p:nvSpPr>
                  <p:spPr>
                    <a:xfrm>
                      <a:off x="7237440" y="1330200"/>
                      <a:ext cx="14760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12" h="776">
                          <a:moveTo>
                            <a:pt x="101" y="0"/>
                          </a:moveTo>
                          <a:lnTo>
                            <a:pt x="48" y="39"/>
                          </a:lnTo>
                          <a:lnTo>
                            <a:pt x="17" y="39"/>
                          </a:lnTo>
                          <a:lnTo>
                            <a:pt x="8" y="57"/>
                          </a:lnTo>
                          <a:lnTo>
                            <a:pt x="8" y="61"/>
                          </a:lnTo>
                          <a:lnTo>
                            <a:pt x="0" y="79"/>
                          </a:lnTo>
                          <a:lnTo>
                            <a:pt x="8" y="119"/>
                          </a:lnTo>
                          <a:lnTo>
                            <a:pt x="8" y="141"/>
                          </a:lnTo>
                          <a:lnTo>
                            <a:pt x="17" y="176"/>
                          </a:lnTo>
                          <a:lnTo>
                            <a:pt x="35" y="216"/>
                          </a:lnTo>
                          <a:lnTo>
                            <a:pt x="48" y="251"/>
                          </a:lnTo>
                          <a:lnTo>
                            <a:pt x="57" y="291"/>
                          </a:lnTo>
                          <a:lnTo>
                            <a:pt x="70" y="317"/>
                          </a:lnTo>
                          <a:lnTo>
                            <a:pt x="88" y="357"/>
                          </a:lnTo>
                          <a:lnTo>
                            <a:pt x="114" y="412"/>
                          </a:lnTo>
                          <a:lnTo>
                            <a:pt x="132" y="452"/>
                          </a:lnTo>
                          <a:lnTo>
                            <a:pt x="150" y="492"/>
                          </a:lnTo>
                          <a:lnTo>
                            <a:pt x="172" y="540"/>
                          </a:lnTo>
                          <a:lnTo>
                            <a:pt x="185" y="567"/>
                          </a:lnTo>
                          <a:lnTo>
                            <a:pt x="198" y="597"/>
                          </a:lnTo>
                          <a:lnTo>
                            <a:pt x="220" y="628"/>
                          </a:lnTo>
                          <a:lnTo>
                            <a:pt x="229" y="659"/>
                          </a:lnTo>
                          <a:lnTo>
                            <a:pt x="251" y="681"/>
                          </a:lnTo>
                          <a:lnTo>
                            <a:pt x="256" y="695"/>
                          </a:lnTo>
                          <a:lnTo>
                            <a:pt x="273" y="717"/>
                          </a:lnTo>
                          <a:lnTo>
                            <a:pt x="282" y="734"/>
                          </a:lnTo>
                          <a:lnTo>
                            <a:pt x="295" y="748"/>
                          </a:lnTo>
                          <a:lnTo>
                            <a:pt x="300" y="761"/>
                          </a:lnTo>
                          <a:lnTo>
                            <a:pt x="322" y="771"/>
                          </a:lnTo>
                          <a:lnTo>
                            <a:pt x="326" y="775"/>
                          </a:lnTo>
                          <a:lnTo>
                            <a:pt x="411" y="734"/>
                          </a:lnTo>
                          <a:lnTo>
                            <a:pt x="407" y="734"/>
                          </a:lnTo>
                          <a:lnTo>
                            <a:pt x="393" y="726"/>
                          </a:lnTo>
                          <a:lnTo>
                            <a:pt x="385" y="717"/>
                          </a:lnTo>
                          <a:lnTo>
                            <a:pt x="375" y="699"/>
                          </a:lnTo>
                          <a:lnTo>
                            <a:pt x="357" y="681"/>
                          </a:lnTo>
                          <a:lnTo>
                            <a:pt x="348" y="668"/>
                          </a:lnTo>
                          <a:lnTo>
                            <a:pt x="326" y="633"/>
                          </a:lnTo>
                          <a:lnTo>
                            <a:pt x="313" y="611"/>
                          </a:lnTo>
                          <a:lnTo>
                            <a:pt x="300" y="589"/>
                          </a:lnTo>
                          <a:lnTo>
                            <a:pt x="286" y="562"/>
                          </a:lnTo>
                          <a:lnTo>
                            <a:pt x="269" y="522"/>
                          </a:lnTo>
                          <a:lnTo>
                            <a:pt x="256" y="483"/>
                          </a:lnTo>
                          <a:lnTo>
                            <a:pt x="229" y="439"/>
                          </a:lnTo>
                          <a:lnTo>
                            <a:pt x="211" y="402"/>
                          </a:lnTo>
                          <a:lnTo>
                            <a:pt x="194" y="370"/>
                          </a:lnTo>
                          <a:lnTo>
                            <a:pt x="181" y="335"/>
                          </a:lnTo>
                          <a:lnTo>
                            <a:pt x="158" y="278"/>
                          </a:lnTo>
                          <a:lnTo>
                            <a:pt x="136" y="220"/>
                          </a:lnTo>
                          <a:lnTo>
                            <a:pt x="114" y="163"/>
                          </a:lnTo>
                          <a:lnTo>
                            <a:pt x="105" y="105"/>
                          </a:lnTo>
                          <a:lnTo>
                            <a:pt x="101" y="79"/>
                          </a:lnTo>
                          <a:lnTo>
                            <a:pt x="92" y="52"/>
                          </a:lnTo>
                          <a:lnTo>
                            <a:pt x="92" y="26"/>
                          </a:lnTo>
                          <a:lnTo>
                            <a:pt x="88" y="22"/>
                          </a:lnTo>
                          <a:lnTo>
                            <a:pt x="101" y="0"/>
                          </a:lnTo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7350120" y="1262160"/>
                      <a:ext cx="271440" cy="268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53" h="746">
                          <a:moveTo>
                            <a:pt x="521" y="0"/>
                          </a:moveTo>
                          <a:lnTo>
                            <a:pt x="13" y="205"/>
                          </a:lnTo>
                          <a:lnTo>
                            <a:pt x="0" y="213"/>
                          </a:lnTo>
                          <a:lnTo>
                            <a:pt x="4" y="258"/>
                          </a:lnTo>
                          <a:lnTo>
                            <a:pt x="13" y="341"/>
                          </a:lnTo>
                          <a:lnTo>
                            <a:pt x="35" y="421"/>
                          </a:lnTo>
                          <a:lnTo>
                            <a:pt x="84" y="540"/>
                          </a:lnTo>
                          <a:lnTo>
                            <a:pt x="129" y="626"/>
                          </a:lnTo>
                          <a:lnTo>
                            <a:pt x="186" y="705"/>
                          </a:lnTo>
                          <a:lnTo>
                            <a:pt x="235" y="745"/>
                          </a:lnTo>
                          <a:lnTo>
                            <a:pt x="261" y="741"/>
                          </a:lnTo>
                          <a:lnTo>
                            <a:pt x="752" y="505"/>
                          </a:lnTo>
                          <a:lnTo>
                            <a:pt x="521" y="0"/>
                          </a:lnTo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>
                      <a:off x="7583400" y="1257480"/>
                      <a:ext cx="9720" cy="193320"/>
                    </a:xfrm>
                    <a:prstGeom prst="ellipse">
                      <a:avLst/>
                    </a:prstGeom>
                    <a:solidFill>
                      <a:srgbClr val="e0e0e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244" name=""/>
                <p:cNvGrpSpPr/>
                <p:nvPr/>
              </p:nvGrpSpPr>
              <p:grpSpPr>
                <a:xfrm>
                  <a:off x="7566120" y="1219320"/>
                  <a:ext cx="237960" cy="198360"/>
                  <a:chOff x="7566120" y="1219320"/>
                  <a:chExt cx="237960" cy="198360"/>
                </a:xfrm>
              </p:grpSpPr>
              <p:sp>
                <p:nvSpPr>
                  <p:cNvPr id="245" name=""/>
                  <p:cNvSpPr/>
                  <p:nvPr/>
                </p:nvSpPr>
                <p:spPr>
                  <a:xfrm>
                    <a:off x="7581960" y="1262160"/>
                    <a:ext cx="2206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614" h="432">
                        <a:moveTo>
                          <a:pt x="613" y="208"/>
                        </a:moveTo>
                        <a:lnTo>
                          <a:pt x="404" y="0"/>
                        </a:lnTo>
                        <a:lnTo>
                          <a:pt x="0" y="182"/>
                        </a:lnTo>
                        <a:lnTo>
                          <a:pt x="111" y="431"/>
                        </a:lnTo>
                        <a:lnTo>
                          <a:pt x="613" y="208"/>
                        </a:lnTo>
                      </a:path>
                    </a:pathLst>
                  </a:cu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86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7721640" y="1219320"/>
                    <a:ext cx="82440" cy="118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8" h="329">
                        <a:moveTo>
                          <a:pt x="0" y="0"/>
                        </a:moveTo>
                        <a:lnTo>
                          <a:pt x="39" y="102"/>
                        </a:lnTo>
                        <a:lnTo>
                          <a:pt x="227" y="328"/>
                        </a:lnTo>
                        <a:lnTo>
                          <a:pt x="183" y="227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808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86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7" name=""/>
                  <p:cNvSpPr/>
                  <p:nvPr/>
                </p:nvSpPr>
                <p:spPr>
                  <a:xfrm>
                    <a:off x="7566120" y="1225440"/>
                    <a:ext cx="152280" cy="87480"/>
                  </a:xfrm>
                  <a:custGeom>
                    <a:avLst/>
                    <a:gdLst/>
                    <a:ahLst/>
                    <a:rect l="l" t="t" r="r" b="b"/>
                    <a:pathLst>
                      <a:path w="423" h="242">
                        <a:moveTo>
                          <a:pt x="422" y="67"/>
                        </a:moveTo>
                        <a:lnTo>
                          <a:pt x="390" y="0"/>
                        </a:lnTo>
                        <a:lnTo>
                          <a:pt x="0" y="169"/>
                        </a:lnTo>
                        <a:lnTo>
                          <a:pt x="22" y="241"/>
                        </a:lnTo>
                        <a:lnTo>
                          <a:pt x="422" y="67"/>
                        </a:lnTo>
                      </a:path>
                    </a:pathLst>
                  </a:custGeom>
                  <a:solidFill>
                    <a:srgbClr val="404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680" bIns="40680" anchor="ctr">
                    <a:noAutofit/>
                  </a:bodyPr>
                  <a:p>
                    <a:pPr>
                      <a:lnSpc>
                        <a:spcPct val="86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48" name=""/>
              <p:cNvGrpSpPr/>
              <p:nvPr/>
            </p:nvGrpSpPr>
            <p:grpSpPr>
              <a:xfrm>
                <a:off x="6904080" y="1360440"/>
                <a:ext cx="420480" cy="457200"/>
                <a:chOff x="6904080" y="1360440"/>
                <a:chExt cx="420480" cy="457200"/>
              </a:xfrm>
            </p:grpSpPr>
            <p:sp>
              <p:nvSpPr>
                <p:cNvPr id="249" name=""/>
                <p:cNvSpPr/>
                <p:nvPr/>
              </p:nvSpPr>
              <p:spPr>
                <a:xfrm>
                  <a:off x="6904080" y="1374840"/>
                  <a:ext cx="68400" cy="112680"/>
                </a:xfrm>
                <a:custGeom>
                  <a:avLst/>
                  <a:gdLst/>
                  <a:ahLst/>
                  <a:rect l="l" t="t" r="r" b="b"/>
                  <a:pathLst>
                    <a:path w="188" h="311">
                      <a:moveTo>
                        <a:pt x="147" y="0"/>
                      </a:moveTo>
                      <a:lnTo>
                        <a:pt x="0" y="39"/>
                      </a:lnTo>
                      <a:lnTo>
                        <a:pt x="4" y="84"/>
                      </a:lnTo>
                      <a:lnTo>
                        <a:pt x="13" y="133"/>
                      </a:lnTo>
                      <a:lnTo>
                        <a:pt x="17" y="186"/>
                      </a:lnTo>
                      <a:lnTo>
                        <a:pt x="26" y="213"/>
                      </a:lnTo>
                      <a:lnTo>
                        <a:pt x="39" y="261"/>
                      </a:lnTo>
                      <a:lnTo>
                        <a:pt x="62" y="310"/>
                      </a:lnTo>
                      <a:lnTo>
                        <a:pt x="187" y="253"/>
                      </a:lnTo>
                      <a:lnTo>
                        <a:pt x="178" y="222"/>
                      </a:lnTo>
                      <a:lnTo>
                        <a:pt x="174" y="186"/>
                      </a:lnTo>
                      <a:lnTo>
                        <a:pt x="160" y="133"/>
                      </a:lnTo>
                      <a:lnTo>
                        <a:pt x="142" y="84"/>
                      </a:lnTo>
                      <a:lnTo>
                        <a:pt x="142" y="48"/>
                      </a:lnTo>
                      <a:lnTo>
                        <a:pt x="147" y="0"/>
                      </a:lnTo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8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7037280" y="1720800"/>
                  <a:ext cx="101880" cy="96840"/>
                </a:xfrm>
                <a:custGeom>
                  <a:avLst/>
                  <a:gdLst/>
                  <a:ahLst/>
                  <a:rect l="l" t="t" r="r" b="b"/>
                  <a:pathLst>
                    <a:path w="281" h="271">
                      <a:moveTo>
                        <a:pt x="280" y="217"/>
                      </a:moveTo>
                      <a:lnTo>
                        <a:pt x="156" y="270"/>
                      </a:lnTo>
                      <a:lnTo>
                        <a:pt x="129" y="252"/>
                      </a:lnTo>
                      <a:lnTo>
                        <a:pt x="103" y="213"/>
                      </a:lnTo>
                      <a:lnTo>
                        <a:pt x="66" y="177"/>
                      </a:lnTo>
                      <a:lnTo>
                        <a:pt x="48" y="142"/>
                      </a:lnTo>
                      <a:lnTo>
                        <a:pt x="31" y="101"/>
                      </a:lnTo>
                      <a:lnTo>
                        <a:pt x="0" y="57"/>
                      </a:lnTo>
                      <a:lnTo>
                        <a:pt x="125" y="0"/>
                      </a:lnTo>
                      <a:lnTo>
                        <a:pt x="151" y="30"/>
                      </a:lnTo>
                      <a:lnTo>
                        <a:pt x="169" y="57"/>
                      </a:lnTo>
                      <a:lnTo>
                        <a:pt x="200" y="101"/>
                      </a:lnTo>
                      <a:lnTo>
                        <a:pt x="227" y="146"/>
                      </a:lnTo>
                      <a:lnTo>
                        <a:pt x="258" y="182"/>
                      </a:lnTo>
                      <a:lnTo>
                        <a:pt x="280" y="217"/>
                      </a:lnTo>
                    </a:path>
                  </a:pathLst>
                </a:cu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8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7091280" y="1569960"/>
                  <a:ext cx="233280" cy="223920"/>
                </a:xfrm>
                <a:custGeom>
                  <a:avLst/>
                  <a:gdLst/>
                  <a:ahLst/>
                  <a:rect l="l" t="t" r="r" b="b"/>
                  <a:pathLst>
                    <a:path w="647" h="621">
                      <a:moveTo>
                        <a:pt x="611" y="0"/>
                      </a:moveTo>
                      <a:lnTo>
                        <a:pt x="0" y="389"/>
                      </a:lnTo>
                      <a:lnTo>
                        <a:pt x="26" y="447"/>
                      </a:lnTo>
                      <a:lnTo>
                        <a:pt x="66" y="491"/>
                      </a:lnTo>
                      <a:lnTo>
                        <a:pt x="97" y="541"/>
                      </a:lnTo>
                      <a:lnTo>
                        <a:pt x="132" y="585"/>
                      </a:lnTo>
                      <a:lnTo>
                        <a:pt x="163" y="620"/>
                      </a:lnTo>
                      <a:lnTo>
                        <a:pt x="646" y="70"/>
                      </a:lnTo>
                      <a:lnTo>
                        <a:pt x="611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8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6962760" y="1360440"/>
                  <a:ext cx="270000" cy="106560"/>
                </a:xfrm>
                <a:custGeom>
                  <a:avLst/>
                  <a:gdLst/>
                  <a:ahLst/>
                  <a:rect l="l" t="t" r="r" b="b"/>
                  <a:pathLst>
                    <a:path w="749" h="294">
                      <a:moveTo>
                        <a:pt x="717" y="0"/>
                      </a:moveTo>
                      <a:lnTo>
                        <a:pt x="8" y="26"/>
                      </a:lnTo>
                      <a:lnTo>
                        <a:pt x="0" y="70"/>
                      </a:lnTo>
                      <a:lnTo>
                        <a:pt x="13" y="97"/>
                      </a:lnTo>
                      <a:lnTo>
                        <a:pt x="22" y="124"/>
                      </a:lnTo>
                      <a:lnTo>
                        <a:pt x="22" y="165"/>
                      </a:lnTo>
                      <a:lnTo>
                        <a:pt x="30" y="200"/>
                      </a:lnTo>
                      <a:lnTo>
                        <a:pt x="44" y="231"/>
                      </a:lnTo>
                      <a:lnTo>
                        <a:pt x="44" y="271"/>
                      </a:lnTo>
                      <a:lnTo>
                        <a:pt x="53" y="293"/>
                      </a:lnTo>
                      <a:lnTo>
                        <a:pt x="748" y="101"/>
                      </a:lnTo>
                      <a:lnTo>
                        <a:pt x="717" y="0"/>
                      </a:lnTo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8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53" name=""/>
          <p:cNvGrpSpPr/>
          <p:nvPr/>
        </p:nvGrpSpPr>
        <p:grpSpPr>
          <a:xfrm>
            <a:off x="7981920" y="1282680"/>
            <a:ext cx="1046160" cy="874800"/>
            <a:chOff x="7981920" y="1282680"/>
            <a:chExt cx="1046160" cy="874800"/>
          </a:xfrm>
        </p:grpSpPr>
        <p:sp>
          <p:nvSpPr>
            <p:cNvPr id="254" name=""/>
            <p:cNvSpPr/>
            <p:nvPr/>
          </p:nvSpPr>
          <p:spPr>
            <a:xfrm>
              <a:off x="7981920" y="1282680"/>
              <a:ext cx="1046160" cy="871560"/>
            </a:xfrm>
            <a:custGeom>
              <a:avLst/>
              <a:gdLst/>
              <a:ahLst/>
              <a:rect l="l" t="t" r="r" b="b"/>
              <a:pathLst>
                <a:path w="2907" h="2422">
                  <a:moveTo>
                    <a:pt x="2305" y="0"/>
                  </a:moveTo>
                  <a:lnTo>
                    <a:pt x="1210" y="481"/>
                  </a:lnTo>
                  <a:lnTo>
                    <a:pt x="0" y="1100"/>
                  </a:lnTo>
                  <a:lnTo>
                    <a:pt x="8" y="1219"/>
                  </a:lnTo>
                  <a:lnTo>
                    <a:pt x="26" y="1356"/>
                  </a:lnTo>
                  <a:lnTo>
                    <a:pt x="79" y="1542"/>
                  </a:lnTo>
                  <a:lnTo>
                    <a:pt x="145" y="1705"/>
                  </a:lnTo>
                  <a:lnTo>
                    <a:pt x="202" y="1833"/>
                  </a:lnTo>
                  <a:lnTo>
                    <a:pt x="291" y="1988"/>
                  </a:lnTo>
                  <a:lnTo>
                    <a:pt x="367" y="2130"/>
                  </a:lnTo>
                  <a:lnTo>
                    <a:pt x="481" y="2253"/>
                  </a:lnTo>
                  <a:lnTo>
                    <a:pt x="565" y="2351"/>
                  </a:lnTo>
                  <a:lnTo>
                    <a:pt x="671" y="2421"/>
                  </a:lnTo>
                  <a:lnTo>
                    <a:pt x="1868" y="1807"/>
                  </a:lnTo>
                  <a:lnTo>
                    <a:pt x="2906" y="1179"/>
                  </a:lnTo>
                  <a:lnTo>
                    <a:pt x="2305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8908920" y="1311120"/>
              <a:ext cx="32040" cy="371520"/>
            </a:xfrm>
            <a:prstGeom prst="ellipse">
              <a:avLst/>
            </a:pr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981920" y="1332000"/>
              <a:ext cx="900000" cy="387360"/>
            </a:xfrm>
            <a:custGeom>
              <a:avLst/>
              <a:gdLst/>
              <a:ahLst/>
              <a:rect l="l" t="t" r="r" b="b"/>
              <a:pathLst>
                <a:path w="2500" h="1075">
                  <a:moveTo>
                    <a:pt x="2340" y="0"/>
                  </a:moveTo>
                  <a:lnTo>
                    <a:pt x="1219" y="340"/>
                  </a:lnTo>
                  <a:lnTo>
                    <a:pt x="0" y="959"/>
                  </a:lnTo>
                  <a:lnTo>
                    <a:pt x="4" y="1003"/>
                  </a:lnTo>
                  <a:lnTo>
                    <a:pt x="4" y="1039"/>
                  </a:lnTo>
                  <a:lnTo>
                    <a:pt x="4" y="1074"/>
                  </a:lnTo>
                  <a:lnTo>
                    <a:pt x="1228" y="451"/>
                  </a:lnTo>
                  <a:lnTo>
                    <a:pt x="2358" y="30"/>
                  </a:lnTo>
                  <a:lnTo>
                    <a:pt x="2367" y="97"/>
                  </a:lnTo>
                  <a:lnTo>
                    <a:pt x="2499" y="248"/>
                  </a:lnTo>
                  <a:lnTo>
                    <a:pt x="2340" y="0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7991640" y="1552680"/>
              <a:ext cx="434880" cy="280800"/>
            </a:xfrm>
            <a:custGeom>
              <a:avLst/>
              <a:gdLst/>
              <a:ahLst/>
              <a:rect l="l" t="t" r="r" b="b"/>
              <a:pathLst>
                <a:path w="1207" h="779">
                  <a:moveTo>
                    <a:pt x="1175" y="0"/>
                  </a:moveTo>
                  <a:lnTo>
                    <a:pt x="1184" y="92"/>
                  </a:lnTo>
                  <a:lnTo>
                    <a:pt x="1206" y="181"/>
                  </a:lnTo>
                  <a:lnTo>
                    <a:pt x="44" y="778"/>
                  </a:lnTo>
                  <a:lnTo>
                    <a:pt x="30" y="746"/>
                  </a:lnTo>
                  <a:lnTo>
                    <a:pt x="30" y="711"/>
                  </a:lnTo>
                  <a:lnTo>
                    <a:pt x="17" y="680"/>
                  </a:lnTo>
                  <a:lnTo>
                    <a:pt x="8" y="649"/>
                  </a:lnTo>
                  <a:lnTo>
                    <a:pt x="4" y="627"/>
                  </a:lnTo>
                  <a:lnTo>
                    <a:pt x="0" y="601"/>
                  </a:lnTo>
                  <a:lnTo>
                    <a:pt x="1175" y="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8026560" y="1487520"/>
              <a:ext cx="823680" cy="430200"/>
            </a:xfrm>
            <a:custGeom>
              <a:avLst/>
              <a:gdLst/>
              <a:ahLst/>
              <a:rect l="l" t="t" r="r" b="b"/>
              <a:pathLst>
                <a:path w="2288" h="1194">
                  <a:moveTo>
                    <a:pt x="2287" y="0"/>
                  </a:moveTo>
                  <a:lnTo>
                    <a:pt x="1104" y="504"/>
                  </a:lnTo>
                  <a:lnTo>
                    <a:pt x="0" y="1078"/>
                  </a:lnTo>
                  <a:lnTo>
                    <a:pt x="13" y="1114"/>
                  </a:lnTo>
                  <a:lnTo>
                    <a:pt x="30" y="1149"/>
                  </a:lnTo>
                  <a:lnTo>
                    <a:pt x="44" y="1193"/>
                  </a:lnTo>
                  <a:lnTo>
                    <a:pt x="1078" y="632"/>
                  </a:lnTo>
                  <a:lnTo>
                    <a:pt x="1175" y="543"/>
                  </a:lnTo>
                  <a:lnTo>
                    <a:pt x="2287" y="0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8072280" y="1763640"/>
              <a:ext cx="459000" cy="293760"/>
            </a:xfrm>
            <a:custGeom>
              <a:avLst/>
              <a:gdLst/>
              <a:ahLst/>
              <a:rect l="l" t="t" r="r" b="b"/>
              <a:pathLst>
                <a:path w="1274" h="815">
                  <a:moveTo>
                    <a:pt x="1141" y="0"/>
                  </a:moveTo>
                  <a:lnTo>
                    <a:pt x="1158" y="57"/>
                  </a:lnTo>
                  <a:lnTo>
                    <a:pt x="1198" y="128"/>
                  </a:lnTo>
                  <a:lnTo>
                    <a:pt x="1238" y="190"/>
                  </a:lnTo>
                  <a:lnTo>
                    <a:pt x="1273" y="239"/>
                  </a:lnTo>
                  <a:lnTo>
                    <a:pt x="137" y="814"/>
                  </a:lnTo>
                  <a:lnTo>
                    <a:pt x="110" y="782"/>
                  </a:lnTo>
                  <a:lnTo>
                    <a:pt x="79" y="729"/>
                  </a:lnTo>
                  <a:lnTo>
                    <a:pt x="52" y="681"/>
                  </a:lnTo>
                  <a:lnTo>
                    <a:pt x="22" y="636"/>
                  </a:lnTo>
                  <a:lnTo>
                    <a:pt x="0" y="592"/>
                  </a:lnTo>
                  <a:lnTo>
                    <a:pt x="1141" y="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8501040" y="1590840"/>
              <a:ext cx="422280" cy="293400"/>
            </a:xfrm>
            <a:custGeom>
              <a:avLst/>
              <a:gdLst/>
              <a:ahLst/>
              <a:rect l="l" t="t" r="r" b="b"/>
              <a:pathLst>
                <a:path w="1172" h="814">
                  <a:moveTo>
                    <a:pt x="1171" y="0"/>
                  </a:moveTo>
                  <a:lnTo>
                    <a:pt x="976" y="243"/>
                  </a:lnTo>
                  <a:lnTo>
                    <a:pt x="238" y="813"/>
                  </a:lnTo>
                  <a:lnTo>
                    <a:pt x="0" y="800"/>
                  </a:lnTo>
                  <a:lnTo>
                    <a:pt x="123" y="734"/>
                  </a:lnTo>
                  <a:lnTo>
                    <a:pt x="1171" y="0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8866080" y="1409760"/>
              <a:ext cx="158760" cy="274680"/>
            </a:xfrm>
            <a:custGeom>
              <a:avLst/>
              <a:gdLst/>
              <a:ahLst/>
              <a:rect l="l" t="t" r="r" b="b"/>
              <a:pathLst>
                <a:path w="439" h="765">
                  <a:moveTo>
                    <a:pt x="354" y="561"/>
                  </a:moveTo>
                  <a:lnTo>
                    <a:pt x="363" y="579"/>
                  </a:lnTo>
                  <a:lnTo>
                    <a:pt x="363" y="601"/>
                  </a:lnTo>
                  <a:lnTo>
                    <a:pt x="354" y="605"/>
                  </a:lnTo>
                  <a:lnTo>
                    <a:pt x="345" y="610"/>
                  </a:lnTo>
                  <a:lnTo>
                    <a:pt x="336" y="605"/>
                  </a:lnTo>
                  <a:lnTo>
                    <a:pt x="319" y="579"/>
                  </a:lnTo>
                  <a:lnTo>
                    <a:pt x="310" y="557"/>
                  </a:lnTo>
                  <a:lnTo>
                    <a:pt x="275" y="494"/>
                  </a:lnTo>
                  <a:lnTo>
                    <a:pt x="230" y="423"/>
                  </a:lnTo>
                  <a:lnTo>
                    <a:pt x="182" y="335"/>
                  </a:lnTo>
                  <a:lnTo>
                    <a:pt x="102" y="176"/>
                  </a:lnTo>
                  <a:lnTo>
                    <a:pt x="57" y="92"/>
                  </a:lnTo>
                  <a:lnTo>
                    <a:pt x="30" y="39"/>
                  </a:lnTo>
                  <a:lnTo>
                    <a:pt x="0" y="0"/>
                  </a:lnTo>
                  <a:lnTo>
                    <a:pt x="35" y="79"/>
                  </a:lnTo>
                  <a:lnTo>
                    <a:pt x="61" y="128"/>
                  </a:lnTo>
                  <a:lnTo>
                    <a:pt x="89" y="180"/>
                  </a:lnTo>
                  <a:lnTo>
                    <a:pt x="120" y="251"/>
                  </a:lnTo>
                  <a:lnTo>
                    <a:pt x="160" y="317"/>
                  </a:lnTo>
                  <a:lnTo>
                    <a:pt x="204" y="410"/>
                  </a:lnTo>
                  <a:lnTo>
                    <a:pt x="239" y="481"/>
                  </a:lnTo>
                  <a:lnTo>
                    <a:pt x="292" y="557"/>
                  </a:lnTo>
                  <a:lnTo>
                    <a:pt x="323" y="614"/>
                  </a:lnTo>
                  <a:lnTo>
                    <a:pt x="359" y="658"/>
                  </a:lnTo>
                  <a:lnTo>
                    <a:pt x="372" y="680"/>
                  </a:lnTo>
                  <a:lnTo>
                    <a:pt x="398" y="698"/>
                  </a:lnTo>
                  <a:lnTo>
                    <a:pt x="438" y="764"/>
                  </a:lnTo>
                  <a:lnTo>
                    <a:pt x="403" y="693"/>
                  </a:lnTo>
                  <a:lnTo>
                    <a:pt x="394" y="676"/>
                  </a:lnTo>
                  <a:lnTo>
                    <a:pt x="389" y="641"/>
                  </a:lnTo>
                  <a:lnTo>
                    <a:pt x="385" y="623"/>
                  </a:lnTo>
                  <a:lnTo>
                    <a:pt x="372" y="601"/>
                  </a:lnTo>
                  <a:lnTo>
                    <a:pt x="363" y="579"/>
                  </a:lnTo>
                  <a:lnTo>
                    <a:pt x="354" y="561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8188200" y="1662120"/>
              <a:ext cx="819360" cy="495360"/>
            </a:xfrm>
            <a:custGeom>
              <a:avLst/>
              <a:gdLst/>
              <a:ahLst/>
              <a:rect l="l" t="t" r="r" b="b"/>
              <a:pathLst>
                <a:path w="2276" h="1374">
                  <a:moveTo>
                    <a:pt x="2275" y="35"/>
                  </a:moveTo>
                  <a:lnTo>
                    <a:pt x="1290" y="763"/>
                  </a:lnTo>
                  <a:lnTo>
                    <a:pt x="92" y="1373"/>
                  </a:lnTo>
                  <a:lnTo>
                    <a:pt x="0" y="1307"/>
                  </a:lnTo>
                  <a:lnTo>
                    <a:pt x="1272" y="658"/>
                  </a:lnTo>
                  <a:lnTo>
                    <a:pt x="2227" y="0"/>
                  </a:lnTo>
                  <a:lnTo>
                    <a:pt x="2275" y="35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9556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Arial"/>
              </a:rPr>
              <a:t>Fonctions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865440" y="2255760"/>
            <a:ext cx="1168920" cy="546480"/>
          </a:xfrm>
          <a:prstGeom prst="roundRect">
            <a:avLst>
              <a:gd name="adj" fmla="val 27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c01313"/>
                </a:solidFill>
                <a:latin typeface="Arial"/>
              </a:rPr>
              <a:t>FP =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054160" y="2316240"/>
            <a:ext cx="2138040" cy="681480"/>
          </a:xfrm>
          <a:prstGeom prst="roundRect">
            <a:avLst>
              <a:gd name="adj" fmla="val 222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ettre en valeu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es élé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418640" y="2316240"/>
            <a:ext cx="1981080" cy="681480"/>
          </a:xfrm>
          <a:prstGeom prst="roundRect">
            <a:avLst>
              <a:gd name="adj" fmla="val 222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nscr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ur un sup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778440" y="2316240"/>
            <a:ext cx="1528560" cy="681480"/>
          </a:xfrm>
          <a:prstGeom prst="roundRect">
            <a:avLst>
              <a:gd name="adj" fmla="val 222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n utilisa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la ma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2895480"/>
            <a:ext cx="144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057400" y="3124080"/>
            <a:ext cx="205740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V="1">
            <a:off x="4114800" y="2964960"/>
            <a:ext cx="1440" cy="165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419720" y="2971800"/>
            <a:ext cx="144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419720" y="3124080"/>
            <a:ext cx="198108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6477120" y="2964960"/>
            <a:ext cx="1440" cy="165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1680" y="2971800"/>
            <a:ext cx="180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781680" y="3124080"/>
            <a:ext cx="144792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8229600" y="2964960"/>
            <a:ext cx="1440" cy="165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209680" y="3274920"/>
            <a:ext cx="1525320" cy="319320"/>
          </a:xfrm>
          <a:prstGeom prst="roundRect">
            <a:avLst>
              <a:gd name="adj" fmla="val 46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groupe verb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107680" y="3274920"/>
            <a:ext cx="603360" cy="319320"/>
          </a:xfrm>
          <a:prstGeom prst="roundRect">
            <a:avLst>
              <a:gd name="adj" fmla="val 46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ME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317720" y="3274920"/>
            <a:ext cx="603360" cy="319320"/>
          </a:xfrm>
          <a:prstGeom prst="roundRect">
            <a:avLst>
              <a:gd name="adj" fmla="val 46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ME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95320" y="4129200"/>
            <a:ext cx="1261800" cy="489960"/>
          </a:xfrm>
          <a:prstGeom prst="roundRect">
            <a:avLst>
              <a:gd name="adj" fmla="val 3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c01313"/>
                </a:solidFill>
                <a:latin typeface="Arial"/>
              </a:rPr>
              <a:t>FC1 =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170800" y="4145040"/>
            <a:ext cx="3428640" cy="376560"/>
          </a:xfrm>
          <a:prstGeom prst="roundRect">
            <a:avLst>
              <a:gd name="adj" fmla="val 39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Résister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à l'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environ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895320" y="4890960"/>
            <a:ext cx="1261800" cy="489960"/>
          </a:xfrm>
          <a:prstGeom prst="roundRect">
            <a:avLst>
              <a:gd name="adj" fmla="val 3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c01313"/>
                </a:solidFill>
                <a:latin typeface="Arial"/>
              </a:rPr>
              <a:t>FC2 =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165760" y="4906800"/>
            <a:ext cx="3594960" cy="376560"/>
          </a:xfrm>
          <a:prstGeom prst="roundRect">
            <a:avLst>
              <a:gd name="adj" fmla="val 39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Respecter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la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réglem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39640" y="5592600"/>
            <a:ext cx="522360" cy="498600"/>
          </a:xfrm>
          <a:custGeom>
            <a:avLst/>
            <a:gdLst/>
            <a:ahLst/>
            <a:rect l="l" t="t" r="r" b="b"/>
            <a:pathLst>
              <a:path w="1449" h="1383">
                <a:moveTo>
                  <a:pt x="0" y="345"/>
                </a:moveTo>
                <a:lnTo>
                  <a:pt x="723" y="345"/>
                </a:lnTo>
                <a:lnTo>
                  <a:pt x="723" y="0"/>
                </a:lnTo>
                <a:lnTo>
                  <a:pt x="1448" y="691"/>
                </a:lnTo>
                <a:lnTo>
                  <a:pt x="723" y="1382"/>
                </a:lnTo>
                <a:lnTo>
                  <a:pt x="723" y="1036"/>
                </a:lnTo>
                <a:lnTo>
                  <a:pt x="0" y="1036"/>
                </a:lnTo>
                <a:lnTo>
                  <a:pt x="0" y="345"/>
                </a:lnTo>
              </a:path>
            </a:pathLst>
          </a:custGeom>
          <a:solidFill>
            <a:srgbClr val="fafd00"/>
          </a:solidFill>
          <a:ln w="12600">
            <a:solidFill>
              <a:srgbClr val="000000"/>
            </a:solidFill>
            <a:round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262880" y="5668920"/>
            <a:ext cx="5248440" cy="376560"/>
          </a:xfrm>
          <a:prstGeom prst="roundRect">
            <a:avLst>
              <a:gd name="adj" fmla="val 39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e référer au tableau de critères de valeu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4514760" y="3448080"/>
            <a:ext cx="2247840" cy="1181160"/>
          </a:xfrm>
          <a:prstGeom prst="ellipse">
            <a:avLst/>
          </a:prstGeom>
          <a:noFill/>
          <a:ln w="38160">
            <a:solidFill>
              <a:srgbClr val="438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152800" y="3143160"/>
            <a:ext cx="952200" cy="1144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37c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19556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Arial"/>
              </a:rPr>
              <a:t>Bloc diagramme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28600" y="2666880"/>
            <a:ext cx="84582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28600" y="4952880"/>
            <a:ext cx="853452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130560" y="1758960"/>
            <a:ext cx="1511280" cy="520560"/>
          </a:xfrm>
          <a:prstGeom prst="roundRect">
            <a:avLst>
              <a:gd name="adj" fmla="val 301"/>
            </a:avLst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446640" y="1812960"/>
            <a:ext cx="880560" cy="43308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35b1b"/>
                </a:solidFill>
                <a:latin typeface="Arial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130560" y="2901960"/>
            <a:ext cx="1511280" cy="520560"/>
          </a:xfrm>
          <a:prstGeom prst="roundRect">
            <a:avLst>
              <a:gd name="adj" fmla="val 301"/>
            </a:avLst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429000" y="2955960"/>
            <a:ext cx="912600" cy="43308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35b1b"/>
                </a:solidFill>
                <a:latin typeface="Arial"/>
              </a:rPr>
              <a:t>Tu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130560" y="4121280"/>
            <a:ext cx="1511280" cy="520560"/>
          </a:xfrm>
          <a:prstGeom prst="roundRect">
            <a:avLst>
              <a:gd name="adj" fmla="val 301"/>
            </a:avLst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318480" y="4175280"/>
            <a:ext cx="1133640" cy="43308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35b1b"/>
                </a:solidFill>
                <a:latin typeface="Arial"/>
              </a:rPr>
              <a:t>Mè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7" name=""/>
          <p:cNvGrpSpPr/>
          <p:nvPr/>
        </p:nvGrpSpPr>
        <p:grpSpPr>
          <a:xfrm>
            <a:off x="3206880" y="5340240"/>
            <a:ext cx="1511280" cy="520920"/>
            <a:chOff x="3206880" y="5340240"/>
            <a:chExt cx="1511280" cy="520920"/>
          </a:xfrm>
        </p:grpSpPr>
        <p:sp>
          <p:nvSpPr>
            <p:cNvPr id="298" name=""/>
            <p:cNvSpPr/>
            <p:nvPr/>
          </p:nvSpPr>
          <p:spPr>
            <a:xfrm>
              <a:off x="3206880" y="5340240"/>
              <a:ext cx="1511280" cy="520920"/>
            </a:xfrm>
            <a:prstGeom prst="roundRect">
              <a:avLst>
                <a:gd name="adj" fmla="val 301"/>
              </a:avLst>
            </a:prstGeom>
            <a:solidFill>
              <a:srgbClr val="c0fef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206880" y="5340240"/>
              <a:ext cx="1511280" cy="520920"/>
            </a:xfrm>
            <a:prstGeom prst="roundRect">
              <a:avLst>
                <a:gd name="adj" fmla="val 301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400" spc="-1" strike="noStrike">
                  <a:solidFill>
                    <a:srgbClr val="770468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0" name=""/>
          <p:cNvSpPr/>
          <p:nvPr/>
        </p:nvSpPr>
        <p:spPr>
          <a:xfrm>
            <a:off x="3286080" y="5394240"/>
            <a:ext cx="1362240" cy="4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35b1b"/>
                </a:solidFill>
                <a:latin typeface="Arial"/>
              </a:rPr>
              <a:t>Sup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63680" y="2901960"/>
            <a:ext cx="1663560" cy="520560"/>
          </a:xfrm>
          <a:prstGeom prst="roundRect">
            <a:avLst>
              <a:gd name="adj" fmla="val 301"/>
            </a:avLst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57920" y="2955960"/>
            <a:ext cx="1673280" cy="43308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35b1b"/>
                </a:solidFill>
                <a:latin typeface="Arial"/>
              </a:rPr>
              <a:t>Capuch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645160" y="3206880"/>
            <a:ext cx="2577960" cy="520560"/>
          </a:xfrm>
          <a:prstGeom prst="roundRect">
            <a:avLst>
              <a:gd name="adj" fmla="val 301"/>
            </a:avLst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630400" y="3260880"/>
            <a:ext cx="2608920" cy="43308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35b1b"/>
                </a:solidFill>
                <a:latin typeface="Arial"/>
              </a:rPr>
              <a:t>Mèche</a:t>
            </a:r>
            <a:r>
              <a:rPr b="1" lang="en-GB" sz="2400" spc="-1" strike="noStrike">
                <a:solidFill>
                  <a:srgbClr val="cccc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35b1b"/>
                </a:solidFill>
                <a:latin typeface="Arial"/>
              </a:rPr>
              <a:t>intérie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645160" y="4121280"/>
            <a:ext cx="1587600" cy="520560"/>
          </a:xfrm>
          <a:prstGeom prst="roundRect">
            <a:avLst>
              <a:gd name="adj" fmla="val 301"/>
            </a:avLst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885640" y="4175280"/>
            <a:ext cx="1031760" cy="43308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35b1b"/>
                </a:solidFill>
                <a:latin typeface="Arial"/>
              </a:rPr>
              <a:t>Enc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886200" y="2286000"/>
            <a:ext cx="1440" cy="609480"/>
          </a:xfrm>
          <a:prstGeom prst="line">
            <a:avLst/>
          </a:prstGeom>
          <a:ln w="127080">
            <a:solidFill>
              <a:srgbClr val="f35b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886200" y="3429000"/>
            <a:ext cx="1440" cy="685800"/>
          </a:xfrm>
          <a:prstGeom prst="line">
            <a:avLst/>
          </a:prstGeom>
          <a:ln w="127080">
            <a:solidFill>
              <a:srgbClr val="f35b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886200" y="4648320"/>
            <a:ext cx="1440" cy="685800"/>
          </a:xfrm>
          <a:prstGeom prst="line">
            <a:avLst/>
          </a:prstGeom>
          <a:ln w="127080">
            <a:solidFill>
              <a:srgbClr val="f35b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114800" y="2286000"/>
            <a:ext cx="1440" cy="6094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133720" y="3048120"/>
            <a:ext cx="99036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114800" y="3429000"/>
            <a:ext cx="144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114800" y="4648320"/>
            <a:ext cx="144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 flipV="1">
            <a:off x="4648320" y="3650760"/>
            <a:ext cx="990360" cy="5461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7010280" y="3733920"/>
            <a:ext cx="180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648320" y="4267080"/>
            <a:ext cx="990360" cy="1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8381880" y="2666880"/>
            <a:ext cx="1800" cy="2286000"/>
          </a:xfrm>
          <a:prstGeom prst="line">
            <a:avLst/>
          </a:prstGeom>
          <a:ln w="7632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85800" y="5257800"/>
            <a:ext cx="1440" cy="228600"/>
          </a:xfrm>
          <a:prstGeom prst="line">
            <a:avLst/>
          </a:prstGeom>
          <a:ln w="127080">
            <a:solidFill>
              <a:srgbClr val="f35b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915840" y="5234040"/>
            <a:ext cx="1674720" cy="348120"/>
          </a:xfrm>
          <a:prstGeom prst="roundRect">
            <a:avLst>
              <a:gd name="adj" fmla="val 43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Flux princip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" y="5638680"/>
            <a:ext cx="1440" cy="228600"/>
          </a:xfrm>
          <a:prstGeom prst="line">
            <a:avLst/>
          </a:prstGeom>
          <a:ln w="38160">
            <a:solidFill>
              <a:srgbClr val="037c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870120" y="5614920"/>
            <a:ext cx="1458360" cy="348120"/>
          </a:xfrm>
          <a:prstGeom prst="roundRect">
            <a:avLst>
              <a:gd name="adj" fmla="val 43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Flux boucl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095880" y="5334120"/>
            <a:ext cx="1800" cy="45720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259680" y="5386320"/>
            <a:ext cx="2108880" cy="348120"/>
          </a:xfrm>
          <a:prstGeom prst="roundRect">
            <a:avLst>
              <a:gd name="adj" fmla="val 43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Limites de l'étu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20094480" y="3362400"/>
            <a:ext cx="1800" cy="4572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397400" y="1533600"/>
            <a:ext cx="1219320" cy="3352680"/>
          </a:xfrm>
          <a:custGeom>
            <a:avLst/>
            <a:gdLst/>
            <a:ahLst/>
            <a:rect l="l" t="t" r="r" b="b"/>
            <a:pathLst>
              <a:path w="3388" h="9315">
                <a:moveTo>
                  <a:pt x="3387" y="0"/>
                </a:moveTo>
                <a:lnTo>
                  <a:pt x="3387" y="4445"/>
                </a:lnTo>
                <a:lnTo>
                  <a:pt x="0" y="4445"/>
                </a:lnTo>
                <a:lnTo>
                  <a:pt x="0" y="9314"/>
                </a:lnTo>
              </a:path>
            </a:pathLst>
          </a:custGeom>
          <a:noFill/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4902120" y="1004760"/>
            <a:ext cx="1505160" cy="447840"/>
            <a:chOff x="4902120" y="1004760"/>
            <a:chExt cx="1505160" cy="447840"/>
          </a:xfrm>
        </p:grpSpPr>
        <p:sp>
          <p:nvSpPr>
            <p:cNvPr id="327" name=""/>
            <p:cNvSpPr/>
            <p:nvPr/>
          </p:nvSpPr>
          <p:spPr>
            <a:xfrm>
              <a:off x="4902120" y="1004760"/>
              <a:ext cx="1505160" cy="447840"/>
            </a:xfrm>
            <a:prstGeom prst="roundRect">
              <a:avLst>
                <a:gd name="adj" fmla="val 352"/>
              </a:avLst>
            </a:prstGeom>
            <a:solidFill>
              <a:srgbClr val="00cc99"/>
            </a:solidFill>
            <a:ln w="507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924080" y="1004760"/>
              <a:ext cx="1459800" cy="376560"/>
            </a:xfrm>
            <a:prstGeom prst="roundRect">
              <a:avLst>
                <a:gd name="adj" fmla="val 35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000" spc="-1" strike="noStrike">
                  <a:solidFill>
                    <a:srgbClr val="500093"/>
                  </a:solidFill>
                  <a:latin typeface="Arial"/>
                </a:rPr>
                <a:t>système 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6149880" y="3595680"/>
            <a:ext cx="1830600" cy="447840"/>
            <a:chOff x="6149880" y="3595680"/>
            <a:chExt cx="1830600" cy="447840"/>
          </a:xfrm>
        </p:grpSpPr>
        <p:sp>
          <p:nvSpPr>
            <p:cNvPr id="330" name=""/>
            <p:cNvSpPr/>
            <p:nvPr/>
          </p:nvSpPr>
          <p:spPr>
            <a:xfrm>
              <a:off x="6149880" y="3595680"/>
              <a:ext cx="1830600" cy="447840"/>
            </a:xfrm>
            <a:prstGeom prst="roundRect">
              <a:avLst>
                <a:gd name="adj" fmla="val 352"/>
              </a:avLst>
            </a:prstGeom>
            <a:solidFill>
              <a:srgbClr val="00cc99"/>
            </a:solidFill>
            <a:ln w="507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172920" y="3595680"/>
              <a:ext cx="1784520" cy="376560"/>
            </a:xfrm>
            <a:prstGeom prst="roundRect">
              <a:avLst>
                <a:gd name="adj" fmla="val 35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000" spc="-1" strike="noStrike">
                  <a:solidFill>
                    <a:srgbClr val="500093"/>
                  </a:solidFill>
                  <a:latin typeface="Arial"/>
                </a:rPr>
                <a:t>appareil AB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2" name=""/>
          <p:cNvGrpSpPr/>
          <p:nvPr/>
        </p:nvGrpSpPr>
        <p:grpSpPr>
          <a:xfrm>
            <a:off x="3483000" y="3595680"/>
            <a:ext cx="1830240" cy="447840"/>
            <a:chOff x="3483000" y="3595680"/>
            <a:chExt cx="1830240" cy="447840"/>
          </a:xfrm>
        </p:grpSpPr>
        <p:sp>
          <p:nvSpPr>
            <p:cNvPr id="333" name=""/>
            <p:cNvSpPr/>
            <p:nvPr/>
          </p:nvSpPr>
          <p:spPr>
            <a:xfrm>
              <a:off x="3483000" y="3595680"/>
              <a:ext cx="1830240" cy="447840"/>
            </a:xfrm>
            <a:prstGeom prst="roundRect">
              <a:avLst>
                <a:gd name="adj" fmla="val 352"/>
              </a:avLst>
            </a:prstGeom>
            <a:solidFill>
              <a:srgbClr val="00cc99"/>
            </a:solidFill>
            <a:ln w="507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506040" y="3595680"/>
              <a:ext cx="1784520" cy="376560"/>
            </a:xfrm>
            <a:prstGeom prst="roundRect">
              <a:avLst>
                <a:gd name="adj" fmla="val 35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000" spc="-1" strike="noStrike">
                  <a:solidFill>
                    <a:srgbClr val="500093"/>
                  </a:solidFill>
                  <a:latin typeface="Arial"/>
                </a:rPr>
                <a:t>appareil AB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5" name=""/>
          <p:cNvGrpSpPr/>
          <p:nvPr/>
        </p:nvGrpSpPr>
        <p:grpSpPr>
          <a:xfrm>
            <a:off x="1036800" y="4967280"/>
            <a:ext cx="2000160" cy="447840"/>
            <a:chOff x="1036800" y="4967280"/>
            <a:chExt cx="2000160" cy="447840"/>
          </a:xfrm>
        </p:grpSpPr>
        <p:sp>
          <p:nvSpPr>
            <p:cNvPr id="336" name=""/>
            <p:cNvSpPr/>
            <p:nvPr/>
          </p:nvSpPr>
          <p:spPr>
            <a:xfrm>
              <a:off x="1036800" y="4967280"/>
              <a:ext cx="2000160" cy="447840"/>
            </a:xfrm>
            <a:prstGeom prst="roundRect">
              <a:avLst>
                <a:gd name="adj" fmla="val 352"/>
              </a:avLst>
            </a:prstGeom>
            <a:solidFill>
              <a:srgbClr val="00cc99"/>
            </a:solidFill>
            <a:ln w="507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058400" y="4967280"/>
              <a:ext cx="1955160" cy="376560"/>
            </a:xfrm>
            <a:prstGeom prst="roundRect">
              <a:avLst>
                <a:gd name="adj" fmla="val 35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000" spc="-1" strike="noStrike">
                  <a:solidFill>
                    <a:srgbClr val="500093"/>
                  </a:solidFill>
                  <a:latin typeface="Arial"/>
                </a:rPr>
                <a:t>élément ABA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8" name=""/>
          <p:cNvGrpSpPr/>
          <p:nvPr/>
        </p:nvGrpSpPr>
        <p:grpSpPr>
          <a:xfrm>
            <a:off x="3322800" y="4967280"/>
            <a:ext cx="2000160" cy="447840"/>
            <a:chOff x="3322800" y="4967280"/>
            <a:chExt cx="2000160" cy="447840"/>
          </a:xfrm>
        </p:grpSpPr>
        <p:sp>
          <p:nvSpPr>
            <p:cNvPr id="339" name=""/>
            <p:cNvSpPr/>
            <p:nvPr/>
          </p:nvSpPr>
          <p:spPr>
            <a:xfrm>
              <a:off x="3322800" y="4967280"/>
              <a:ext cx="2000160" cy="447840"/>
            </a:xfrm>
            <a:prstGeom prst="roundRect">
              <a:avLst>
                <a:gd name="adj" fmla="val 352"/>
              </a:avLst>
            </a:prstGeom>
            <a:solidFill>
              <a:srgbClr val="00cc99"/>
            </a:solidFill>
            <a:ln w="507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345840" y="4967280"/>
              <a:ext cx="1955160" cy="376560"/>
            </a:xfrm>
            <a:prstGeom prst="roundRect">
              <a:avLst>
                <a:gd name="adj" fmla="val 35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000" spc="-1" strike="noStrike">
                  <a:solidFill>
                    <a:srgbClr val="500093"/>
                  </a:solidFill>
                  <a:latin typeface="Arial"/>
                </a:rPr>
                <a:t>élément ABA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1" name=""/>
          <p:cNvGrpSpPr/>
          <p:nvPr/>
        </p:nvGrpSpPr>
        <p:grpSpPr>
          <a:xfrm>
            <a:off x="5608800" y="4967280"/>
            <a:ext cx="2000160" cy="447840"/>
            <a:chOff x="5608800" y="4967280"/>
            <a:chExt cx="2000160" cy="447840"/>
          </a:xfrm>
        </p:grpSpPr>
        <p:sp>
          <p:nvSpPr>
            <p:cNvPr id="342" name=""/>
            <p:cNvSpPr/>
            <p:nvPr/>
          </p:nvSpPr>
          <p:spPr>
            <a:xfrm>
              <a:off x="5608800" y="4967280"/>
              <a:ext cx="2000160" cy="447840"/>
            </a:xfrm>
            <a:prstGeom prst="roundRect">
              <a:avLst>
                <a:gd name="adj" fmla="val 352"/>
              </a:avLst>
            </a:prstGeom>
            <a:solidFill>
              <a:srgbClr val="00cc99"/>
            </a:solidFill>
            <a:ln w="507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631840" y="4967280"/>
              <a:ext cx="1955160" cy="376560"/>
            </a:xfrm>
            <a:prstGeom prst="roundRect">
              <a:avLst>
                <a:gd name="adj" fmla="val 35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000" spc="-1" strike="noStrike">
                  <a:solidFill>
                    <a:srgbClr val="500093"/>
                  </a:solidFill>
                  <a:latin typeface="Arial"/>
                </a:rPr>
                <a:t>élément ABA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4" name=""/>
          <p:cNvGrpSpPr/>
          <p:nvPr/>
        </p:nvGrpSpPr>
        <p:grpSpPr>
          <a:xfrm>
            <a:off x="2381400" y="2205000"/>
            <a:ext cx="1900080" cy="447840"/>
            <a:chOff x="2381400" y="2205000"/>
            <a:chExt cx="1900080" cy="447840"/>
          </a:xfrm>
        </p:grpSpPr>
        <p:sp>
          <p:nvSpPr>
            <p:cNvPr id="345" name=""/>
            <p:cNvSpPr/>
            <p:nvPr/>
          </p:nvSpPr>
          <p:spPr>
            <a:xfrm>
              <a:off x="2381400" y="2205000"/>
              <a:ext cx="1900080" cy="447840"/>
            </a:xfrm>
            <a:prstGeom prst="roundRect">
              <a:avLst>
                <a:gd name="adj" fmla="val 352"/>
              </a:avLst>
            </a:prstGeom>
            <a:solidFill>
              <a:srgbClr val="00cc99"/>
            </a:solidFill>
            <a:ln w="507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403360" y="2205000"/>
              <a:ext cx="1856160" cy="376560"/>
            </a:xfrm>
            <a:prstGeom prst="roundRect">
              <a:avLst>
                <a:gd name="adj" fmla="val 35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000" spc="-1" strike="noStrike">
                  <a:solidFill>
                    <a:srgbClr val="500093"/>
                  </a:solidFill>
                  <a:latin typeface="Arial"/>
                </a:rPr>
                <a:t>s/système A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7" name=""/>
          <p:cNvGrpSpPr/>
          <p:nvPr/>
        </p:nvGrpSpPr>
        <p:grpSpPr>
          <a:xfrm>
            <a:off x="4705200" y="2205000"/>
            <a:ext cx="1900440" cy="447840"/>
            <a:chOff x="4705200" y="2205000"/>
            <a:chExt cx="1900440" cy="447840"/>
          </a:xfrm>
        </p:grpSpPr>
        <p:sp>
          <p:nvSpPr>
            <p:cNvPr id="348" name=""/>
            <p:cNvSpPr/>
            <p:nvPr/>
          </p:nvSpPr>
          <p:spPr>
            <a:xfrm>
              <a:off x="4705200" y="2205000"/>
              <a:ext cx="1900440" cy="447840"/>
            </a:xfrm>
            <a:prstGeom prst="roundRect">
              <a:avLst>
                <a:gd name="adj" fmla="val 352"/>
              </a:avLst>
            </a:prstGeom>
            <a:solidFill>
              <a:srgbClr val="00cc99"/>
            </a:solidFill>
            <a:ln w="507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4727160" y="2205000"/>
              <a:ext cx="1856160" cy="376560"/>
            </a:xfrm>
            <a:prstGeom prst="roundRect">
              <a:avLst>
                <a:gd name="adj" fmla="val 35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000" spc="-1" strike="noStrike">
                  <a:solidFill>
                    <a:srgbClr val="500093"/>
                  </a:solidFill>
                  <a:latin typeface="Arial"/>
                </a:rPr>
                <a:t>s/système A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0" name=""/>
          <p:cNvGrpSpPr/>
          <p:nvPr/>
        </p:nvGrpSpPr>
        <p:grpSpPr>
          <a:xfrm>
            <a:off x="6953400" y="2205000"/>
            <a:ext cx="1900080" cy="447840"/>
            <a:chOff x="6953400" y="2205000"/>
            <a:chExt cx="1900080" cy="447840"/>
          </a:xfrm>
        </p:grpSpPr>
        <p:sp>
          <p:nvSpPr>
            <p:cNvPr id="351" name=""/>
            <p:cNvSpPr/>
            <p:nvPr/>
          </p:nvSpPr>
          <p:spPr>
            <a:xfrm>
              <a:off x="6953400" y="2205000"/>
              <a:ext cx="1900080" cy="447840"/>
            </a:xfrm>
            <a:prstGeom prst="roundRect">
              <a:avLst>
                <a:gd name="adj" fmla="val 352"/>
              </a:avLst>
            </a:prstGeom>
            <a:solidFill>
              <a:srgbClr val="00cc99"/>
            </a:solidFill>
            <a:ln w="507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6975360" y="2205000"/>
              <a:ext cx="1856160" cy="376560"/>
            </a:xfrm>
            <a:prstGeom prst="roundRect">
              <a:avLst>
                <a:gd name="adj" fmla="val 35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000" spc="-1" strike="noStrike">
                  <a:solidFill>
                    <a:srgbClr val="500093"/>
                  </a:solidFill>
                  <a:latin typeface="Arial"/>
                </a:rPr>
                <a:t>s/système A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3" name=""/>
          <p:cNvSpPr/>
          <p:nvPr/>
        </p:nvSpPr>
        <p:spPr>
          <a:xfrm>
            <a:off x="5616720" y="3133800"/>
            <a:ext cx="1295280" cy="457200"/>
          </a:xfrm>
          <a:custGeom>
            <a:avLst/>
            <a:gdLst/>
            <a:ahLst/>
            <a:rect l="l" t="t" r="r" b="b"/>
            <a:pathLst>
              <a:path w="3599" h="1271">
                <a:moveTo>
                  <a:pt x="0" y="0"/>
                </a:moveTo>
                <a:lnTo>
                  <a:pt x="3598" y="0"/>
                </a:lnTo>
                <a:lnTo>
                  <a:pt x="3598" y="1270"/>
                </a:lnTo>
              </a:path>
            </a:pathLst>
          </a:custGeom>
          <a:noFill/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111400" y="4429080"/>
            <a:ext cx="4572000" cy="457200"/>
          </a:xfrm>
          <a:custGeom>
            <a:avLst/>
            <a:gdLst/>
            <a:ahLst/>
            <a:rect l="l" t="t" r="r" b="b"/>
            <a:pathLst>
              <a:path w="12701" h="1272">
                <a:moveTo>
                  <a:pt x="0" y="1271"/>
                </a:moveTo>
                <a:lnTo>
                  <a:pt x="0" y="0"/>
                </a:lnTo>
                <a:lnTo>
                  <a:pt x="12700" y="0"/>
                </a:lnTo>
                <a:lnTo>
                  <a:pt x="12700" y="1271"/>
                </a:lnTo>
              </a:path>
            </a:pathLst>
          </a:custGeom>
          <a:noFill/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406680" y="1838160"/>
            <a:ext cx="4191120" cy="381240"/>
          </a:xfrm>
          <a:custGeom>
            <a:avLst/>
            <a:gdLst/>
            <a:ahLst/>
            <a:rect l="l" t="t" r="r" b="b"/>
            <a:pathLst>
              <a:path w="11643" h="1060">
                <a:moveTo>
                  <a:pt x="0" y="1059"/>
                </a:moveTo>
                <a:lnTo>
                  <a:pt x="0" y="0"/>
                </a:lnTo>
                <a:lnTo>
                  <a:pt x="11642" y="0"/>
                </a:lnTo>
                <a:lnTo>
                  <a:pt x="11642" y="847"/>
                </a:lnTo>
              </a:path>
            </a:pathLst>
          </a:custGeom>
          <a:noFill/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406680" y="2676600"/>
            <a:ext cx="1800" cy="4572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7597800" y="2752560"/>
            <a:ext cx="1440" cy="4572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6912000" y="4048200"/>
            <a:ext cx="1440" cy="4572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688680" y="2097000"/>
            <a:ext cx="1627560" cy="681480"/>
          </a:xfrm>
          <a:prstGeom prst="roundRect">
            <a:avLst>
              <a:gd name="adj" fmla="val 222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écoup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fonctionn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800280" y="3666960"/>
            <a:ext cx="1595160" cy="6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écoupag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organi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Arial"/>
              </a:rPr>
              <a:t>Etude d'une batterie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4800600" y="5867280"/>
            <a:ext cx="190512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3" name=""/>
          <p:cNvGrpSpPr/>
          <p:nvPr/>
        </p:nvGrpSpPr>
        <p:grpSpPr>
          <a:xfrm>
            <a:off x="762120" y="2133720"/>
            <a:ext cx="6954480" cy="3809880"/>
            <a:chOff x="762120" y="2133720"/>
            <a:chExt cx="6954480" cy="3809880"/>
          </a:xfrm>
        </p:grpSpPr>
        <p:pic>
          <p:nvPicPr>
            <p:cNvPr id="364" name="" descr=""/>
            <p:cNvPicPr/>
            <p:nvPr/>
          </p:nvPicPr>
          <p:blipFill>
            <a:blip r:embed="rId1"/>
            <a:stretch/>
          </p:blipFill>
          <p:spPr>
            <a:xfrm>
              <a:off x="923760" y="2438280"/>
              <a:ext cx="6620040" cy="327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5" name=""/>
            <p:cNvSpPr/>
            <p:nvPr/>
          </p:nvSpPr>
          <p:spPr>
            <a:xfrm>
              <a:off x="6553080" y="2895480"/>
              <a:ext cx="990720" cy="2438640"/>
            </a:xfrm>
            <a:custGeom>
              <a:avLst/>
              <a:gdLst>
                <a:gd name="textAreaLeft" fmla="*/ 360 w 990720"/>
                <a:gd name="textAreaRight" fmla="*/ 990360 w 990720"/>
                <a:gd name="textAreaTop" fmla="*/ 360 h 2438640"/>
                <a:gd name="textAreaBottom" fmla="*/ 2438280 h 2438640"/>
              </a:gdLst>
              <a:ahLst/>
              <a:rect l="textAreaLeft" t="textAreaTop" r="textAreaRight" b="textAreaBottom"/>
              <a:pathLst>
                <a:path w="21600" h="53157">
                  <a:moveTo>
                    <a:pt x="34" y="0"/>
                  </a:moveTo>
                  <a:arcTo wR="34" hR="34" stAng="16200000" swAng="-5400000"/>
                  <a:lnTo>
                    <a:pt x="0" y="53123"/>
                  </a:lnTo>
                  <a:arcTo wR="34" hR="34" stAng="10800000" swAng="-5400000"/>
                  <a:lnTo>
                    <a:pt x="21566" y="53157"/>
                  </a:lnTo>
                  <a:arcTo wR="34" hR="34" stAng="5400000" swAng="-5400000"/>
                  <a:lnTo>
                    <a:pt x="21600" y="34"/>
                  </a:lnTo>
                  <a:arcTo wR="34" hR="34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5486400" y="3346200"/>
              <a:ext cx="1066680" cy="469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 flipV="1">
              <a:off x="5334120" y="3879360"/>
              <a:ext cx="1218960" cy="165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6095880" y="4876920"/>
              <a:ext cx="4572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H="1">
              <a:off x="2660760" y="3352680"/>
              <a:ext cx="153648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 flipH="1">
              <a:off x="2660760" y="4114800"/>
              <a:ext cx="168912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2660760" y="4876920"/>
              <a:ext cx="1155600" cy="45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6626520" y="3078000"/>
              <a:ext cx="769320" cy="295560"/>
            </a:xfrm>
            <a:prstGeom prst="roundRect">
              <a:avLst>
                <a:gd name="adj" fmla="val 519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400" spc="-1" strike="noStrike">
                  <a:solidFill>
                    <a:srgbClr val="ccccff"/>
                  </a:solidFill>
                  <a:latin typeface="Times New Roman"/>
                </a:rPr>
                <a:t>COSS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6602040" y="3679920"/>
              <a:ext cx="818280" cy="295560"/>
            </a:xfrm>
            <a:prstGeom prst="roundRect">
              <a:avLst>
                <a:gd name="adj" fmla="val 519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400" spc="-1" strike="noStrike">
                  <a:solidFill>
                    <a:srgbClr val="ccccff"/>
                  </a:solidFill>
                  <a:latin typeface="Times New Roman"/>
                </a:rPr>
                <a:t>BOR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610320" y="4670280"/>
              <a:ext cx="1106280" cy="295560"/>
            </a:xfrm>
            <a:prstGeom prst="roundRect">
              <a:avLst>
                <a:gd name="adj" fmla="val 519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400" spc="-1" strike="noStrike">
                  <a:solidFill>
                    <a:srgbClr val="ccccff"/>
                  </a:solidFill>
                  <a:latin typeface="Times New Roman"/>
                </a:rPr>
                <a:t>BATTERI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 flipH="1" flipV="1">
              <a:off x="2660400" y="4717800"/>
              <a:ext cx="546120" cy="88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419720" y="2133720"/>
              <a:ext cx="1904760" cy="457200"/>
            </a:xfrm>
            <a:prstGeom prst="roundRect">
              <a:avLst>
                <a:gd name="adj" fmla="val 34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762120" y="2133720"/>
              <a:ext cx="1828800" cy="3809880"/>
            </a:xfrm>
            <a:custGeom>
              <a:avLst/>
              <a:gdLst>
                <a:gd name="textAreaLeft" fmla="*/ 360 w 1828800"/>
                <a:gd name="textAreaRight" fmla="*/ 1828440 w 1828800"/>
                <a:gd name="textAreaTop" fmla="*/ 360 h 3809880"/>
                <a:gd name="textAreaBottom" fmla="*/ 3809520 h 3809880"/>
              </a:gdLst>
              <a:ahLst/>
              <a:rect l="textAreaLeft" t="textAreaTop" r="textAreaRight" b="textAreaBottom"/>
              <a:pathLst>
                <a:path w="21600" h="44994">
                  <a:moveTo>
                    <a:pt x="18" y="0"/>
                  </a:moveTo>
                  <a:arcTo wR="18" hR="18" stAng="16200000" swAng="-5400000"/>
                  <a:lnTo>
                    <a:pt x="0" y="44976"/>
                  </a:lnTo>
                  <a:arcTo wR="18" hR="18" stAng="10800000" swAng="-5400000"/>
                  <a:lnTo>
                    <a:pt x="21582" y="44994"/>
                  </a:lnTo>
                  <a:arcTo wR="18" hR="18" stAng="5400000" swAng="-5400000"/>
                  <a:lnTo>
                    <a:pt x="21600" y="18"/>
                  </a:lnTo>
                  <a:arcTo wR="18" hR="18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8" name=""/>
            <p:cNvGrpSpPr/>
            <p:nvPr/>
          </p:nvGrpSpPr>
          <p:grpSpPr>
            <a:xfrm>
              <a:off x="1330560" y="3222720"/>
              <a:ext cx="1302840" cy="2352960"/>
              <a:chOff x="1330560" y="3222720"/>
              <a:chExt cx="1302840" cy="2352960"/>
            </a:xfrm>
          </p:grpSpPr>
          <p:sp>
            <p:nvSpPr>
              <p:cNvPr id="379" name=""/>
              <p:cNvSpPr/>
              <p:nvPr/>
            </p:nvSpPr>
            <p:spPr>
              <a:xfrm>
                <a:off x="2121480" y="3984480"/>
                <a:ext cx="483120" cy="295560"/>
              </a:xfrm>
              <a:prstGeom prst="roundRect">
                <a:avLst>
                  <a:gd name="adj" fmla="val 519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lang="en-GB" sz="1400" spc="-1" strike="noStrike">
                    <a:solidFill>
                      <a:srgbClr val="ccccff"/>
                    </a:solidFill>
                    <a:latin typeface="Times New Roman"/>
                  </a:rPr>
                  <a:t>VI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1796760" y="3222720"/>
                <a:ext cx="827280" cy="295560"/>
              </a:xfrm>
              <a:prstGeom prst="roundRect">
                <a:avLst>
                  <a:gd name="adj" fmla="val 519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lang="en-GB" sz="1400" spc="-1" strike="noStrike">
                    <a:solidFill>
                      <a:srgbClr val="ccccff"/>
                    </a:solidFill>
                    <a:latin typeface="Times New Roman"/>
                  </a:rPr>
                  <a:t>ECROU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2121480" y="4518000"/>
                <a:ext cx="483120" cy="295560"/>
              </a:xfrm>
              <a:prstGeom prst="roundRect">
                <a:avLst>
                  <a:gd name="adj" fmla="val 519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lang="en-GB" sz="1400" spc="-1" strike="noStrike">
                    <a:solidFill>
                      <a:srgbClr val="ccccff"/>
                    </a:solidFill>
                    <a:latin typeface="Times New Roman"/>
                  </a:rPr>
                  <a:t>FIL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1330560" y="5280120"/>
                <a:ext cx="1302840" cy="295560"/>
              </a:xfrm>
              <a:prstGeom prst="roundRect">
                <a:avLst>
                  <a:gd name="adj" fmla="val 519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lang="en-GB" sz="1400" spc="-1" strike="noStrike">
                    <a:solidFill>
                      <a:srgbClr val="ccccff"/>
                    </a:solidFill>
                    <a:latin typeface="Times New Roman"/>
                  </a:rPr>
                  <a:t>LANGUETT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AMDEC</dc:title>
</cp:coreProperties>
</file>