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6AC4D-69A1-44A0-A0E4-B355D0B2686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7E6FA-A91A-429E-9997-AD0135AAED53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985680" y="742680"/>
            <a:ext cx="488160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CDE8-B6AD-4EBE-A34F-E5E80C313A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83C08-423E-4362-B395-7322375720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080" y="2285640"/>
            <a:ext cx="7731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6760" y="3816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ycle de vie d'un produi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0" y="1606680"/>
            <a:ext cx="4483080" cy="44830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4360" y="1219320"/>
            <a:ext cx="1800" cy="5181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16400" y="3503520"/>
            <a:ext cx="3065400" cy="641520"/>
            <a:chOff x="3416400" y="3503520"/>
            <a:chExt cx="3065400" cy="641520"/>
          </a:xfrm>
        </p:grpSpPr>
        <p:sp>
          <p:nvSpPr>
            <p:cNvPr id="104" name=""/>
            <p:cNvSpPr/>
            <p:nvPr/>
          </p:nvSpPr>
          <p:spPr>
            <a:xfrm>
              <a:off x="3416400" y="3503520"/>
              <a:ext cx="3065400" cy="641520"/>
            </a:xfrm>
            <a:prstGeom prst="roundRect">
              <a:avLst>
                <a:gd name="adj" fmla="val 245"/>
              </a:avLst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1840" y="3503520"/>
              <a:ext cx="2499120" cy="60336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5160" y="1197000"/>
            <a:ext cx="2181240" cy="469800"/>
            <a:chOff x="2135160" y="1197000"/>
            <a:chExt cx="2181240" cy="469800"/>
          </a:xfrm>
        </p:grpSpPr>
        <p:sp>
          <p:nvSpPr>
            <p:cNvPr id="107" name=""/>
            <p:cNvSpPr/>
            <p:nvPr/>
          </p:nvSpPr>
          <p:spPr>
            <a:xfrm>
              <a:off x="2135160" y="1197000"/>
              <a:ext cx="21812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0040" y="1197000"/>
              <a:ext cx="185292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spéc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1280" y="3406680"/>
            <a:ext cx="1852560" cy="470160"/>
            <a:chOff x="611280" y="3406680"/>
            <a:chExt cx="1852560" cy="470160"/>
          </a:xfrm>
        </p:grpSpPr>
        <p:sp>
          <p:nvSpPr>
            <p:cNvPr id="110" name=""/>
            <p:cNvSpPr/>
            <p:nvPr/>
          </p:nvSpPr>
          <p:spPr>
            <a:xfrm>
              <a:off x="611280" y="3406680"/>
              <a:ext cx="185256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8680" y="3406680"/>
              <a:ext cx="15177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on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8480" y="5159520"/>
            <a:ext cx="1714320" cy="469800"/>
            <a:chOff x="1068480" y="5159520"/>
            <a:chExt cx="1714320" cy="469800"/>
          </a:xfrm>
        </p:grpSpPr>
        <p:sp>
          <p:nvSpPr>
            <p:cNvPr id="113" name=""/>
            <p:cNvSpPr/>
            <p:nvPr/>
          </p:nvSpPr>
          <p:spPr>
            <a:xfrm>
              <a:off x="1068480" y="5159520"/>
              <a:ext cx="17143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4120" y="5159520"/>
              <a:ext cx="146448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fabr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92560" y="6302520"/>
            <a:ext cx="1522440" cy="469800"/>
            <a:chOff x="4192560" y="6302520"/>
            <a:chExt cx="1522440" cy="469800"/>
          </a:xfrm>
        </p:grpSpPr>
        <p:sp>
          <p:nvSpPr>
            <p:cNvPr id="116" name=""/>
            <p:cNvSpPr/>
            <p:nvPr/>
          </p:nvSpPr>
          <p:spPr>
            <a:xfrm>
              <a:off x="4192560" y="6302520"/>
              <a:ext cx="15224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6280" y="6302520"/>
              <a:ext cx="12146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livr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59440" y="5235480"/>
            <a:ext cx="1684440" cy="470160"/>
            <a:chOff x="6859440" y="5235480"/>
            <a:chExt cx="1684440" cy="470160"/>
          </a:xfrm>
        </p:grpSpPr>
        <p:sp>
          <p:nvSpPr>
            <p:cNvPr id="119" name=""/>
            <p:cNvSpPr/>
            <p:nvPr/>
          </p:nvSpPr>
          <p:spPr>
            <a:xfrm>
              <a:off x="6859440" y="5235480"/>
              <a:ext cx="168444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7480" y="5235480"/>
              <a:ext cx="13683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util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62920" y="3232080"/>
            <a:ext cx="1915920" cy="469800"/>
            <a:chOff x="7162920" y="3232080"/>
            <a:chExt cx="1915920" cy="469800"/>
          </a:xfrm>
        </p:grpSpPr>
        <p:sp>
          <p:nvSpPr>
            <p:cNvPr id="122" name=""/>
            <p:cNvSpPr/>
            <p:nvPr/>
          </p:nvSpPr>
          <p:spPr>
            <a:xfrm>
              <a:off x="7162920" y="3232080"/>
              <a:ext cx="19159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26000" y="3232080"/>
              <a:ext cx="15894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explo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21360" y="1273320"/>
            <a:ext cx="3005280" cy="469800"/>
            <a:chOff x="6021360" y="1273320"/>
            <a:chExt cx="3005280" cy="469800"/>
          </a:xfrm>
        </p:grpSpPr>
        <p:sp>
          <p:nvSpPr>
            <p:cNvPr id="125" name=""/>
            <p:cNvSpPr/>
            <p:nvPr/>
          </p:nvSpPr>
          <p:spPr>
            <a:xfrm>
              <a:off x="6021360" y="1273320"/>
              <a:ext cx="300528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76600" y="1273320"/>
              <a:ext cx="24948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retour d'expér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49360" y="2263680"/>
            <a:ext cx="558720" cy="470160"/>
            <a:chOff x="1449360" y="2263680"/>
            <a:chExt cx="558720" cy="470160"/>
          </a:xfrm>
        </p:grpSpPr>
        <p:sp>
          <p:nvSpPr>
            <p:cNvPr id="128" name=""/>
            <p:cNvSpPr/>
            <p:nvPr/>
          </p:nvSpPr>
          <p:spPr>
            <a:xfrm>
              <a:off x="1449360" y="2263680"/>
              <a:ext cx="55872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4400" y="2263680"/>
              <a:ext cx="5468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c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2560" y="2448000"/>
            <a:ext cx="165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36720" y="4124160"/>
            <a:ext cx="3175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43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43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43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44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498840" y="29718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36520" y="3429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98840" y="38862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36520" y="4572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98840" y="510552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37760" y="46080"/>
            <a:ext cx="4384440" cy="579240"/>
            <a:chOff x="2237760" y="46080"/>
            <a:chExt cx="4384440" cy="579240"/>
          </a:xfrm>
        </p:grpSpPr>
        <p:sp>
          <p:nvSpPr>
            <p:cNvPr id="131" name=""/>
            <p:cNvSpPr/>
            <p:nvPr/>
          </p:nvSpPr>
          <p:spPr>
            <a:xfrm>
              <a:off x="2270160" y="46080"/>
              <a:ext cx="431640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7760" y="46080"/>
              <a:ext cx="438444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fonctionne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54920" y="3017880"/>
            <a:ext cx="1677600" cy="579240"/>
            <a:chOff x="6154920" y="3017880"/>
            <a:chExt cx="1677600" cy="579240"/>
          </a:xfrm>
        </p:grpSpPr>
        <p:sp>
          <p:nvSpPr>
            <p:cNvPr id="134" name=""/>
            <p:cNvSpPr/>
            <p:nvPr/>
          </p:nvSpPr>
          <p:spPr>
            <a:xfrm>
              <a:off x="6156360" y="3017880"/>
              <a:ext cx="167472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54920" y="3017880"/>
              <a:ext cx="167760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MD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3320" y="3017880"/>
            <a:ext cx="4090320" cy="579240"/>
            <a:chOff x="103320" y="3017880"/>
            <a:chExt cx="4090320" cy="579240"/>
          </a:xfrm>
        </p:grpSpPr>
        <p:sp>
          <p:nvSpPr>
            <p:cNvPr id="137" name=""/>
            <p:cNvSpPr/>
            <p:nvPr/>
          </p:nvSpPr>
          <p:spPr>
            <a:xfrm>
              <a:off x="136440" y="3017880"/>
              <a:ext cx="402444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" y="3017880"/>
              <a:ext cx="409032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de la valeu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499120" y="746280"/>
            <a:ext cx="4046040" cy="1530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s -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ieu environ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éponse technique au 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320" y="3718080"/>
            <a:ext cx="404928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écono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ffrage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ndement de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optimisée en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36480" y="3718080"/>
            <a:ext cx="366336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abilité 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 de défa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uses - effets - crit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fiabi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98040" y="5616720"/>
            <a:ext cx="4152600" cy="834840"/>
            <a:chOff x="2498040" y="5616720"/>
            <a:chExt cx="4152600" cy="834840"/>
          </a:xfrm>
        </p:grpSpPr>
        <p:sp>
          <p:nvSpPr>
            <p:cNvPr id="143" name=""/>
            <p:cNvSpPr/>
            <p:nvPr/>
          </p:nvSpPr>
          <p:spPr>
            <a:xfrm>
              <a:off x="2509920" y="5616720"/>
              <a:ext cx="4125960" cy="834840"/>
            </a:xfrm>
            <a:prstGeom prst="roundRect">
              <a:avLst>
                <a:gd name="adj" fmla="val 190"/>
              </a:avLst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8040" y="5616720"/>
              <a:ext cx="4152600" cy="79884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thè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olution fiable et optimisé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0240" y="356760"/>
            <a:ext cx="7853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2368440"/>
            <a:ext cx="4407120" cy="2044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2133720"/>
            <a:ext cx="2286000" cy="3047760"/>
          </a:xfrm>
          <a:custGeom>
            <a:avLst/>
            <a:gdLst>
              <a:gd name="textAreaLeft" fmla="*/ 360 w 2286000"/>
              <a:gd name="textAreaRight" fmla="*/ 2285640 w 2286000"/>
              <a:gd name="textAreaTop" fmla="*/ 360 h 3047760"/>
              <a:gd name="textAreaBottom" fmla="*/ 3047400 h 3047760"/>
            </a:gdLst>
            <a:ahLst/>
            <a:rect l="textAreaLeft" t="textAreaTop" r="textAreaRight" b="textAreaBottom"/>
            <a:pathLst>
              <a:path w="21600" h="28797">
                <a:moveTo>
                  <a:pt x="15" y="0"/>
                </a:moveTo>
                <a:arcTo wR="15" hR="15" stAng="16200000" swAng="-5400000"/>
                <a:lnTo>
                  <a:pt x="0" y="28782"/>
                </a:lnTo>
                <a:arcTo wR="15" hR="15" stAng="10800000" swAng="-5400000"/>
                <a:lnTo>
                  <a:pt x="21585" y="2879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21280" y="2035080"/>
            <a:ext cx="1346400" cy="774720"/>
            <a:chOff x="5921280" y="2035080"/>
            <a:chExt cx="1346400" cy="774720"/>
          </a:xfrm>
        </p:grpSpPr>
        <p:sp>
          <p:nvSpPr>
            <p:cNvPr id="149" name=""/>
            <p:cNvSpPr/>
            <p:nvPr/>
          </p:nvSpPr>
          <p:spPr>
            <a:xfrm>
              <a:off x="5921280" y="203508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5240" y="20350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31120" y="3787920"/>
            <a:ext cx="1346040" cy="774720"/>
            <a:chOff x="6531120" y="3787920"/>
            <a:chExt cx="1346040" cy="774720"/>
          </a:xfrm>
        </p:grpSpPr>
        <p:sp>
          <p:nvSpPr>
            <p:cNvPr id="152" name=""/>
            <p:cNvSpPr/>
            <p:nvPr/>
          </p:nvSpPr>
          <p:spPr>
            <a:xfrm>
              <a:off x="6531120" y="378792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6520" y="37879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8280" y="2292480"/>
            <a:ext cx="2349360" cy="234936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5040" y="1873080"/>
            <a:ext cx="3660480" cy="459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9800" y="1806480"/>
            <a:ext cx="1346040" cy="774720"/>
            <a:chOff x="739800" y="1806480"/>
            <a:chExt cx="1346040" cy="774720"/>
          </a:xfrm>
        </p:grpSpPr>
        <p:sp>
          <p:nvSpPr>
            <p:cNvPr id="157" name=""/>
            <p:cNvSpPr/>
            <p:nvPr/>
          </p:nvSpPr>
          <p:spPr>
            <a:xfrm>
              <a:off x="739800" y="180648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560" y="18064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2438280"/>
            <a:ext cx="1295280" cy="2895840"/>
          </a:xfrm>
          <a:custGeom>
            <a:avLst/>
            <a:gdLst>
              <a:gd name="textAreaLeft" fmla="*/ 360 w 1295280"/>
              <a:gd name="textAreaRight" fmla="*/ 1294920 w 1295280"/>
              <a:gd name="textAreaTop" fmla="*/ 360 h 2895840"/>
              <a:gd name="textAreaBottom" fmla="*/ 2895480 h 2895840"/>
            </a:gdLst>
            <a:ahLst/>
            <a:rect l="textAreaLeft" t="textAreaTop" r="textAreaRight" b="textAreaBottom"/>
            <a:pathLst>
              <a:path w="21600" h="48283">
                <a:moveTo>
                  <a:pt x="26" y="0"/>
                </a:moveTo>
                <a:arcTo wR="26" hR="26" stAng="16200000" swAng="-5400000"/>
                <a:lnTo>
                  <a:pt x="0" y="48257"/>
                </a:lnTo>
                <a:arcTo wR="26" hR="26" stAng="10800000" swAng="-5400000"/>
                <a:lnTo>
                  <a:pt x="21574" y="48283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5280" y="5616720"/>
            <a:ext cx="1346400" cy="774720"/>
            <a:chOff x="3635280" y="5616720"/>
            <a:chExt cx="1346400" cy="774720"/>
          </a:xfrm>
        </p:grpSpPr>
        <p:sp>
          <p:nvSpPr>
            <p:cNvPr id="161" name=""/>
            <p:cNvSpPr/>
            <p:nvPr/>
          </p:nvSpPr>
          <p:spPr>
            <a:xfrm>
              <a:off x="3635280" y="561672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9240" y="56167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45640" y="4832280"/>
            <a:ext cx="74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840" y="379404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3360" y="204156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3680" y="2560680"/>
            <a:ext cx="1540440" cy="1521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obj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étu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8680" y="5700600"/>
            <a:ext cx="3526200" cy="622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P =groupe verbal + MEi + M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C = groupe verbal + M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1480" y="2666880"/>
            <a:ext cx="1743120" cy="3076560"/>
          </a:xfrm>
          <a:custGeom>
            <a:avLst/>
            <a:gdLst>
              <a:gd name="textAreaLeft" fmla="*/ 360 w 1743120"/>
              <a:gd name="textAreaRight" fmla="*/ 1742760 w 1743120"/>
              <a:gd name="textAreaTop" fmla="*/ 360 h 3076560"/>
              <a:gd name="textAreaBottom" fmla="*/ 3076200 h 3076560"/>
            </a:gdLst>
            <a:ahLst/>
            <a:rect l="textAreaLeft" t="textAreaTop" r="textAreaRight" b="textAreaBottom"/>
            <a:pathLst>
              <a:path w="21600" h="38120">
                <a:moveTo>
                  <a:pt x="19" y="0"/>
                </a:moveTo>
                <a:arcTo wR="19" hR="19" stAng="16200000" swAng="-5400000"/>
                <a:lnTo>
                  <a:pt x="0" y="38101"/>
                </a:lnTo>
                <a:arcTo wR="19" hR="19" stAng="10800000" swAng="-5400000"/>
                <a:lnTo>
                  <a:pt x="21581" y="38120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4360" y="5638680"/>
            <a:ext cx="2314800" cy="847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067680" cy="5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81200" y="801720"/>
            <a:ext cx="2249280" cy="1079640"/>
            <a:chOff x="781200" y="801720"/>
            <a:chExt cx="2249280" cy="1079640"/>
          </a:xfrm>
        </p:grpSpPr>
        <p:sp>
          <p:nvSpPr>
            <p:cNvPr id="172" name=""/>
            <p:cNvSpPr/>
            <p:nvPr/>
          </p:nvSpPr>
          <p:spPr>
            <a:xfrm>
              <a:off x="781200" y="801720"/>
              <a:ext cx="2249280" cy="10796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5520" y="80172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74720" y="5595840"/>
            <a:ext cx="2262240" cy="1092240"/>
            <a:chOff x="774720" y="5595840"/>
            <a:chExt cx="2262240" cy="1092240"/>
          </a:xfrm>
        </p:grpSpPr>
        <p:sp>
          <p:nvSpPr>
            <p:cNvPr id="175" name=""/>
            <p:cNvSpPr/>
            <p:nvPr/>
          </p:nvSpPr>
          <p:spPr>
            <a:xfrm>
              <a:off x="774720" y="5595840"/>
              <a:ext cx="2262240" cy="10922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520" y="559584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1981080"/>
            <a:ext cx="1440" cy="3581640"/>
          </a:xfrm>
          <a:prstGeom prst="line">
            <a:avLst/>
          </a:prstGeom>
          <a:ln w="127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0480" y="3009960"/>
            <a:ext cx="3581280" cy="2133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54560" y="3132000"/>
            <a:ext cx="1836720" cy="532080"/>
            <a:chOff x="5254560" y="3132000"/>
            <a:chExt cx="1836720" cy="532080"/>
          </a:xfrm>
        </p:grpSpPr>
        <p:sp>
          <p:nvSpPr>
            <p:cNvPr id="180" name=""/>
            <p:cNvSpPr/>
            <p:nvPr/>
          </p:nvSpPr>
          <p:spPr>
            <a:xfrm>
              <a:off x="5254560" y="31320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9600" y="31320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54560" y="4410000"/>
            <a:ext cx="1836720" cy="531720"/>
            <a:chOff x="5254560" y="4410000"/>
            <a:chExt cx="1836720" cy="531720"/>
          </a:xfrm>
        </p:grpSpPr>
        <p:sp>
          <p:nvSpPr>
            <p:cNvPr id="183" name=""/>
            <p:cNvSpPr/>
            <p:nvPr/>
          </p:nvSpPr>
          <p:spPr>
            <a:xfrm>
              <a:off x="5254560" y="441000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4560" y="4410000"/>
              <a:ext cx="18367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09680" y="1981080"/>
            <a:ext cx="180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025640" y="2293920"/>
            <a:ext cx="1836720" cy="531720"/>
            <a:chOff x="1025640" y="2293920"/>
            <a:chExt cx="1836720" cy="531720"/>
          </a:xfrm>
        </p:grpSpPr>
        <p:sp>
          <p:nvSpPr>
            <p:cNvPr id="187" name=""/>
            <p:cNvSpPr/>
            <p:nvPr/>
          </p:nvSpPr>
          <p:spPr>
            <a:xfrm>
              <a:off x="1025640" y="229392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30320" y="229392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025640" y="3817800"/>
            <a:ext cx="1836720" cy="532080"/>
            <a:chOff x="1025640" y="3817800"/>
            <a:chExt cx="1836720" cy="532080"/>
          </a:xfrm>
        </p:grpSpPr>
        <p:sp>
          <p:nvSpPr>
            <p:cNvPr id="190" name=""/>
            <p:cNvSpPr/>
            <p:nvPr/>
          </p:nvSpPr>
          <p:spPr>
            <a:xfrm>
              <a:off x="1025640" y="38178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30320" y="38178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2895480" y="3346560"/>
            <a:ext cx="23623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411480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57600"/>
            <a:ext cx="14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1337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41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7680" y="3062160"/>
            <a:ext cx="8366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0400" y="3747960"/>
            <a:ext cx="81828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203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75560" y="3429000"/>
            <a:ext cx="241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29000" y="4717800"/>
            <a:ext cx="30492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223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254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148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7712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2296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98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648320" y="3650760"/>
            <a:ext cx="990360" cy="546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0094480" y="33624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97400" y="1533600"/>
            <a:ext cx="1219320" cy="3352680"/>
          </a:xfrm>
          <a:custGeom>
            <a:avLst/>
            <a:gdLst/>
            <a:ahLst/>
            <a:rect l="l" t="t" r="r" b="b"/>
            <a:pathLst>
              <a:path w="3388" h="9315">
                <a:moveTo>
                  <a:pt x="3387" y="0"/>
                </a:moveTo>
                <a:lnTo>
                  <a:pt x="3387" y="4445"/>
                </a:lnTo>
                <a:lnTo>
                  <a:pt x="0" y="4445"/>
                </a:lnTo>
                <a:lnTo>
                  <a:pt x="0" y="9314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902120" y="1004760"/>
            <a:ext cx="1505160" cy="447840"/>
            <a:chOff x="4902120" y="1004760"/>
            <a:chExt cx="1505160" cy="447840"/>
          </a:xfrm>
        </p:grpSpPr>
        <p:sp>
          <p:nvSpPr>
            <p:cNvPr id="327" name=""/>
            <p:cNvSpPr/>
            <p:nvPr/>
          </p:nvSpPr>
          <p:spPr>
            <a:xfrm>
              <a:off x="4902120" y="1004760"/>
              <a:ext cx="1505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24080" y="1004760"/>
              <a:ext cx="145980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ystèm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149880" y="3595680"/>
            <a:ext cx="1830600" cy="447840"/>
            <a:chOff x="6149880" y="3595680"/>
            <a:chExt cx="1830600" cy="447840"/>
          </a:xfrm>
        </p:grpSpPr>
        <p:sp>
          <p:nvSpPr>
            <p:cNvPr id="330" name=""/>
            <p:cNvSpPr/>
            <p:nvPr/>
          </p:nvSpPr>
          <p:spPr>
            <a:xfrm>
              <a:off x="6149880" y="3595680"/>
              <a:ext cx="183060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92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483000" y="3595680"/>
            <a:ext cx="1830240" cy="447840"/>
            <a:chOff x="3483000" y="3595680"/>
            <a:chExt cx="1830240" cy="447840"/>
          </a:xfrm>
        </p:grpSpPr>
        <p:sp>
          <p:nvSpPr>
            <p:cNvPr id="333" name=""/>
            <p:cNvSpPr/>
            <p:nvPr/>
          </p:nvSpPr>
          <p:spPr>
            <a:xfrm>
              <a:off x="3483000" y="3595680"/>
              <a:ext cx="18302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604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36800" y="4967280"/>
            <a:ext cx="2000160" cy="447840"/>
            <a:chOff x="1036800" y="4967280"/>
            <a:chExt cx="2000160" cy="447840"/>
          </a:xfrm>
        </p:grpSpPr>
        <p:sp>
          <p:nvSpPr>
            <p:cNvPr id="336" name=""/>
            <p:cNvSpPr/>
            <p:nvPr/>
          </p:nvSpPr>
          <p:spPr>
            <a:xfrm>
              <a:off x="1036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5840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322800" y="4967280"/>
            <a:ext cx="2000160" cy="447840"/>
            <a:chOff x="3322800" y="4967280"/>
            <a:chExt cx="2000160" cy="447840"/>
          </a:xfrm>
        </p:grpSpPr>
        <p:sp>
          <p:nvSpPr>
            <p:cNvPr id="339" name=""/>
            <p:cNvSpPr/>
            <p:nvPr/>
          </p:nvSpPr>
          <p:spPr>
            <a:xfrm>
              <a:off x="3322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5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08800" y="4967280"/>
            <a:ext cx="2000160" cy="447840"/>
            <a:chOff x="5608800" y="4967280"/>
            <a:chExt cx="2000160" cy="447840"/>
          </a:xfrm>
        </p:grpSpPr>
        <p:sp>
          <p:nvSpPr>
            <p:cNvPr id="342" name=""/>
            <p:cNvSpPr/>
            <p:nvPr/>
          </p:nvSpPr>
          <p:spPr>
            <a:xfrm>
              <a:off x="5608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1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381400" y="2205000"/>
            <a:ext cx="1900080" cy="447840"/>
            <a:chOff x="2381400" y="2205000"/>
            <a:chExt cx="1900080" cy="447840"/>
          </a:xfrm>
        </p:grpSpPr>
        <p:sp>
          <p:nvSpPr>
            <p:cNvPr id="345" name=""/>
            <p:cNvSpPr/>
            <p:nvPr/>
          </p:nvSpPr>
          <p:spPr>
            <a:xfrm>
              <a:off x="2381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03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705200" y="2205000"/>
            <a:ext cx="1900440" cy="447840"/>
            <a:chOff x="4705200" y="2205000"/>
            <a:chExt cx="1900440" cy="447840"/>
          </a:xfrm>
        </p:grpSpPr>
        <p:sp>
          <p:nvSpPr>
            <p:cNvPr id="348" name=""/>
            <p:cNvSpPr/>
            <p:nvPr/>
          </p:nvSpPr>
          <p:spPr>
            <a:xfrm>
              <a:off x="4705200" y="2205000"/>
              <a:ext cx="19004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271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953400" y="2205000"/>
            <a:ext cx="1900080" cy="447840"/>
            <a:chOff x="6953400" y="2205000"/>
            <a:chExt cx="1900080" cy="447840"/>
          </a:xfrm>
        </p:grpSpPr>
        <p:sp>
          <p:nvSpPr>
            <p:cNvPr id="351" name=""/>
            <p:cNvSpPr/>
            <p:nvPr/>
          </p:nvSpPr>
          <p:spPr>
            <a:xfrm>
              <a:off x="6953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75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616720" y="3133800"/>
            <a:ext cx="1295280" cy="457200"/>
          </a:xfrm>
          <a:custGeom>
            <a:avLst/>
            <a:gdLst/>
            <a:ahLst/>
            <a:rect l="l" t="t" r="r" b="b"/>
            <a:pathLst>
              <a:path w="3599" h="1271">
                <a:moveTo>
                  <a:pt x="0" y="0"/>
                </a:moveTo>
                <a:lnTo>
                  <a:pt x="3598" y="0"/>
                </a:lnTo>
                <a:lnTo>
                  <a:pt x="3598" y="12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11400" y="4429080"/>
            <a:ext cx="4572000" cy="457200"/>
          </a:xfrm>
          <a:custGeom>
            <a:avLst/>
            <a:gdLst/>
            <a:ahLst/>
            <a:rect l="l" t="t" r="r" b="b"/>
            <a:pathLst>
              <a:path w="12701" h="1272">
                <a:moveTo>
                  <a:pt x="0" y="1271"/>
                </a:moveTo>
                <a:lnTo>
                  <a:pt x="0" y="0"/>
                </a:lnTo>
                <a:lnTo>
                  <a:pt x="12700" y="0"/>
                </a:lnTo>
                <a:lnTo>
                  <a:pt x="12700" y="1271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06680" y="1838160"/>
            <a:ext cx="4191120" cy="381240"/>
          </a:xfrm>
          <a:custGeom>
            <a:avLst/>
            <a:gdLst/>
            <a:ahLst/>
            <a:rect l="l" t="t" r="r" b="b"/>
            <a:pathLst>
              <a:path w="11643" h="1060">
                <a:moveTo>
                  <a:pt x="0" y="1059"/>
                </a:moveTo>
                <a:lnTo>
                  <a:pt x="0" y="0"/>
                </a:lnTo>
                <a:lnTo>
                  <a:pt x="11642" y="0"/>
                </a:lnTo>
                <a:lnTo>
                  <a:pt x="11642" y="847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06680" y="26766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97800" y="275256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12000" y="404820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8680" y="2097000"/>
            <a:ext cx="1627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nc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" y="3666960"/>
            <a:ext cx="15951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62120" y="2133720"/>
            <a:ext cx="6954480" cy="3809880"/>
            <a:chOff x="762120" y="2133720"/>
            <a:chExt cx="6954480" cy="380988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486400" y="3346200"/>
              <a:ext cx="1066680" cy="46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334120" y="3879360"/>
              <a:ext cx="121896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60760" y="3352680"/>
              <a:ext cx="153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60760" y="4114800"/>
              <a:ext cx="1689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660760" y="4876920"/>
              <a:ext cx="1155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1032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660400" y="4717800"/>
              <a:ext cx="54612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330560" y="3222720"/>
              <a:ext cx="1302840" cy="2352960"/>
              <a:chOff x="1330560" y="3222720"/>
              <a:chExt cx="1302840" cy="235296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2148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3056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