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9360"/>
            <a:ext cx="29718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AMD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9360"/>
            <a:ext cx="29718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ONE 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9618480"/>
            <a:ext cx="29718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Prs M GABRIEL &amp; H MOL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86200" y="9618480"/>
            <a:ext cx="29718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FFEC28-BD8F-48B6-B1CC-2B937B5D1BA5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914400" y="4644720"/>
            <a:ext cx="5022720" cy="45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0480" y="9376920"/>
            <a:ext cx="996480" cy="29124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79D60C-2416-43E4-AA10-13E7F5EC3D6C}" type="slidenum">
              <a:rPr b="0" i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ldImg"/>
          </p:nvPr>
        </p:nvSpPr>
        <p:spPr>
          <a:xfrm>
            <a:off x="985680" y="743040"/>
            <a:ext cx="48801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4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4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4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4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144440" y="85104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914040" y="4644720"/>
            <a:ext cx="5024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81691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52000"/>
            <a:ext cx="81691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5200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880" y="385200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47720" y="140148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0000" y="140148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5200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47720" y="385200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0000" y="385200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01480"/>
            <a:ext cx="816912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816912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195200" y="74520"/>
            <a:ext cx="776412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5200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01480"/>
            <a:ext cx="816912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71880" y="385200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52000"/>
            <a:ext cx="81691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81691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52000"/>
            <a:ext cx="81691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5200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71880" y="385200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47720" y="140148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10000" y="140148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5200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47720" y="385200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10000" y="3852000"/>
            <a:ext cx="26301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816912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95200" y="74520"/>
            <a:ext cx="776412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5200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880" y="385200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880" y="1401480"/>
            <a:ext cx="39862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52000"/>
            <a:ext cx="81691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76320"/>
            <a:ext cx="534960" cy="4808520"/>
          </a:xfrm>
          <a:custGeom>
            <a:avLst/>
            <a:gdLst>
              <a:gd name="textAreaLeft" fmla="*/ 360 w 534960"/>
              <a:gd name="textAreaRight" fmla="*/ 534600 w 534960"/>
              <a:gd name="textAreaTop" fmla="*/ 360 h 4808520"/>
              <a:gd name="textAreaBottom" fmla="*/ 4808160 h 4808520"/>
            </a:gdLst>
            <a:ahLst/>
            <a:rect l="textAreaLeft" t="textAreaTop" r="textAreaRight" b="textAreaBottom"/>
            <a:pathLst>
              <a:path w="21600" h="194037">
                <a:moveTo>
                  <a:pt x="64" y="0"/>
                </a:moveTo>
                <a:arcTo wR="64" hR="64" stAng="16200000" swAng="-5400000"/>
                <a:lnTo>
                  <a:pt x="0" y="193973"/>
                </a:lnTo>
                <a:arcTo wR="64" hR="64" stAng="10800000" swAng="-5400000"/>
                <a:lnTo>
                  <a:pt x="21536" y="194037"/>
                </a:lnTo>
                <a:arcTo wR="64" hR="64" stAng="5400000" swAng="-5400000"/>
                <a:lnTo>
                  <a:pt x="21600" y="64"/>
                </a:lnTo>
                <a:arcTo wR="64" hR="64" stAng="0" swAng="-5400000"/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91360" y="65437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4A5049-9F0F-44E2-A4CA-2C11B2956D8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066680" y="6477120"/>
            <a:ext cx="19051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02/12/04 08: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33920" y="6477120"/>
            <a:ext cx="28954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81160" y="1219320"/>
            <a:ext cx="1440" cy="426708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95200" y="74520"/>
            <a:ext cx="7764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401480"/>
            <a:ext cx="816912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76000"/>
              </a:lnSpc>
              <a:spcBef>
                <a:spcPts val="700"/>
              </a:spcBef>
              <a:buClr>
                <a:srgbClr val="c01313"/>
              </a:buClr>
              <a:buFont typeface="Monotype Sorts" charset="2"/>
              <a:buChar char="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1" marL="735120" indent="-277920">
              <a:lnSpc>
                <a:spcPct val="76000"/>
              </a:lnSpc>
              <a:spcBef>
                <a:spcPts val="700"/>
              </a:spcBef>
              <a:buClr>
                <a:srgbClr val="008000"/>
              </a:buClr>
              <a:buFont typeface="Monotype Sorts" charset="2"/>
              <a:buChar char="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2" marL="1143000" indent="-228600">
              <a:lnSpc>
                <a:spcPct val="76000"/>
              </a:lnSpc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3" marL="1600200" indent="-22860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4" marL="2057400" indent="-22860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5" marL="2057400" indent="-22860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  <a:p>
            <a:pPr lvl="6" marL="2057400" indent="-22860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1313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c0131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976320"/>
            <a:ext cx="534960" cy="4808520"/>
          </a:xfrm>
          <a:custGeom>
            <a:avLst/>
            <a:gdLst>
              <a:gd name="textAreaLeft" fmla="*/ 360 w 534960"/>
              <a:gd name="textAreaRight" fmla="*/ 534600 w 534960"/>
              <a:gd name="textAreaTop" fmla="*/ 360 h 4808520"/>
              <a:gd name="textAreaBottom" fmla="*/ 4808160 h 4808520"/>
            </a:gdLst>
            <a:ahLst/>
            <a:rect l="textAreaLeft" t="textAreaTop" r="textAreaRight" b="textAreaBottom"/>
            <a:pathLst>
              <a:path w="21600" h="194037">
                <a:moveTo>
                  <a:pt x="64" y="0"/>
                </a:moveTo>
                <a:arcTo wR="64" hR="64" stAng="16200000" swAng="-5400000"/>
                <a:lnTo>
                  <a:pt x="0" y="193973"/>
                </a:lnTo>
                <a:arcTo wR="64" hR="64" stAng="10800000" swAng="-5400000"/>
                <a:lnTo>
                  <a:pt x="21536" y="194037"/>
                </a:lnTo>
                <a:arcTo wR="64" hR="64" stAng="5400000" swAng="-5400000"/>
                <a:lnTo>
                  <a:pt x="21600" y="64"/>
                </a:lnTo>
                <a:arcTo wR="64" hR="64" stAng="0" swAng="-5400000"/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541920" y="6248520"/>
            <a:ext cx="1898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F6CF99-8C04-4065-9788-9063016A39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0"/>
          <a:ext cx="1114560" cy="847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11456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703440" y="6248520"/>
            <a:ext cx="18986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02/12/04 08: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65480" y="6248520"/>
            <a:ext cx="28130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 Gabriel UHP ESS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1160" y="1219320"/>
            <a:ext cx="1440" cy="426708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2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Etude d'une batteri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5867280"/>
            <a:ext cx="19051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62120" y="2133720"/>
            <a:ext cx="6955560" cy="3809880"/>
            <a:chOff x="762120" y="2133720"/>
            <a:chExt cx="6955560" cy="380988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923760" y="2438280"/>
              <a:ext cx="6620040" cy="32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553080" y="2895480"/>
              <a:ext cx="990720" cy="2438640"/>
            </a:xfrm>
            <a:custGeom>
              <a:avLst/>
              <a:gdLst>
                <a:gd name="textAreaLeft" fmla="*/ 360 w 990720"/>
                <a:gd name="textAreaRight" fmla="*/ 990360 w 990720"/>
                <a:gd name="textAreaTop" fmla="*/ 360 h 2438640"/>
                <a:gd name="textAreaBottom" fmla="*/ 2438280 h 2438640"/>
              </a:gdLst>
              <a:ahLst/>
              <a:rect l="textAreaLeft" t="textAreaTop" r="textAreaRight" b="textAreaBottom"/>
              <a:pathLst>
                <a:path w="21600" h="53157">
                  <a:moveTo>
                    <a:pt x="34" y="0"/>
                  </a:moveTo>
                  <a:arcTo wR="34" hR="34" stAng="16200000" swAng="-5400000"/>
                  <a:lnTo>
                    <a:pt x="0" y="53123"/>
                  </a:lnTo>
                  <a:arcTo wR="34" hR="34" stAng="10800000" swAng="-5400000"/>
                  <a:lnTo>
                    <a:pt x="21566" y="53157"/>
                  </a:lnTo>
                  <a:arcTo wR="34" hR="34" stAng="5400000" swAng="-5400000"/>
                  <a:lnTo>
                    <a:pt x="21600" y="34"/>
                  </a:lnTo>
                  <a:arcTo wR="34" hR="34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5486400" y="3344760"/>
              <a:ext cx="1066680" cy="47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5334120" y="3877920"/>
              <a:ext cx="1218960" cy="16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95880" y="4876920"/>
              <a:ext cx="457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2658960" y="3352680"/>
              <a:ext cx="15400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658600" y="4114800"/>
              <a:ext cx="16923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2658600" y="4876920"/>
              <a:ext cx="11588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626520" y="3078000"/>
              <a:ext cx="769320" cy="29556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Times New Roman"/>
                </a:rPr>
                <a:t>COS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602040" y="3679920"/>
              <a:ext cx="818280" cy="29556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Times New Roman"/>
                </a:rPr>
                <a:t>BOR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611400" y="4670280"/>
              <a:ext cx="1106280" cy="29556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Times New Roman"/>
                </a:rPr>
                <a:t>BATTERI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2658960" y="4716360"/>
              <a:ext cx="549360" cy="9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19720" y="2133720"/>
              <a:ext cx="190476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2120" y="2133720"/>
              <a:ext cx="1828800" cy="3809880"/>
            </a:xfrm>
            <a:custGeom>
              <a:avLst/>
              <a:gdLst>
                <a:gd name="textAreaLeft" fmla="*/ 360 w 1828800"/>
                <a:gd name="textAreaRight" fmla="*/ 1828440 w 1828800"/>
                <a:gd name="textAreaTop" fmla="*/ 360 h 3809880"/>
                <a:gd name="textAreaBottom" fmla="*/ 3809520 h 3809880"/>
              </a:gdLst>
              <a:ahLst/>
              <a:rect l="textAreaLeft" t="textAreaTop" r="textAreaRight" b="textAreaBottom"/>
              <a:pathLst>
                <a:path w="21600" h="44994">
                  <a:moveTo>
                    <a:pt x="18" y="0"/>
                  </a:moveTo>
                  <a:arcTo wR="18" hR="18" stAng="16200000" swAng="-5400000"/>
                  <a:lnTo>
                    <a:pt x="0" y="44976"/>
                  </a:lnTo>
                  <a:arcTo wR="18" hR="18" stAng="10800000" swAng="-5400000"/>
                  <a:lnTo>
                    <a:pt x="21582" y="44994"/>
                  </a:lnTo>
                  <a:arcTo wR="18" hR="18" stAng="5400000" swAng="-5400000"/>
                  <a:lnTo>
                    <a:pt x="21600" y="18"/>
                  </a:lnTo>
                  <a:arcTo wR="18" hR="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331280" y="3222720"/>
              <a:ext cx="1302840" cy="2352960"/>
              <a:chOff x="1331280" y="3222720"/>
              <a:chExt cx="1302840" cy="2352960"/>
            </a:xfrm>
          </p:grpSpPr>
          <p:sp>
            <p:nvSpPr>
              <p:cNvPr id="119" name=""/>
              <p:cNvSpPr/>
              <p:nvPr/>
            </p:nvSpPr>
            <p:spPr>
              <a:xfrm>
                <a:off x="2121480" y="3984480"/>
                <a:ext cx="483120" cy="295560"/>
              </a:xfrm>
              <a:prstGeom prst="roundRect">
                <a:avLst>
                  <a:gd name="adj" fmla="val 5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400" spc="-1" strike="noStrike">
                    <a:solidFill>
                      <a:srgbClr val="0000ff"/>
                    </a:solidFill>
                    <a:latin typeface="Times New Roman"/>
                  </a:rPr>
                  <a:t>VI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796760" y="3222720"/>
                <a:ext cx="827280" cy="295560"/>
              </a:xfrm>
              <a:prstGeom prst="roundRect">
                <a:avLst>
                  <a:gd name="adj" fmla="val 5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400" spc="-1" strike="noStrike">
                    <a:solidFill>
                      <a:srgbClr val="0000ff"/>
                    </a:solidFill>
                    <a:latin typeface="Times New Roman"/>
                  </a:rPr>
                  <a:t>ECRO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22200" y="4518000"/>
                <a:ext cx="483120" cy="295560"/>
              </a:xfrm>
              <a:prstGeom prst="roundRect">
                <a:avLst>
                  <a:gd name="adj" fmla="val 5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400" spc="-1" strike="noStrike">
                    <a:solidFill>
                      <a:srgbClr val="0000ff"/>
                    </a:solidFill>
                    <a:latin typeface="Times New Roman"/>
                  </a:rPr>
                  <a:t>FI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331280" y="5280120"/>
                <a:ext cx="1302840" cy="295560"/>
              </a:xfrm>
              <a:prstGeom prst="roundRect">
                <a:avLst>
                  <a:gd name="adj" fmla="val 5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400" spc="-1" strike="noStrike">
                    <a:solidFill>
                      <a:srgbClr val="0000ff"/>
                    </a:solidFill>
                    <a:latin typeface="Times New Roman"/>
                  </a:rPr>
                  <a:t>LANGUET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758960" y="2911320"/>
            <a:ext cx="4025880" cy="128268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56640" y="3240000"/>
            <a:ext cx="2558520" cy="681480"/>
          </a:xfrm>
          <a:prstGeom prst="roundRect">
            <a:avLst>
              <a:gd name="adj" fmla="val 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SEM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SSE / BATTE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5960" y="4530600"/>
            <a:ext cx="2882880" cy="749520"/>
          </a:xfrm>
          <a:prstGeom prst="ellipse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39320" y="4764240"/>
            <a:ext cx="203760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vir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11640" y="4645080"/>
            <a:ext cx="2959200" cy="749160"/>
          </a:xfrm>
          <a:prstGeom prst="ellipse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89080" y="4840200"/>
            <a:ext cx="188208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intenabil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01760" y="1692360"/>
            <a:ext cx="5473800" cy="151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38280" y="1076400"/>
            <a:ext cx="4724640" cy="1371600"/>
          </a:xfrm>
          <a:prstGeom prst="roundRect">
            <a:avLst>
              <a:gd name="adj" fmla="val 11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54640" y="1996920"/>
            <a:ext cx="1282680" cy="444600"/>
          </a:xfrm>
          <a:prstGeom prst="ellipse">
            <a:avLst/>
          </a:prstGeom>
          <a:solidFill>
            <a:srgbClr val="ffc5c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96000" y="2021040"/>
            <a:ext cx="48132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1120" y="2448000"/>
            <a:ext cx="1681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81680" y="244800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60480" y="2554200"/>
            <a:ext cx="51048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734920" y="4124160"/>
            <a:ext cx="32076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4048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01400" y="4154400"/>
            <a:ext cx="62460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c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01800" y="4154400"/>
            <a:ext cx="62460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510840"/>
            <a:ext cx="8305920" cy="103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Analyse fonctionnelle externe</a:t>
            </a:r>
            <a:br>
              <a:rPr sz="3200"/>
            </a:br>
            <a:r>
              <a:rPr b="1" lang="en-GB" sz="3200" spc="-1" strike="noStrike">
                <a:solidFill>
                  <a:srgbClr val="ccccff"/>
                </a:solidFill>
                <a:latin typeface="Arial"/>
              </a:rPr>
              <a:t>Batteri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32160" y="3011400"/>
            <a:ext cx="73584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P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76120" y="2992320"/>
            <a:ext cx="2546280" cy="986400"/>
          </a:xfrm>
          <a:prstGeom prst="roundRect">
            <a:avLst>
              <a:gd name="adj" fmla="val 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nsmettre 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urant de la bo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u f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2960" y="5526000"/>
            <a:ext cx="804960" cy="3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c1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68720" y="5545080"/>
            <a:ext cx="2140920" cy="681480"/>
          </a:xfrm>
          <a:prstGeom prst="roundRect">
            <a:avLst>
              <a:gd name="adj" fmla="val 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ésister 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'envir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31560" y="5450040"/>
            <a:ext cx="85032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c2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03040" y="5450040"/>
            <a:ext cx="1895760" cy="681480"/>
          </a:xfrm>
          <a:prstGeom prst="roundRect">
            <a:avLst>
              <a:gd name="adj" fmla="val 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utoriser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intenabil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05120" y="1380960"/>
            <a:ext cx="609480" cy="533520"/>
          </a:xfrm>
          <a:prstGeom prst="roundRect">
            <a:avLst>
              <a:gd name="adj" fmla="val 29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5960" y="1901880"/>
            <a:ext cx="2425680" cy="596880"/>
          </a:xfrm>
          <a:prstGeom prst="ellipse">
            <a:avLst/>
          </a:prstGeom>
          <a:solidFill>
            <a:srgbClr val="ffc5c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58960" y="2021040"/>
            <a:ext cx="194148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orne Batte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Analyse fonctionnelle intern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5334120"/>
            <a:ext cx="8001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43440" y="2239920"/>
            <a:ext cx="113508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atte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02160" y="2216160"/>
            <a:ext cx="1739880" cy="444600"/>
          </a:xfrm>
          <a:prstGeom prst="roundRect">
            <a:avLst>
              <a:gd name="adj" fmla="val 35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94000" y="5668920"/>
            <a:ext cx="48132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02160" y="5568840"/>
            <a:ext cx="1739880" cy="520920"/>
          </a:xfrm>
          <a:prstGeom prst="roundRect">
            <a:avLst>
              <a:gd name="adj" fmla="val 30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15000" y="2666880"/>
            <a:ext cx="144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2895480"/>
            <a:ext cx="80010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15000" y="3581280"/>
            <a:ext cx="144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15000" y="4267080"/>
            <a:ext cx="1440" cy="304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5029200"/>
            <a:ext cx="1440" cy="533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14600" y="4876920"/>
            <a:ext cx="19810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4191120"/>
            <a:ext cx="19810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14600" y="3276720"/>
            <a:ext cx="19810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14600" y="3505320"/>
            <a:ext cx="198108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2666880"/>
            <a:ext cx="1800" cy="457200"/>
          </a:xfrm>
          <a:prstGeom prst="line">
            <a:avLst/>
          </a:prstGeom>
          <a:ln w="127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10080" y="3581280"/>
            <a:ext cx="1800" cy="228600"/>
          </a:xfrm>
          <a:prstGeom prst="line">
            <a:avLst/>
          </a:prstGeom>
          <a:ln w="127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4267080"/>
            <a:ext cx="1800" cy="304920"/>
          </a:xfrm>
          <a:prstGeom prst="line">
            <a:avLst/>
          </a:prstGeom>
          <a:ln w="127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10080" y="5029200"/>
            <a:ext cx="1800" cy="533520"/>
          </a:xfrm>
          <a:prstGeom prst="line">
            <a:avLst/>
          </a:prstGeom>
          <a:ln w="127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135160" y="3049560"/>
            <a:ext cx="3046320" cy="380880"/>
            <a:chOff x="2135160" y="3049560"/>
            <a:chExt cx="3046320" cy="380880"/>
          </a:xfrm>
        </p:grpSpPr>
        <p:grpSp>
          <p:nvGrpSpPr>
            <p:cNvPr id="170" name=""/>
            <p:cNvGrpSpPr/>
            <p:nvPr/>
          </p:nvGrpSpPr>
          <p:grpSpPr>
            <a:xfrm>
              <a:off x="3657600" y="3049560"/>
              <a:ext cx="1523880" cy="380880"/>
              <a:chOff x="3657600" y="3049560"/>
              <a:chExt cx="1523880" cy="380880"/>
            </a:xfrm>
          </p:grpSpPr>
          <p:sp>
            <p:nvSpPr>
              <p:cNvPr id="171" name=""/>
              <p:cNvSpPr/>
              <p:nvPr/>
            </p:nvSpPr>
            <p:spPr>
              <a:xfrm>
                <a:off x="3657600" y="3049560"/>
                <a:ext cx="1523880" cy="38088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657600" y="3049560"/>
                <a:ext cx="1523880" cy="380880"/>
              </a:xfrm>
              <a:custGeom>
                <a:avLst/>
                <a:gdLst/>
                <a:ahLst/>
                <a:rect l="l" t="t" r="r" b="b"/>
                <a:pathLst>
                  <a:path w="4233" h="1059">
                    <a:moveTo>
                      <a:pt x="4232" y="1058"/>
                    </a:moveTo>
                    <a:lnTo>
                      <a:pt x="4226" y="1003"/>
                    </a:lnTo>
                    <a:lnTo>
                      <a:pt x="4209" y="947"/>
                    </a:lnTo>
                    <a:lnTo>
                      <a:pt x="4180" y="892"/>
                    </a:lnTo>
                    <a:lnTo>
                      <a:pt x="4140" y="838"/>
                    </a:lnTo>
                    <a:lnTo>
                      <a:pt x="4088" y="784"/>
                    </a:lnTo>
                    <a:lnTo>
                      <a:pt x="4025" y="731"/>
                    </a:lnTo>
                    <a:lnTo>
                      <a:pt x="3951" y="679"/>
                    </a:lnTo>
                    <a:lnTo>
                      <a:pt x="3866" y="628"/>
                    </a:lnTo>
                    <a:lnTo>
                      <a:pt x="3771" y="578"/>
                    </a:lnTo>
                    <a:lnTo>
                      <a:pt x="3665" y="529"/>
                    </a:lnTo>
                    <a:lnTo>
                      <a:pt x="3549" y="482"/>
                    </a:lnTo>
                    <a:lnTo>
                      <a:pt x="3424" y="436"/>
                    </a:lnTo>
                    <a:lnTo>
                      <a:pt x="3289" y="392"/>
                    </a:lnTo>
                    <a:lnTo>
                      <a:pt x="3145" y="350"/>
                    </a:lnTo>
                    <a:lnTo>
                      <a:pt x="2992" y="310"/>
                    </a:lnTo>
                    <a:lnTo>
                      <a:pt x="2832" y="272"/>
                    </a:lnTo>
                    <a:lnTo>
                      <a:pt x="2663" y="236"/>
                    </a:lnTo>
                    <a:lnTo>
                      <a:pt x="2488" y="202"/>
                    </a:lnTo>
                    <a:lnTo>
                      <a:pt x="2305" y="171"/>
                    </a:lnTo>
                    <a:lnTo>
                      <a:pt x="2116" y="142"/>
                    </a:lnTo>
                    <a:lnTo>
                      <a:pt x="1921" y="115"/>
                    </a:lnTo>
                    <a:lnTo>
                      <a:pt x="1721" y="91"/>
                    </a:lnTo>
                    <a:lnTo>
                      <a:pt x="1517" y="70"/>
                    </a:lnTo>
                    <a:lnTo>
                      <a:pt x="1308" y="52"/>
                    </a:lnTo>
                    <a:lnTo>
                      <a:pt x="1095" y="36"/>
                    </a:lnTo>
                    <a:lnTo>
                      <a:pt x="880" y="23"/>
                    </a:lnTo>
                    <a:lnTo>
                      <a:pt x="662" y="13"/>
                    </a:lnTo>
                    <a:lnTo>
                      <a:pt x="442" y="6"/>
                    </a:lnTo>
                    <a:lnTo>
                      <a:pt x="221" y="1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2135160" y="3049560"/>
              <a:ext cx="1522440" cy="380880"/>
              <a:chOff x="2135160" y="3049560"/>
              <a:chExt cx="1522440" cy="380880"/>
            </a:xfrm>
          </p:grpSpPr>
          <p:sp>
            <p:nvSpPr>
              <p:cNvPr id="174" name=""/>
              <p:cNvSpPr/>
              <p:nvPr/>
            </p:nvSpPr>
            <p:spPr>
              <a:xfrm>
                <a:off x="2135160" y="3049560"/>
                <a:ext cx="1522440" cy="38088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135160" y="3049560"/>
                <a:ext cx="1522440" cy="380880"/>
              </a:xfrm>
              <a:custGeom>
                <a:avLst/>
                <a:gdLst/>
                <a:ahLst/>
                <a:rect l="l" t="t" r="r" b="b"/>
                <a:pathLst>
                  <a:path w="4229" h="1059">
                    <a:moveTo>
                      <a:pt x="4228" y="0"/>
                    </a:moveTo>
                    <a:lnTo>
                      <a:pt x="4007" y="1"/>
                    </a:lnTo>
                    <a:lnTo>
                      <a:pt x="3786" y="6"/>
                    </a:lnTo>
                    <a:lnTo>
                      <a:pt x="3567" y="13"/>
                    </a:lnTo>
                    <a:lnTo>
                      <a:pt x="3349" y="23"/>
                    </a:lnTo>
                    <a:lnTo>
                      <a:pt x="3134" y="36"/>
                    </a:lnTo>
                    <a:lnTo>
                      <a:pt x="2921" y="52"/>
                    </a:lnTo>
                    <a:lnTo>
                      <a:pt x="2713" y="70"/>
                    </a:lnTo>
                    <a:lnTo>
                      <a:pt x="2508" y="91"/>
                    </a:lnTo>
                    <a:lnTo>
                      <a:pt x="2309" y="115"/>
                    </a:lnTo>
                    <a:lnTo>
                      <a:pt x="2114" y="142"/>
                    </a:lnTo>
                    <a:lnTo>
                      <a:pt x="1925" y="171"/>
                    </a:lnTo>
                    <a:lnTo>
                      <a:pt x="1743" y="202"/>
                    </a:lnTo>
                    <a:lnTo>
                      <a:pt x="1567" y="236"/>
                    </a:lnTo>
                    <a:lnTo>
                      <a:pt x="1399" y="272"/>
                    </a:lnTo>
                    <a:lnTo>
                      <a:pt x="1238" y="310"/>
                    </a:lnTo>
                    <a:lnTo>
                      <a:pt x="1086" y="350"/>
                    </a:lnTo>
                    <a:lnTo>
                      <a:pt x="942" y="392"/>
                    </a:lnTo>
                    <a:lnTo>
                      <a:pt x="807" y="436"/>
                    </a:lnTo>
                    <a:lnTo>
                      <a:pt x="682" y="482"/>
                    </a:lnTo>
                    <a:lnTo>
                      <a:pt x="566" y="529"/>
                    </a:lnTo>
                    <a:lnTo>
                      <a:pt x="461" y="578"/>
                    </a:lnTo>
                    <a:lnTo>
                      <a:pt x="366" y="628"/>
                    </a:lnTo>
                    <a:lnTo>
                      <a:pt x="281" y="679"/>
                    </a:lnTo>
                    <a:lnTo>
                      <a:pt x="207" y="731"/>
                    </a:lnTo>
                    <a:lnTo>
                      <a:pt x="144" y="784"/>
                    </a:lnTo>
                    <a:lnTo>
                      <a:pt x="92" y="838"/>
                    </a:lnTo>
                    <a:lnTo>
                      <a:pt x="52" y="892"/>
                    </a:lnTo>
                    <a:lnTo>
                      <a:pt x="23" y="947"/>
                    </a:lnTo>
                    <a:lnTo>
                      <a:pt x="6" y="1003"/>
                    </a:lnTo>
                    <a:lnTo>
                      <a:pt x="0" y="1058"/>
                    </a:lnTo>
                  </a:path>
                </a:pathLst>
              </a:custGeom>
              <a:noFill/>
              <a:ln w="3816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6" name=""/>
          <p:cNvGrpSpPr/>
          <p:nvPr/>
        </p:nvGrpSpPr>
        <p:grpSpPr>
          <a:xfrm>
            <a:off x="2440080" y="3581280"/>
            <a:ext cx="2133360" cy="304920"/>
            <a:chOff x="2440080" y="3581280"/>
            <a:chExt cx="2133360" cy="304920"/>
          </a:xfrm>
        </p:grpSpPr>
        <p:sp>
          <p:nvSpPr>
            <p:cNvPr id="177" name=""/>
            <p:cNvSpPr/>
            <p:nvPr/>
          </p:nvSpPr>
          <p:spPr>
            <a:xfrm>
              <a:off x="2440080" y="3581280"/>
              <a:ext cx="2133360" cy="3049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40080" y="3581280"/>
              <a:ext cx="2133360" cy="304920"/>
            </a:xfrm>
            <a:custGeom>
              <a:avLst/>
              <a:gdLst/>
              <a:ahLst/>
              <a:rect l="l" t="t" r="r" b="b"/>
              <a:pathLst>
                <a:path w="5927" h="848">
                  <a:moveTo>
                    <a:pt x="0" y="0"/>
                  </a:moveTo>
                  <a:lnTo>
                    <a:pt x="8" y="44"/>
                  </a:lnTo>
                  <a:lnTo>
                    <a:pt x="32" y="89"/>
                  </a:lnTo>
                  <a:lnTo>
                    <a:pt x="73" y="132"/>
                  </a:lnTo>
                  <a:lnTo>
                    <a:pt x="129" y="176"/>
                  </a:lnTo>
                  <a:lnTo>
                    <a:pt x="202" y="219"/>
                  </a:lnTo>
                  <a:lnTo>
                    <a:pt x="290" y="262"/>
                  </a:lnTo>
                  <a:lnTo>
                    <a:pt x="394" y="304"/>
                  </a:lnTo>
                  <a:lnTo>
                    <a:pt x="512" y="345"/>
                  </a:lnTo>
                  <a:lnTo>
                    <a:pt x="646" y="385"/>
                  </a:lnTo>
                  <a:lnTo>
                    <a:pt x="794" y="424"/>
                  </a:lnTo>
                  <a:lnTo>
                    <a:pt x="956" y="461"/>
                  </a:lnTo>
                  <a:lnTo>
                    <a:pt x="1132" y="498"/>
                  </a:lnTo>
                  <a:lnTo>
                    <a:pt x="1321" y="533"/>
                  </a:lnTo>
                  <a:lnTo>
                    <a:pt x="1522" y="567"/>
                  </a:lnTo>
                  <a:lnTo>
                    <a:pt x="1736" y="599"/>
                  </a:lnTo>
                  <a:lnTo>
                    <a:pt x="1961" y="629"/>
                  </a:lnTo>
                  <a:lnTo>
                    <a:pt x="2197" y="658"/>
                  </a:lnTo>
                  <a:lnTo>
                    <a:pt x="2443" y="685"/>
                  </a:lnTo>
                  <a:lnTo>
                    <a:pt x="2698" y="710"/>
                  </a:lnTo>
                  <a:lnTo>
                    <a:pt x="2963" y="734"/>
                  </a:lnTo>
                  <a:lnTo>
                    <a:pt x="3236" y="755"/>
                  </a:lnTo>
                  <a:lnTo>
                    <a:pt x="3516" y="774"/>
                  </a:lnTo>
                  <a:lnTo>
                    <a:pt x="3802" y="791"/>
                  </a:lnTo>
                  <a:lnTo>
                    <a:pt x="4095" y="806"/>
                  </a:lnTo>
                  <a:lnTo>
                    <a:pt x="4392" y="818"/>
                  </a:lnTo>
                  <a:lnTo>
                    <a:pt x="4694" y="828"/>
                  </a:lnTo>
                  <a:lnTo>
                    <a:pt x="4999" y="837"/>
                  </a:lnTo>
                  <a:lnTo>
                    <a:pt x="5307" y="842"/>
                  </a:lnTo>
                  <a:lnTo>
                    <a:pt x="5616" y="846"/>
                  </a:lnTo>
                  <a:lnTo>
                    <a:pt x="5926" y="847"/>
                  </a:lnTo>
                </a:path>
              </a:pathLst>
            </a:custGeom>
            <a:noFill/>
            <a:ln w="381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800600" y="3581280"/>
            <a:ext cx="228600" cy="533520"/>
            <a:chOff x="4800600" y="3581280"/>
            <a:chExt cx="228600" cy="533520"/>
          </a:xfrm>
        </p:grpSpPr>
        <p:sp>
          <p:nvSpPr>
            <p:cNvPr id="180" name=""/>
            <p:cNvSpPr/>
            <p:nvPr/>
          </p:nvSpPr>
          <p:spPr>
            <a:xfrm>
              <a:off x="4800600" y="3581280"/>
              <a:ext cx="228600" cy="533520"/>
            </a:xfrm>
            <a:custGeom>
              <a:avLst/>
              <a:gdLst>
                <a:gd name="textAreaLeft" fmla="*/ 360 w 228600"/>
                <a:gd name="textAreaRight" fmla="*/ 228240 w 228600"/>
                <a:gd name="textAreaTop" fmla="*/ 360 h 533520"/>
                <a:gd name="textAreaBottom" fmla="*/ 533160 h 533520"/>
              </a:gdLst>
              <a:ahLst/>
              <a:rect l="textAreaLeft" t="textAreaTop" r="textAreaRight" b="textAreaBottom"/>
              <a:pathLst>
                <a:path w="21600" h="50366">
                  <a:moveTo>
                    <a:pt x="150" y="0"/>
                  </a:moveTo>
                  <a:arcTo wR="150" hR="150" stAng="16200000" swAng="-5400000"/>
                  <a:lnTo>
                    <a:pt x="0" y="50216"/>
                  </a:lnTo>
                  <a:arcTo wR="150" hR="150" stAng="10800000" swAng="-5400000"/>
                  <a:lnTo>
                    <a:pt x="21450" y="50366"/>
                  </a:lnTo>
                  <a:arcTo wR="150" hR="150" stAng="5400000" swAng="-5400000"/>
                  <a:lnTo>
                    <a:pt x="21600" y="150"/>
                  </a:lnTo>
                  <a:arcTo wR="150" hR="15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00600" y="3581280"/>
              <a:ext cx="228600" cy="533520"/>
            </a:xfrm>
            <a:custGeom>
              <a:avLst/>
              <a:gdLst/>
              <a:ahLst/>
              <a:rect l="l" t="t" r="r" b="b"/>
              <a:pathLst>
                <a:path w="636" h="1483">
                  <a:moveTo>
                    <a:pt x="0" y="1482"/>
                  </a:moveTo>
                  <a:lnTo>
                    <a:pt x="33" y="1480"/>
                  </a:lnTo>
                  <a:lnTo>
                    <a:pt x="66" y="1474"/>
                  </a:lnTo>
                  <a:lnTo>
                    <a:pt x="99" y="1464"/>
                  </a:lnTo>
                  <a:lnTo>
                    <a:pt x="132" y="1450"/>
                  </a:lnTo>
                  <a:lnTo>
                    <a:pt x="164" y="1432"/>
                  </a:lnTo>
                  <a:lnTo>
                    <a:pt x="196" y="1409"/>
                  </a:lnTo>
                  <a:lnTo>
                    <a:pt x="228" y="1384"/>
                  </a:lnTo>
                  <a:lnTo>
                    <a:pt x="258" y="1354"/>
                  </a:lnTo>
                  <a:lnTo>
                    <a:pt x="288" y="1320"/>
                  </a:lnTo>
                  <a:lnTo>
                    <a:pt x="318" y="1283"/>
                  </a:lnTo>
                  <a:lnTo>
                    <a:pt x="346" y="1243"/>
                  </a:lnTo>
                  <a:lnTo>
                    <a:pt x="373" y="1199"/>
                  </a:lnTo>
                  <a:lnTo>
                    <a:pt x="400" y="1152"/>
                  </a:lnTo>
                  <a:lnTo>
                    <a:pt x="425" y="1101"/>
                  </a:lnTo>
                  <a:lnTo>
                    <a:pt x="449" y="1048"/>
                  </a:lnTo>
                  <a:lnTo>
                    <a:pt x="472" y="992"/>
                  </a:lnTo>
                  <a:lnTo>
                    <a:pt x="493" y="933"/>
                  </a:lnTo>
                  <a:lnTo>
                    <a:pt x="514" y="871"/>
                  </a:lnTo>
                  <a:lnTo>
                    <a:pt x="533" y="807"/>
                  </a:lnTo>
                  <a:lnTo>
                    <a:pt x="550" y="741"/>
                  </a:lnTo>
                  <a:lnTo>
                    <a:pt x="566" y="673"/>
                  </a:lnTo>
                  <a:lnTo>
                    <a:pt x="580" y="603"/>
                  </a:lnTo>
                  <a:lnTo>
                    <a:pt x="593" y="531"/>
                  </a:lnTo>
                  <a:lnTo>
                    <a:pt x="604" y="458"/>
                  </a:lnTo>
                  <a:lnTo>
                    <a:pt x="613" y="384"/>
                  </a:lnTo>
                  <a:lnTo>
                    <a:pt x="621" y="308"/>
                  </a:lnTo>
                  <a:lnTo>
                    <a:pt x="627" y="232"/>
                  </a:lnTo>
                  <a:lnTo>
                    <a:pt x="632" y="155"/>
                  </a:lnTo>
                  <a:lnTo>
                    <a:pt x="634" y="78"/>
                  </a:lnTo>
                  <a:lnTo>
                    <a:pt x="635" y="0"/>
                  </a:lnTo>
                </a:path>
              </a:pathLst>
            </a:custGeom>
            <a:noFill/>
            <a:ln w="381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768240" y="3130560"/>
            <a:ext cx="1739880" cy="444600"/>
          </a:xfrm>
          <a:prstGeom prst="roundRect">
            <a:avLst>
              <a:gd name="adj" fmla="val 35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40760" y="3154320"/>
            <a:ext cx="111996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ra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02160" y="3130560"/>
            <a:ext cx="1739880" cy="444600"/>
          </a:xfrm>
          <a:prstGeom prst="roundRect">
            <a:avLst>
              <a:gd name="adj" fmla="val 35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72240" y="3154320"/>
            <a:ext cx="92196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o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4267080"/>
            <a:ext cx="1440" cy="304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00160" y="4057560"/>
            <a:ext cx="3314880" cy="723960"/>
          </a:xfrm>
          <a:prstGeom prst="ellipse">
            <a:avLst/>
          </a:prstGeom>
          <a:noFill/>
          <a:ln w="3816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8240" y="3816360"/>
            <a:ext cx="1739880" cy="444600"/>
          </a:xfrm>
          <a:prstGeom prst="roundRect">
            <a:avLst>
              <a:gd name="adj" fmla="val 35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47680" y="3840120"/>
            <a:ext cx="90648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cr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8240" y="4578480"/>
            <a:ext cx="1739880" cy="444240"/>
          </a:xfrm>
          <a:prstGeom prst="roundRect">
            <a:avLst>
              <a:gd name="adj" fmla="val 35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17600" y="4602240"/>
            <a:ext cx="56664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02160" y="3816360"/>
            <a:ext cx="1739880" cy="444600"/>
          </a:xfrm>
          <a:prstGeom prst="roundRect">
            <a:avLst>
              <a:gd name="adj" fmla="val 35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59280" y="3840120"/>
            <a:ext cx="95076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02160" y="4578480"/>
            <a:ext cx="1739880" cy="444240"/>
          </a:xfrm>
          <a:prstGeom prst="roundRect">
            <a:avLst>
              <a:gd name="adj" fmla="val 35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09520" y="4602240"/>
            <a:ext cx="1403280" cy="37656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nguet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934320" y="3200400"/>
            <a:ext cx="1440" cy="152280"/>
          </a:xfrm>
          <a:prstGeom prst="line">
            <a:avLst/>
          </a:prstGeom>
          <a:ln w="127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164360" y="3100320"/>
            <a:ext cx="1674720" cy="3481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lux princip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934320" y="3886200"/>
            <a:ext cx="1440" cy="152280"/>
          </a:xfrm>
          <a:prstGeom prst="line">
            <a:avLst/>
          </a:prstGeom>
          <a:ln w="3816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196400" y="3786120"/>
            <a:ext cx="1458360" cy="3481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lux boucl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critères de valeur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9040" y="5273640"/>
            <a:ext cx="8369280" cy="291960"/>
          </a:xfrm>
          <a:prstGeom prst="roundRect">
            <a:avLst>
              <a:gd name="adj" fmla="val 542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9040" y="4587840"/>
            <a:ext cx="8369280" cy="291960"/>
          </a:xfrm>
          <a:prstGeom prst="roundRect">
            <a:avLst>
              <a:gd name="adj" fmla="val 542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9040" y="3368520"/>
            <a:ext cx="8369280" cy="292320"/>
          </a:xfrm>
          <a:prstGeom prst="roundRect">
            <a:avLst>
              <a:gd name="adj" fmla="val 542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9040" y="1844640"/>
            <a:ext cx="8369280" cy="291960"/>
          </a:xfrm>
          <a:prstGeom prst="roundRect">
            <a:avLst>
              <a:gd name="adj" fmla="val 542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9040" y="1387440"/>
            <a:ext cx="8369280" cy="444600"/>
          </a:xfrm>
          <a:prstGeom prst="roundRect">
            <a:avLst>
              <a:gd name="adj" fmla="val 356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1960" y="1503360"/>
            <a:ext cx="100728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O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93000" y="1503360"/>
            <a:ext cx="7117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VER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73720" y="1503360"/>
            <a:ext cx="147816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MILIEU ORI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81600" y="1503360"/>
            <a:ext cx="196128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MILIEU DESTINAT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2560" y="1838160"/>
            <a:ext cx="8382240" cy="1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3760" y="1884240"/>
            <a:ext cx="7466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p (éle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25560" y="1380960"/>
            <a:ext cx="1800" cy="4800600"/>
          </a:xfrm>
          <a:prstGeom prst="line">
            <a:avLst/>
          </a:prstGeom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87720" y="1860480"/>
            <a:ext cx="106200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Transmett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80440" y="1860480"/>
            <a:ext cx="6231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Bor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23640" y="1860480"/>
            <a:ext cx="3945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F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59280" y="1380960"/>
            <a:ext cx="1440" cy="48006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3880" y="1380960"/>
            <a:ext cx="1440" cy="48006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193120" y="2189160"/>
            <a:ext cx="1092600" cy="996480"/>
          </a:xfrm>
          <a:prstGeom prst="roundRect">
            <a:avLst>
              <a:gd name="adj" fmla="val 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ure cour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nsité +/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nsion +/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uré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630320" y="2189160"/>
            <a:ext cx="967680" cy="1179000"/>
          </a:xfrm>
          <a:custGeom>
            <a:avLst/>
            <a:gdLst>
              <a:gd name="textAreaLeft" fmla="*/ 360 w 967680"/>
              <a:gd name="textAreaRight" fmla="*/ 967320 w 967680"/>
              <a:gd name="textAreaTop" fmla="*/ 360 h 1179000"/>
              <a:gd name="textAreaBottom" fmla="*/ 1178640 h 1179000"/>
            </a:gdLst>
            <a:ahLst/>
            <a:rect l="textAreaLeft" t="textAreaTop" r="textAreaRight" b="textAreaBottom"/>
            <a:pathLst>
              <a:path w="21600" h="26315">
                <a:moveTo>
                  <a:pt x="35" y="0"/>
                </a:moveTo>
                <a:arcTo wR="35" hR="35" stAng="16200000" swAng="-5400000"/>
                <a:lnTo>
                  <a:pt x="0" y="26280"/>
                </a:lnTo>
                <a:arcTo wR="35" hR="35" stAng="10800000" swAng="-5400000"/>
                <a:lnTo>
                  <a:pt x="21565" y="26315"/>
                </a:lnTo>
                <a:arcTo wR="35" hR="35" stAng="5400000" swAng="-5400000"/>
                <a:lnTo>
                  <a:pt x="21600" y="35"/>
                </a:lnTo>
                <a:arcTo wR="35" hR="3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urniss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amètre +/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icité +/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tiè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nsité +/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nsion +/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5160" y="1393920"/>
            <a:ext cx="8356680" cy="4775040"/>
          </a:xfrm>
          <a:prstGeom prst="roundRect">
            <a:avLst>
              <a:gd name="adj" fmla="val 32"/>
            </a:avLst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2560" y="2143080"/>
            <a:ext cx="8382240" cy="180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297560" y="2189160"/>
            <a:ext cx="1053000" cy="1179000"/>
          </a:xfrm>
          <a:custGeom>
            <a:avLst/>
            <a:gdLst>
              <a:gd name="textAreaLeft" fmla="*/ 360 w 1053000"/>
              <a:gd name="textAreaRight" fmla="*/ 1052640 w 1053000"/>
              <a:gd name="textAreaTop" fmla="*/ 360 h 1179000"/>
              <a:gd name="textAreaBottom" fmla="*/ 1178640 h 1179000"/>
            </a:gdLst>
            <a:ahLst/>
            <a:rect l="textAreaLeft" t="textAreaTop" r="textAreaRight" b="textAreaBottom"/>
            <a:pathLst>
              <a:path w="21600" h="24184">
                <a:moveTo>
                  <a:pt x="32" y="0"/>
                </a:moveTo>
                <a:arcTo wR="32" hR="32" stAng="16200000" swAng="-5400000"/>
                <a:lnTo>
                  <a:pt x="0" y="24152"/>
                </a:lnTo>
                <a:arcTo wR="32" hR="32" stAng="10800000" swAng="-5400000"/>
                <a:lnTo>
                  <a:pt x="21568" y="24184"/>
                </a:lnTo>
                <a:arcTo wR="32" hR="32" stAng="5400000" swAng="-5400000"/>
                <a:lnTo>
                  <a:pt x="21600" y="32"/>
                </a:lnTo>
                <a:arcTo wR="32" hR="3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urniss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tiè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amèt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ésistance +/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2560" y="3362400"/>
            <a:ext cx="8382240" cy="14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44120" y="3408480"/>
            <a:ext cx="4219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c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340360" y="3384720"/>
            <a:ext cx="76320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Rés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48600" y="3384720"/>
            <a:ext cx="12801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Environn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2560" y="3666960"/>
            <a:ext cx="8382240" cy="1800"/>
          </a:xfrm>
          <a:prstGeom prst="line">
            <a:avLst/>
          </a:prstGeom>
          <a:ln w="1260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40120" y="3637080"/>
            <a:ext cx="1598400" cy="996480"/>
          </a:xfrm>
          <a:prstGeom prst="roundRect">
            <a:avLst>
              <a:gd name="adj" fmla="val 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ir 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ir hum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apeurs hydrocarb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jection 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mpé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2560" y="4581360"/>
            <a:ext cx="8382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44120" y="4627440"/>
            <a:ext cx="4219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186640" y="4603680"/>
            <a:ext cx="86400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Autori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213320" y="4603680"/>
            <a:ext cx="124344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Mainten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2560" y="4886280"/>
            <a:ext cx="8382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343600" y="4856040"/>
            <a:ext cx="97200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mb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cessibil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2560" y="5267160"/>
            <a:ext cx="8382240" cy="180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43040" y="5313240"/>
            <a:ext cx="8395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b (méc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17160" y="5541840"/>
            <a:ext cx="1368360" cy="631440"/>
          </a:xfrm>
          <a:prstGeom prst="roundRect">
            <a:avLst>
              <a:gd name="adj" fmla="val 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nsion serrage +/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sitionn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ésistance 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04120" y="3637080"/>
            <a:ext cx="65196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s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61880" y="5289480"/>
            <a:ext cx="90360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Mainten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2560" y="5572080"/>
            <a:ext cx="8305920" cy="180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03760" y="5289480"/>
            <a:ext cx="6141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Co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447320" y="5289480"/>
            <a:ext cx="6231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Bor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994800" y="4856040"/>
            <a:ext cx="144900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ngement batter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07000" y="5618160"/>
            <a:ext cx="82728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éométr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73160" y="5618160"/>
            <a:ext cx="82872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éométr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ib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816360" y="1606680"/>
            <a:ext cx="1054080" cy="4635360"/>
          </a:xfrm>
          <a:custGeom>
            <a:avLst/>
            <a:gdLst>
              <a:gd name="textAreaLeft" fmla="*/ 360 w 1054080"/>
              <a:gd name="textAreaRight" fmla="*/ 1053720 w 1054080"/>
              <a:gd name="textAreaTop" fmla="*/ 360 h 4635360"/>
              <a:gd name="textAreaBottom" fmla="*/ 4635000 h 4635360"/>
            </a:gdLst>
            <a:ahLst/>
            <a:rect l="textAreaLeft" t="textAreaTop" r="textAreaRight" b="textAreaBottom"/>
            <a:pathLst>
              <a:path w="21600" h="94962">
                <a:moveTo>
                  <a:pt x="32" y="0"/>
                </a:moveTo>
                <a:arcTo wR="32" hR="32" stAng="16200000" swAng="-5400000"/>
                <a:lnTo>
                  <a:pt x="0" y="94930"/>
                </a:lnTo>
                <a:arcTo wR="32" hR="32" stAng="10800000" swAng="-5400000"/>
                <a:lnTo>
                  <a:pt x="21568" y="94962"/>
                </a:lnTo>
                <a:arcTo wR="32" hR="32" stAng="5400000" swAng="-5400000"/>
                <a:lnTo>
                  <a:pt x="21600" y="32"/>
                </a:lnTo>
                <a:arcTo wR="32" hR="32" stAng="0" swAng="-5400000"/>
                <a:close/>
              </a:path>
            </a:pathLst>
          </a:cu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49480" y="1606680"/>
            <a:ext cx="1054080" cy="4635360"/>
          </a:xfrm>
          <a:custGeom>
            <a:avLst/>
            <a:gdLst>
              <a:gd name="textAreaLeft" fmla="*/ 360 w 1054080"/>
              <a:gd name="textAreaRight" fmla="*/ 1053720 w 1054080"/>
              <a:gd name="textAreaTop" fmla="*/ 360 h 4635360"/>
              <a:gd name="textAreaBottom" fmla="*/ 4635000 h 4635360"/>
            </a:gdLst>
            <a:ahLst/>
            <a:rect l="textAreaLeft" t="textAreaTop" r="textAreaRight" b="textAreaBottom"/>
            <a:pathLst>
              <a:path w="21600" h="94962">
                <a:moveTo>
                  <a:pt x="32" y="0"/>
                </a:moveTo>
                <a:arcTo wR="32" hR="32" stAng="16200000" swAng="-5400000"/>
                <a:lnTo>
                  <a:pt x="0" y="94930"/>
                </a:lnTo>
                <a:arcTo wR="32" hR="32" stAng="10800000" swAng="-5400000"/>
                <a:lnTo>
                  <a:pt x="21568" y="94962"/>
                </a:lnTo>
                <a:arcTo wR="32" hR="32" stAng="5400000" swAng="-5400000"/>
                <a:lnTo>
                  <a:pt x="21600" y="32"/>
                </a:lnTo>
                <a:arcTo wR="32" hR="32" stAng="0" swAng="-5400000"/>
                <a:close/>
              </a:path>
            </a:pathLst>
          </a:custGeom>
          <a:solidFill>
            <a:srgbClr val="c8fec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16160" y="1606680"/>
            <a:ext cx="1282680" cy="4635360"/>
          </a:xfrm>
          <a:custGeom>
            <a:avLst/>
            <a:gdLst>
              <a:gd name="textAreaLeft" fmla="*/ 360 w 1282680"/>
              <a:gd name="textAreaRight" fmla="*/ 1282320 w 1282680"/>
              <a:gd name="textAreaTop" fmla="*/ 360 h 4635360"/>
              <a:gd name="textAreaBottom" fmla="*/ 4635000 h 4635360"/>
            </a:gdLst>
            <a:ahLst/>
            <a:rect l="textAreaLeft" t="textAreaTop" r="textAreaRight" b="textAreaBottom"/>
            <a:pathLst>
              <a:path w="21600" h="78042">
                <a:moveTo>
                  <a:pt x="26" y="0"/>
                </a:moveTo>
                <a:arcTo wR="26" hR="26" stAng="16200000" swAng="-5400000"/>
                <a:lnTo>
                  <a:pt x="0" y="78016"/>
                </a:lnTo>
                <a:arcTo wR="26" hR="26" stAng="10800000" swAng="-5400000"/>
                <a:lnTo>
                  <a:pt x="21574" y="78042"/>
                </a:lnTo>
                <a:arcTo wR="26" hR="26" stAng="5400000" swAng="-5400000"/>
                <a:lnTo>
                  <a:pt x="21600" y="26"/>
                </a:lnTo>
                <a:arcTo wR="26" hR="26" stAng="0" swAng="-5400000"/>
                <a:close/>
              </a:path>
            </a:pathLst>
          </a:cu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95120"/>
            <a:ext cx="7772400" cy="98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Grille AMDEC</a:t>
            </a:r>
            <a:br>
              <a:rPr sz="3200"/>
            </a:br>
            <a:r>
              <a:rPr b="1" lang="en-GB" sz="2800" spc="-1" strike="noStrike">
                <a:solidFill>
                  <a:srgbClr val="500093"/>
                </a:solidFill>
                <a:latin typeface="Arial"/>
              </a:rPr>
              <a:t>Batteri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17520" y="1612800"/>
            <a:ext cx="8432640" cy="4622760"/>
          </a:xfrm>
          <a:prstGeom prst="roundRect">
            <a:avLst>
              <a:gd name="adj" fmla="val 32"/>
            </a:avLst>
          </a:prstGeom>
          <a:noFill/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6200" y="1698480"/>
            <a:ext cx="8607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Fo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53600" y="1698480"/>
            <a:ext cx="62172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89120" y="1698480"/>
            <a:ext cx="3855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N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68560" y="1698480"/>
            <a:ext cx="7221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Cau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859280" y="1698480"/>
            <a:ext cx="90972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Dét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698800" y="1698480"/>
            <a:ext cx="294120" cy="295560"/>
          </a:xfrm>
          <a:custGeom>
            <a:avLst/>
            <a:gdLst>
              <a:gd name="textAreaLeft" fmla="*/ 360 w 294120"/>
              <a:gd name="textAreaRight" fmla="*/ 293760 w 294120"/>
              <a:gd name="textAreaTop" fmla="*/ 360 h 295560"/>
              <a:gd name="textAreaBottom" fmla="*/ 295200 h 295560"/>
            </a:gdLst>
            <a:ahLst/>
            <a:rect l="textAreaLeft" t="textAreaTop" r="textAreaRight" b="textAreaBottom"/>
            <a:pathLst>
              <a:path w="21600" h="21706">
                <a:moveTo>
                  <a:pt x="117" y="0"/>
                </a:moveTo>
                <a:arcTo wR="117" hR="117" stAng="16200000" swAng="-5400000"/>
                <a:lnTo>
                  <a:pt x="0" y="21589"/>
                </a:lnTo>
                <a:arcTo wR="117" hR="117" stAng="10800000" swAng="-5400000"/>
                <a:lnTo>
                  <a:pt x="21483" y="21706"/>
                </a:lnTo>
                <a:arcTo wR="117" hR="117" stAng="5400000" swAng="-5400000"/>
                <a:lnTo>
                  <a:pt x="21600" y="117"/>
                </a:lnTo>
                <a:arcTo wR="117" hR="117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03000" y="1698480"/>
            <a:ext cx="32436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07920" y="1698480"/>
            <a:ext cx="31392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689160" y="1698480"/>
            <a:ext cx="31392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26160" y="1622520"/>
            <a:ext cx="1020960" cy="508680"/>
          </a:xfrm>
          <a:prstGeom prst="roundRect">
            <a:avLst>
              <a:gd name="adj" fmla="val 3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Solu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correcti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43000" y="1600200"/>
            <a:ext cx="144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2133720"/>
            <a:ext cx="8458200" cy="144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26080" y="2255760"/>
            <a:ext cx="89604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n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uffis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09680" y="1600200"/>
            <a:ext cx="180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91320" y="1698480"/>
            <a:ext cx="1257120" cy="295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00093"/>
                </a:solidFill>
                <a:latin typeface="Times New Roman"/>
              </a:rPr>
              <a:t>Conséqu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94920" y="2255760"/>
            <a:ext cx="1186920" cy="631440"/>
          </a:xfrm>
          <a:prstGeom prst="roundRect">
            <a:avLst>
              <a:gd name="adj" fmla="val 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uvais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ésolida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 pa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1600200"/>
            <a:ext cx="144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00200"/>
            <a:ext cx="180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93320" y="2179800"/>
            <a:ext cx="911160" cy="8139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ce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&gt; val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&gt; pas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ein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876920" y="1600200"/>
            <a:ext cx="144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61440" y="2408400"/>
            <a:ext cx="5911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uc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15000" y="1600200"/>
            <a:ext cx="144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19920" y="1600200"/>
            <a:ext cx="144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324480" y="1600200"/>
            <a:ext cx="180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629400" y="1600200"/>
            <a:ext cx="144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86600" y="1600200"/>
            <a:ext cx="1440" cy="4648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070400" y="2179800"/>
            <a:ext cx="1659600" cy="631440"/>
          </a:xfrm>
          <a:prstGeom prst="roundRect">
            <a:avLst>
              <a:gd name="adj" fmla="val 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ndelle frein sur écr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rou frein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cumenter 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3497040" y="2971800"/>
            <a:ext cx="5273640" cy="14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489480" y="248436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793320" y="3017880"/>
            <a:ext cx="90504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urniss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&gt; 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1134720" y="3429000"/>
            <a:ext cx="7635960" cy="14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89480" y="309420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861440" y="3017880"/>
            <a:ext cx="85464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'agré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699160" y="240840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99160" y="309420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04080" y="240840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04080" y="309420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307200" y="240840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307200" y="309420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613560" y="2408400"/>
            <a:ext cx="49068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613560" y="3094200"/>
            <a:ext cx="49068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071120" y="3017880"/>
            <a:ext cx="153756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 assurance qual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z les fournisse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5880" y="2332080"/>
            <a:ext cx="36396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126800" y="3551400"/>
            <a:ext cx="81504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 fa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194920" y="3475080"/>
            <a:ext cx="1330200" cy="8139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éformation cos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intenabilité dif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c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&gt; mé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93680" y="3475080"/>
            <a:ext cx="88848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ce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&gt; val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3497040" y="3886200"/>
            <a:ext cx="5273640" cy="14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489480" y="355140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61440" y="3551400"/>
            <a:ext cx="5911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uc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070400" y="3475080"/>
            <a:ext cx="14155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cumenter 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793680" y="3932280"/>
            <a:ext cx="1072800" cy="631440"/>
          </a:xfrm>
          <a:prstGeom prst="roundRect">
            <a:avLst>
              <a:gd name="adj" fmla="val 2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urniss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&gt; matiè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 la cos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861440" y="4008600"/>
            <a:ext cx="85464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'agré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1134720" y="4572000"/>
            <a:ext cx="7635960" cy="14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489480" y="408456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70760" y="4084560"/>
            <a:ext cx="105300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oix matiè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699160" y="355140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99160" y="408456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04080" y="355140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04080" y="408456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307200" y="355140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307200" y="408456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613560" y="3551400"/>
            <a:ext cx="41436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613560" y="4084560"/>
            <a:ext cx="41436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125360" y="4694400"/>
            <a:ext cx="112608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uv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sitionn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192760" y="4618080"/>
            <a:ext cx="1306080" cy="813960"/>
          </a:xfrm>
          <a:prstGeom prst="roundRect">
            <a:avLst>
              <a:gd name="adj" fmla="val 1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uvais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isaillement bor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 très mé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 pa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93680" y="4618080"/>
            <a:ext cx="107892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ce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&gt; péné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61440" y="4694400"/>
            <a:ext cx="5911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uc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3497040" y="5105520"/>
            <a:ext cx="5273640" cy="14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069320" y="4694400"/>
            <a:ext cx="16304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nsibilisation mont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93320" y="5227560"/>
            <a:ext cx="972000" cy="4489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cessibil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&gt; fil tor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89480" y="469440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489480" y="553248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935960" y="5456160"/>
            <a:ext cx="59112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uc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069680" y="5456160"/>
            <a:ext cx="162288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ugmenter longueur f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699160" y="4694400"/>
            <a:ext cx="262080" cy="266400"/>
          </a:xfrm>
          <a:custGeom>
            <a:avLst/>
            <a:gdLst>
              <a:gd name="textAreaLeft" fmla="*/ 360 w 262080"/>
              <a:gd name="textAreaRight" fmla="*/ 261720 w 262080"/>
              <a:gd name="textAreaTop" fmla="*/ 360 h 266400"/>
              <a:gd name="textAreaBottom" fmla="*/ 266040 h 266400"/>
            </a:gdLst>
            <a:ahLst/>
            <a:rect l="textAreaLeft" t="textAreaTop" r="textAreaRight" b="textAreaBottom"/>
            <a:pathLst>
              <a:path w="21600" h="21956">
                <a:moveTo>
                  <a:pt x="131" y="0"/>
                </a:moveTo>
                <a:arcTo wR="131" hR="131" stAng="16200000" swAng="-5400000"/>
                <a:lnTo>
                  <a:pt x="0" y="21825"/>
                </a:lnTo>
                <a:arcTo wR="131" hR="131" stAng="10800000" swAng="-5400000"/>
                <a:lnTo>
                  <a:pt x="21469" y="21956"/>
                </a:lnTo>
                <a:arcTo wR="131" hR="131" stAng="5400000" swAng="-5400000"/>
                <a:lnTo>
                  <a:pt x="21600" y="131"/>
                </a:lnTo>
                <a:arcTo wR="131" hR="13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04080" y="469440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307200" y="469440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613560" y="4694400"/>
            <a:ext cx="49068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699160" y="545616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004080" y="545616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307200" y="5456160"/>
            <a:ext cx="33804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613560" y="5456160"/>
            <a:ext cx="490680" cy="2664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3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AMDEC</dc:title>
</cp:coreProperties>
</file>